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2D695-FFC2-4A37-AA46-D0F80A94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70C1B-553B-489C-90D4-94D7D4AB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3761F-9513-4C67-A814-3EA2AC6D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B4534-16FA-4574-B881-CD35B699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0416-EEA4-4D2B-ACAB-052EA25D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F893-DA19-4C8B-BCF6-35E2B616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BAC5-96CC-4126-B3FF-95C14074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87DB-95A0-4C60-A770-662C7DD6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25B4-5771-4365-A0ED-8389B409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7A26-0D49-490F-822A-52A5D316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01AD-9238-45FC-8437-53C7848A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FBC0E-1887-4383-B992-47648B1E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1B8A-E295-4C18-BF7D-94C1C6CE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6AB2-F528-4CE2-8135-08070478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23E3-BE1B-47C6-A540-CD7F9489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02BE-B5C8-4556-8C2C-2B691485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B3A8-2320-4349-A3D7-C7A5B224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2AAF0-1EE7-4640-AABB-D6961C83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5B34B-42BF-45DE-B999-D559BF70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A36F-04DB-4D16-B199-15256BA7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1468E-9E5E-45F5-B3C0-88C14D9D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3F23F-CAB0-4F95-9D3B-9A3091BC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FA55D-02D6-4362-8C0B-98A94EC1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CF0F4-3D86-4BA5-A0F4-9B3FFD59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9C6E-4AF7-4742-9FD9-5B562EDED8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A3BD-EFFF-48D4-AB80-E9AC9FD0233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. 3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8360" y="1413000"/>
          <a:ext cx="7991280" cy="41274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sobním prodej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roky v osobním prodeji, personální řízení osobního prode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2349000"/>
            <a:ext cx="7239240" cy="19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 u="sng">
                <a:solidFill>
                  <a:srgbClr val="000000"/>
                </a:solidFill>
                <a:uFillTx/>
                <a:latin typeface="Garamond"/>
              </a:rPr>
              <a:t>Osobní prodej</a:t>
            </a:r>
            <a:br>
              <a:rPr sz="6600"/>
            </a:br>
            <a:endParaRPr b="1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aramond"/>
              </a:rPr>
              <a:t>jde o osobní formu komunikace s jedním nebo více zákazníky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6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aramond"/>
              </a:rPr>
              <a:t>cíl: dosažení prodeje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00ff"/>
                </a:solidFill>
                <a:latin typeface="Garamond"/>
              </a:rPr>
              <a:t>Jaké funkce  mají osobní prodejci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00"/>
                </a:solidFill>
                <a:uFillTx/>
                <a:latin typeface="Garamond"/>
              </a:rPr>
              <a:t>Pracovníci, kteří provádějí osobní prodej, mají tyto funkce: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ovlivňují kupujícího v procesu rozhodování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zprostředkovávají informa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poskytují servis, zajišťují dodání zboží, 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6600ff"/>
                </a:solidFill>
                <a:latin typeface="Garamond"/>
              </a:rPr>
              <a:t>Jaké vlastnosti by měl mít pracovník v osobním prodeji?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00"/>
                </a:solidFill>
                <a:uFillTx/>
                <a:latin typeface="Garamond"/>
              </a:rPr>
              <a:t>Požadavky na pracovníky v osobním prodeji: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schopnost vcítění se do myšlení zákazníků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nadšení a důvěra ve výrobe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pružnost, schopnost adaptovat se na požadavky zákazníků, komunikační schopnosti, dobrá organizace času,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Garamond"/>
              </a:rPr>
              <a:t>Kroky v osobním prodeji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průzkum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prodejce hledá vhodné potenciální zákazníky, na které se pak zaměří. Zdroje informací: dopisy, telefonáty, informace od prodejců, databáze zákazníků,…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kontakt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na základě průzkumu se prodejce musí rozhodnout, jak zákazníky kontaktovat. Nejčastější postup – úvodní dopis, telefonát, osobní schůzka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prezentace 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– prodejce sděluje zákazníkovi potřebné informace o výrobku včetně jeho předvedení. Zdůrazňuje při tom vlastnosti výrobku, které jsou pro zákazníka nejdůležitější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řešení připomínek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odpovědi na otázky zákazníka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závěr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dohoda o všech náležitostech kupní smlouvy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další kontakt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nezbytný pro plné uspokojení zákazníka, jde o poskytování služeb spojených s užíváním. Tím roste spokojenost zákazníka a roste image firmy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6600ff"/>
                </a:solidFill>
                <a:latin typeface="Garamond"/>
              </a:rPr>
              <a:t>Máte nějaké zkušenosti s osobním prodejem? 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6600ff"/>
                </a:solidFill>
                <a:latin typeface="Garamond"/>
              </a:rPr>
              <a:t>U jakých výrobků se s tímto způsobem prodeje můžeme setkat?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aramond"/>
              </a:rPr>
              <a:t>Personální řízení osobního prodeje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000000"/>
                </a:solidFill>
                <a:latin typeface="Garamond"/>
              </a:rPr>
              <a:t>Výběr osob</a:t>
            </a:r>
            <a:r>
              <a:rPr b="0" lang="cs-CZ" sz="2300" spc="-1" strike="noStrike">
                <a:solidFill>
                  <a:srgbClr val="000000"/>
                </a:solidFill>
                <a:latin typeface="Garamond"/>
              </a:rPr>
              <a:t> – z odpovědí na inzeráty, z Úřadu práce, studenti končící školu,…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kritéria pro výběr: dotazník a životopis, ústní pohovor, písemné testy. Kritéria vychází z požadavků na osobního prodejce (komunikativnost, schopnost organizovat čas, řešit problémy, kreativita,…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000000"/>
                </a:solidFill>
                <a:latin typeface="Garamond"/>
              </a:rPr>
              <a:t>Příprava</a:t>
            </a:r>
            <a:r>
              <a:rPr b="0" lang="cs-CZ" sz="2300" spc="-1" strike="noStrike">
                <a:solidFill>
                  <a:srgbClr val="000000"/>
                </a:solidFill>
                <a:latin typeface="Garamond"/>
              </a:rPr>
              <a:t> – má splnit tyto úkoly: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firmy a její histori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výrobků firm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konkurenčních výrobků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trhu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Garamond"/>
              </a:rPr>
              <a:t>V přípravě by se měl prodejce naučit zvládnout celý proces osobního prodeje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Motivace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Morální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Finanční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Výhody – služební auto, mobil,…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Soutěže mezi prodejc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ff"/>
                </a:solidFill>
                <a:latin typeface="Garamond"/>
              </a:rPr>
              <a:t>Pokud byste byli osobní prodejci, jaké motivační faktory by pro Vás byly nejsilnější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Vyhodnocení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základem jsou prodejní kvóty – ty se stanovují na základě konkrétních podmínek, ve kterých prodejce působí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alší podklady – zprávy ze služebních cest, informace od zákazníků,…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Prodejci by měli znát kritéria, podle kterých budou hodnocen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7:04:56Z</dcterms:created>
  <dc:creator>Guest</dc:creator>
  <dc:description/>
  <dc:language>en-US</dc:language>
  <cp:lastModifiedBy>Igor</cp:lastModifiedBy>
  <dcterms:modified xsi:type="dcterms:W3CDTF">2014-09-13T15:05:50Z</dcterms:modified>
  <cp:revision>13</cp:revision>
  <dc:subject/>
  <dc:title>Osobní prodej</dc:title>
</cp:coreProperties>
</file>