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B397-6325-4458-82E6-3AE5B3CF3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0C0A-354A-492C-9212-302AE9D58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60DB-5D6D-4BD6-A105-528B54A62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24A8-8720-4C6A-A5C7-2B622A840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596B0-A402-4CA2-95A4-923B167B9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44E4D-795F-4701-9B80-0FF3C225F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97A4A-DEAA-42F8-98EB-E7ECF1ED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4CD93-D592-42CD-AAC2-14CD54C74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4E698-6AF3-4250-847F-E5BB69662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BA49C-F9E9-4584-9404-10A5D024D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9E860-A1C3-4861-8A53-DCBD0860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0C16-2E3E-4546-AD45-8BFFBA929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74C7F-3166-47CC-96C6-6799D877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5652C-BD37-4A22-89F4-3B06F769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DA881-00B3-4AC7-8B20-8D5A7F2BA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18F8B-BE72-40E3-955D-B4B7B1D4A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5EBCB-B80D-4EA2-96FF-27493527D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4319-5003-4C54-8A54-BF0A96689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37B0-B049-478D-B6FA-8D0AC5A9E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5EC8-A655-4785-9AD8-494B736A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528D-C5C0-4E25-BA88-59405FFE8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447D-1960-4712-859A-CAEFEB81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0A3D-50F9-4A21-98ED-D4C7B9FD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B062-D187-4F08-A995-32A86D8C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110045"/>
                </a:gs>
                <a:gs pos="100000">
                  <a:srgbClr val="1a00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3e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140052"/>
                </a:gs>
                <a:gs pos="100000">
                  <a:srgbClr val="1a00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5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808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38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110048"/>
                </a:gs>
                <a:gs pos="100000">
                  <a:srgbClr val="1a00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f0f6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2f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34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5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1717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10048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12004b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41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3e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56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32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6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5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3b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50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a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1717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EE02A-9EF4-4C92-B914-9C45F2B7CC3B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110045"/>
                </a:gs>
                <a:gs pos="100000">
                  <a:srgbClr val="1a00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3e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140052"/>
                </a:gs>
                <a:gs pos="100000">
                  <a:srgbClr val="1a00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5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808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38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110048"/>
                </a:gs>
                <a:gs pos="100000">
                  <a:srgbClr val="1a00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f0f6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2f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34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5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1717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10048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12004b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41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3e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56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32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6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5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3b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50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a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1717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0FE7F-DFCC-4399-B2E2-F443D964D934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Výukový materiál zpracován v rámci projektu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EU peníze školá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Registrační číslo projektu: CZ.1.07/1.5.00/34.020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4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Y_32_INOVACE_2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. 3. 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1741320" y="27792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7" name=""/>
          <p:cNvGraphicFramePr/>
          <p:nvPr/>
        </p:nvGraphicFramePr>
        <p:xfrm>
          <a:off x="468360" y="1413000"/>
          <a:ext cx="7991280" cy="540864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dnikání a podnikové činnost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ingový mi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ing a manage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zentace k seznámení studentů s podporou prodeje a jejími nástroj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zorky, cenové stimuly, prémie, kupony, vystavení zboží, soutěže a loterie, dárky, věrnostní prémie, společná reklam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 u="sng">
                <a:solidFill>
                  <a:srgbClr val="ccccff"/>
                </a:solidFill>
                <a:uFillTx/>
                <a:latin typeface="Arial"/>
              </a:rPr>
              <a:t>Podpora prodeje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83516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cíl: stimulovat prodej výrobků a služeb prostřednictvím dodatečných podnětů, je zaměřená n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konečné spotřebite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distribuční člán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cccc"/>
                </a:solidFill>
                <a:latin typeface="Arial"/>
              </a:rPr>
              <a:t>Jaké znáte nástroje podpory prodeje u konečných spotřebitel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ccff"/>
                </a:solidFill>
                <a:latin typeface="Arial"/>
              </a:rPr>
              <a:t>Nástroje podpory prodeje spotřebitelům</a:t>
            </a:r>
            <a:endParaRPr b="0" lang="en-US" sz="4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Vzork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zákazník dostává zdarma, a to prostřednictvím pošty, v časopisech, v obchodech, jako součást jiného výrobku,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Cenové stimul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cenově výhodná balení, akce 2+1 zdar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Prémie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zvyšují atraktivnost výrobku, např. vkládání drobných hraček do obalu, kupony na obalu, drobný dárek při nákup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68000" y="691920"/>
            <a:ext cx="828036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Kupon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poukázky, které umožňují zákazníkům získat při nákupu určitého zboží výhodu – slevu, dárek,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Vystavení zbož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u pokladen, na konci regálů, upoutání pozornosti zákazníků plakátem, neobvyklým dekorativním předmětem,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Soutěže a loterie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soutěže – zákazníci odpovídají na určitou otázku a při úspěšné odpovědi mohou vyhrát cenu, loterie – slosování s možností výh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Dárky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– reklamní dárky jsou předměty se jménem firmy, které zákazník dostává zdarma (propisky, tašky, trička,…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Věrnostní prémie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forma peněžité nebo nepeněžité odměny, kterou získává stálý zákazní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cccc"/>
                </a:solidFill>
                <a:latin typeface="Arial"/>
              </a:rPr>
              <a:t>S jakými nástroji podpory prodeje jste se setkali a u jakých výrobků to byl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ccff"/>
                </a:solidFill>
                <a:latin typeface="Arial"/>
              </a:rPr>
              <a:t>Nástroje podpory prodeje v distribuční síti </a:t>
            </a:r>
            <a:endParaRPr b="0" lang="en-US" sz="4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Společná reklama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na základě vzájemné dohody poskytne výrobce prostředky a informace k reklamě a právo prodeje jeho výrobků v MO. Maloobchodník odebere výrobky a jejich prodej podporuje. Výrobce maloobchodníkovi část nákladů na reklamu uhradí nebo poskytne funkční slev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Obchodní slev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obchodníkům, kteří nakoupí větší množství, zboží vystaví na výhodném místě, ap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Veletrhy a výstav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umožňují výrobky předvést, poskytnout informace, zodpovědět otázky, porovnávat s konkurencí, získat informace o konkurenci,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53964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ŠVARCOVÁ, J. </a:t>
            </a: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Ekonomie – stručný přehled,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ydání</a:t>
            </a: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o rok</a:t>
            </a: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2012/2013 Zlín : Nakladatelství a vydavatelství Ing. Jena Švarcová, Ph. D., CEED, 2012. ISBN 987-80-87301-16-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VĚTLÍK, J. </a:t>
            </a: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Marketing – cesta k trh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, Zlín: EKKA, 1994. ISBN 80-900015-8-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6:52Z</dcterms:created>
  <dc:creator>Guest</dc:creator>
  <dc:description/>
  <dc:language>en-US</dc:language>
  <cp:lastModifiedBy>Igor</cp:lastModifiedBy>
  <dcterms:modified xsi:type="dcterms:W3CDTF">2014-09-13T15:08:17Z</dcterms:modified>
  <cp:revision>15</cp:revision>
  <dc:subject/>
  <dc:title>Podpora prodeje</dc:title>
</cp:coreProperties>
</file>