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3A0-6113-4231-A9B2-8B340C36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284-9F05-496B-9B96-ECC54DE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E35-B17C-4C5D-BA4E-4C08E446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3E3-1216-4F43-AFE1-33586614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0B0-62A3-434E-8A9E-A9F7B4BF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214C-AAC9-4146-9FFE-B4EBE1CA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2B24-A5DB-4FCA-A500-154BA621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2D47-DF3A-4279-9CA8-D150AACD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DA3E-B67F-4331-BEB7-872C886D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D195-3DAF-4574-9B9F-0F752C5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0B05-A566-4454-B5BE-6C1AD254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638-6F8C-4A56-849F-E4C78A73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49FE-6CE8-4146-8A34-75149D2C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88B9-A2CA-49D2-9355-E6CC2FF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4A84-D9FE-4870-8703-EAFDD713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E6C2-512E-4C2C-8F15-8B652281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5317-E203-4DF2-AD56-9A21A972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009-6CE6-4081-B1FF-ACF5D067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6C0-00FB-4DD4-B08E-2C2B79F6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227-31D5-406D-81E3-EB29609A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DA3-1375-45D7-8E4B-F9DE8ACD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749-DC76-4392-9A4D-FE2BB983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6BB-937C-4735-8E6B-44D582AC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10A-52C4-4A40-AF2F-3129666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2A5E-6A94-4F14-94D5-5930EA7C013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492-C47D-4E93-BD01-06F256D699C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ů rekla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informativn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esvědčov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ipomín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zdola – pomocí kalku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shora – určení celkové částky na reklamu, tato částka se pak rozpočítá na jednotlivé projek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eklamního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lastnosti sděle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čel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ůvěryhod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sti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tvorbě reklamního sdělení je třeba správně zvolit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logany by měly být snadno zapamatovatelné)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rm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harmonogram – kdy bude reklama zveřejň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méd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Jaká znáte reklamní mé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Která z nich na vás působí nejvíce a pro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klamní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 z nejmladších, nejsledovanější a vysoce účinné mé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nutné věnovat pozornost typu programu, jeho sledovanosti a struktuře div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je závislá na času vysílání a sledovanosti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Zhodnoťte výhody a nevýhody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televize je vizuální médium – vhodné pro demonstraci výrob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působí na zrak i sl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široké pokrytí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elká část diváků při reklamě přepíná na jiný program nebo odchází od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informační zm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ysok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stanice má svůj okruh posluchačů – proto je důležitá správná volba stanice a doby vysíl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vidíte výhody a nevýhody rozhlasu jako reklamního mé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relativně nižší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elká sled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žnost demografického i geografického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ůsobí jen na sl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xteriérová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emní štíty, billboardy, poutače, reklamy na dopravních prostředcích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duchý, snadno zapamatovatelný text doplněný atraktivní fotografií, obráz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jsou výhody a nevýhody jednotlivých exteriérových médi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ohotový nástroj rekl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ízk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ysok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skytují málo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je obtížné provést segmentaci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ěkteří lidé je zcela odmítají (např. kvůli ekologii, bezpečnosti na silnicích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černobílém provedení, na levnějším novinovém papíře, jsou většinou vydávány den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reklamy je závislá na popularitě novin, počtu výtisků, na velikosti a umístění reklamy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široký do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eobvyklé velikosti reklamy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lidé čtou noviny rychle a pak je vyha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přehlednost reklam v případě, že jich je na stránce mn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rší kvalita fotografií a t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91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určeny pro volný čas, lidé je čtou pomal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ou mít všeobecné nebo úzce specializované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lepší tisk i kvalita papíru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hou být využívány pro distribuci nástrojů podpory prodeje (např. vzor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dobrý image časopisu může působit na image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ší náklady vzhledem k novin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Vymyslete příklad reklamy, kterou byste otiskli v novinách a příklad reklamy, kterou by bylo vhodné otisknout v časop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ublic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: vytvoření příznivých představ o firmě na veřej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y: - důvěryhodnost, nižší náklady, delší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ubli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,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ý mluv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é materi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ční z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nzo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 publicity vytváří tz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rporativní identitu podni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vytvářena např. firemním logem, nápisy, vizitkami zaměstnanců, firemními uniformami,… Při jejich zhlédnutí jsou vyvolány asociace spojené s firmou. Jde o snahu podniku se jednotně prezentovat na veřej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mý marketing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komunikace se zákazníky zaměřená na prodej zboží a založený na rekla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římého marketin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dej pošto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skutečňuje se na základě zaslané nabídky, obsahuje všechny údaje k uskutečnění prodeje, výhodou je přesné zacílení. Forma – obálka s jednoduchým nabídkovým listem, brožurou, katalogem, videokazetou, disketou a s objedn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vize a rozhla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ysílání  reklamy s uvedením podmínek pro nákup zboží (nejčastěji potřeby pro domácnost, CD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market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jde o využívání telefonu. Výhodou je osobní kontakt, možnost zodpovědět otázky, přesvědčování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Nakupovali jste už někdy prostřednictvím přímého marketing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Jaký výrobek to by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413000"/>
          <a:ext cx="8229600" cy="53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seznámení studentů s marketingovou komunikací a nástroji propagace, s reklamou a reklamními médii, publicitou a přímým marketin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, komunikační model, reklama, publicita, přímý marke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ag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Co je to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V čem je podle vás podstata marketingové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munikace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formování konečných spotřebitelů, odběratelů, veřejnosti,… o existenci podniku a o jeho výrob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stata marketingové komun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řenos sdělení mezi zdrojem a příjemcem. Charakter sdělení závis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mě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ákladní model komunikačního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360360" y="333360"/>
            <a:ext cx="8388360" cy="6524640"/>
            <a:chOff x="360360" y="333360"/>
            <a:chExt cx="8388360" cy="6524640"/>
          </a:xfrm>
        </p:grpSpPr>
        <p:sp>
          <p:nvSpPr>
            <p:cNvPr id="110" name="AutoShape 32"/>
            <p:cNvSpPr/>
            <p:nvPr/>
          </p:nvSpPr>
          <p:spPr>
            <a:xfrm>
              <a:off x="360360" y="333360"/>
              <a:ext cx="838836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3"/>
            <p:cNvSpPr/>
            <p:nvPr/>
          </p:nvSpPr>
          <p:spPr>
            <a:xfrm>
              <a:off x="528120" y="337788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dro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4"/>
            <p:cNvSpPr/>
            <p:nvPr/>
          </p:nvSpPr>
          <p:spPr>
            <a:xfrm>
              <a:off x="7238880" y="3369240"/>
              <a:ext cx="1509840" cy="641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íjem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86364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Sděl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6"/>
            <p:cNvSpPr/>
            <p:nvPr/>
          </p:nvSpPr>
          <p:spPr>
            <a:xfrm>
              <a:off x="254124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a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7"/>
            <p:cNvSpPr/>
            <p:nvPr/>
          </p:nvSpPr>
          <p:spPr>
            <a:xfrm>
              <a:off x="472212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e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39972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De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9"/>
            <p:cNvSpPr/>
            <p:nvPr/>
          </p:nvSpPr>
          <p:spPr>
            <a:xfrm>
              <a:off x="3883320" y="3377880"/>
              <a:ext cx="1342080" cy="869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Šu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0"/>
            <p:cNvSpPr/>
            <p:nvPr/>
          </p:nvSpPr>
          <p:spPr>
            <a:xfrm>
              <a:off x="3547800" y="5326560"/>
              <a:ext cx="2180880" cy="859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pětná vaz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 flipV="1">
              <a:off x="1199160" y="2508120"/>
              <a:ext cx="33552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>
              <a:off x="2205720" y="229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3"/>
            <p:cNvSpPr/>
            <p:nvPr/>
          </p:nvSpPr>
          <p:spPr>
            <a:xfrm>
              <a:off x="2205720" y="2073240"/>
              <a:ext cx="33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4"/>
            <p:cNvSpPr/>
            <p:nvPr/>
          </p:nvSpPr>
          <p:spPr>
            <a:xfrm>
              <a:off x="43866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>
              <a:off x="60642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6"/>
            <p:cNvSpPr/>
            <p:nvPr/>
          </p:nvSpPr>
          <p:spPr>
            <a:xfrm>
              <a:off x="7238880" y="2508120"/>
              <a:ext cx="6710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 flipH="1">
              <a:off x="5728680" y="4030560"/>
              <a:ext cx="218088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8"/>
            <p:cNvSpPr/>
            <p:nvPr/>
          </p:nvSpPr>
          <p:spPr>
            <a:xfrm flipH="1" flipV="1">
              <a:off x="1199160" y="4030200"/>
              <a:ext cx="234864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 flipH="1">
              <a:off x="18702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0"/>
            <p:cNvSpPr/>
            <p:nvPr/>
          </p:nvSpPr>
          <p:spPr>
            <a:xfrm flipH="1" flipV="1">
              <a:off x="1870200" y="2508120"/>
              <a:ext cx="218088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1"/>
            <p:cNvSpPr/>
            <p:nvPr/>
          </p:nvSpPr>
          <p:spPr>
            <a:xfrm flipV="1">
              <a:off x="421884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2"/>
            <p:cNvSpPr/>
            <p:nvPr/>
          </p:nvSpPr>
          <p:spPr>
            <a:xfrm flipV="1">
              <a:off x="488988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3"/>
            <p:cNvSpPr/>
            <p:nvPr/>
          </p:nvSpPr>
          <p:spPr>
            <a:xfrm flipV="1">
              <a:off x="5057640" y="2508120"/>
              <a:ext cx="15098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52254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505764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455436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405108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innost sdě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inné s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á vyjadřovat cíle podniku a informace, která je sdělována, by měla mít na příjemce očekávaný efe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způsoby lze zvýšit účinnost sděle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argumenty můžeme působit na příjem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 příjemce lze působ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ra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emo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mor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Arial"/>
              </a:rPr>
              <a:t>Nástroje propag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Rekla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lacená forma neosobní, masové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: informování spotřebitelů a ovlivnění jejich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ma, která se rozhodne pro reklamu, by měla zpracovat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04:14Z</dcterms:created>
  <dc:creator>kabek</dc:creator>
  <dc:description/>
  <dc:language>en-US</dc:language>
  <cp:lastModifiedBy>Igor</cp:lastModifiedBy>
  <dcterms:modified xsi:type="dcterms:W3CDTF">2014-09-13T15:03:52Z</dcterms:modified>
  <cp:revision>28</cp:revision>
  <dc:subject/>
  <dc:title>Propagace</dc:title>
</cp:coreProperties>
</file>