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EFE9-B39E-4B67-9359-E9636CEE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F788-CFC4-4355-8BBC-9151018B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6FD9-4DE5-4BB8-B21A-49B399D7F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8F25-92D6-40EE-B55E-D0012CCD9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C415-F549-48CF-B2FD-3A86DA7E5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4A26-0DBF-441C-BCF9-BC106F4A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E62E-5A3F-4AD1-9DBF-B06CB4EF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05B2-3B2F-42AF-BF0A-4EE9E261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7E5C-6371-4C84-A428-814A5FA2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8710-BA11-486D-BD1E-8869125C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9EC5-57C1-4FFC-B616-5C5ADB22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AF2D-EAA2-4E4C-919B-F9FA09FB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850E-DDAF-4AE3-9621-909B15AF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5F96-FDB1-4327-8EBB-5CBABDC1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AAD9-3C0D-488D-A73A-8C01C1DA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4872-BF8D-40F8-895C-565C175B2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68D9-7718-4FAA-883D-05AB1D773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4C03-60D2-48EE-86B5-F306A270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77A8-8F9D-431C-BF42-76C6C907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4FEA-5953-41F6-9C44-343558BF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D2A5-8DCC-493F-BDE3-79EEA5B9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51A1-18F1-4F3D-AEE1-E1D5B92C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21C0-1901-405D-92B1-459206CD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125E-A52C-43B8-8DD3-813BC3A9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1F3F-CB3F-4305-90FF-E595D0B99F8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2155-EC1F-4908-9715-A66283FFAE3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Výukový materiál zpracován v rámci projektu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EU peníze školá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Registrační číslo projektu: CZ.1.07/1.5.00/34.0208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39640" y="3573360"/>
          <a:ext cx="7704360" cy="736560"/>
        </p:xfrm>
        <a:graphic>
          <a:graphicData uri="http://schemas.openxmlformats.org/drawingml/2006/table">
            <a:tbl>
              <a:tblPr/>
              <a:tblGrid>
                <a:gridCol w="1656000"/>
                <a:gridCol w="936360"/>
                <a:gridCol w="1944720"/>
                <a:gridCol w="316728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Y_32_INOVACE_2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2.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4400" y="112500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Charakteristika optimálního prostředníka z hlediska výrobc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á přístup k cílovému trh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udržuje optimální stav zásob výrobk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uskutečňuje vlastní stimulaci, která je v souladu se stimulací výrob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skytuje zákazníkům služby na odpovídající úrov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za dodané výrobky platí řádně a vč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cc"/>
                </a:solidFill>
                <a:latin typeface="Arial"/>
              </a:rPr>
              <a:t>Intenzita prodeje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 u="sng">
                <a:solidFill>
                  <a:srgbClr val="000000"/>
                </a:solidFill>
                <a:uFillTx/>
                <a:latin typeface="Verdana"/>
              </a:rPr>
              <a:t>Intenzita prodeje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= počet jednotlivých samostatných článků na prodejní cestě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Verdana"/>
              </a:rPr>
              <a:t>Z hlediska intenzity prodeje rozlišujeme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intenzívní prodej – snaha prodávat výrobek v co největším počtu prodejních jednotek při zapojení co nejvíce článků do prodeje, používá se u zboží denní potřeby (potraviny,…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selektivní prodej – distribuce prostřednictvím maloobchodních jednotek, zboží je náročnější na prodej, vyžaduje proškolený personál (oděvy, elektronika, …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výhradní prodej – distribuční článek má výhradní právo na prodej na určitém území, výrobky mají mimořádné postavení na trhu, je drahé, značkové, prodejce musí poskytnou maximum informací (drahá auta, nemovitosti, ….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cc"/>
                </a:solidFill>
                <a:latin typeface="Arial"/>
              </a:rPr>
              <a:t>Velkoobchod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Firmy zabývající se velkoobchodní činností kupují výrobky za účelem jejich dalšího prodeje maloobchodním nebo jiným organizacím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 u="sng">
                <a:solidFill>
                  <a:srgbClr val="000000"/>
                </a:solidFill>
                <a:uFillTx/>
                <a:latin typeface="Verdana"/>
              </a:rPr>
              <a:t>Funkce VO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přetváření úzkého výrobního sortimentu na široký obchodní sortimen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překlenutí časového nesouladu mezi výrobou a spotřebou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vytváření zásob k pružnému zásobování odběratelů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poskytování obchodního úvěru odběratelů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přebírá riziko spojené s nákupem, dopravou a skladováním zboží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podílí se na stimulaci prodej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podílí se na dohotovení zboží, jeho balení a úpravách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zajištění dopravy M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poskytování informací o poptávkách, cenách, konkurenci,… výrobcům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cc"/>
                </a:solidFill>
                <a:latin typeface="Arial"/>
              </a:rPr>
              <a:t>Typy VO: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 u="sng">
                <a:solidFill>
                  <a:srgbClr val="000000"/>
                </a:solidFill>
                <a:uFillTx/>
                <a:latin typeface="Verdana"/>
              </a:rPr>
              <a:t>tradiční velkoobchodní podniky</a:t>
            </a:r>
            <a:r>
              <a:rPr b="0" i="1" lang="cs-CZ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– poskytuje všechny nebo většinu uvedených funkcí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 u="sng">
                <a:solidFill>
                  <a:srgbClr val="000000"/>
                </a:solidFill>
                <a:uFillTx/>
                <a:latin typeface="Verdana"/>
              </a:rPr>
              <a:t>velkoobchodní podniky s omezenými funkcem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cash-and-carry – maloobchodník platí v hotovosti a sám si zboží musí odvés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drop shipper – velkoobchod nakupuje a prodává zboží, ale neskladuje ho (hlavně uhlí, dřevo, stavební materiál, …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olicový velkoobchodník – nabízí své zboží konečným spotřebitelům v pronajatých místech maloobchodních jednotek (např. noviny, knihy, kosmetika, hračky ,… prodávané v supermarketech apod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ojízdný velkoobchodník – nabízí a prodává zboží maloobchodníkům podle jejich potřeby přímo u svého dodávkového auta (koření, textil, zelenina a ovoce,…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700" spc="-1" strike="noStrike" u="sng">
                <a:solidFill>
                  <a:srgbClr val="000000"/>
                </a:solidFill>
                <a:uFillTx/>
                <a:latin typeface="Verdana"/>
              </a:rPr>
              <a:t>agenti a komisionáři</a:t>
            </a: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 – nepřebírají zboží do svého vlastnictví, vykonávají omezené množství funkcí, zprostředkovávají nákup a prodej určitého zboží, pracují za provizi, nesou minimální rizik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omisionář – kontaktuje prodávající a kupující, pomáhá při jejich obchodním jednání, provizi dostává od toho, kdo ho najímá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bchodní zástupci – nezávislí zástupci výrobního podniku v určité oblasti, s výrobci mají uzavřenou smlouvu o místě působnosti, cenách, službách, provizi. Nevlastní zboží, pouze zprostředkovávají nákup a prodej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aukční společnosti – umožňují kontakt prodávajícího a kupujícího, vystavení a prohlédnutí zboží, cena se stanovuje podle nabídky a poptávky (např. umělecké předměty,…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ákupní agent – pracuje pro určitou firmu na základě dlouhodobé smlouvy. Pro firmu nakupuje zboží, kontroluje kvalitu a organizuje přepravu ke kupujícímu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cc"/>
                </a:solidFill>
                <a:latin typeface="Arial"/>
              </a:rPr>
              <a:t>Maloobchod</a:t>
            </a:r>
            <a:br>
              <a:rPr sz="3200"/>
            </a:b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844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Jsou veškeré činnosti, které jsou spojené s prodejem zboží a poskytováním služeb konečnému spotřebitel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Charakteristika M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skytování velkého množství služeb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tálé přizpůsobování se potřebám zákazník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ilná konku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38512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cc"/>
                </a:solidFill>
                <a:latin typeface="Arial"/>
              </a:rPr>
              <a:t>Typy MO: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691920"/>
            <a:ext cx="8229600" cy="59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Verdana"/>
              </a:rPr>
              <a:t>specializované prodejny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– hlavně u nepotravinářského zboží, profesionální personál (oděvy, sportovní potřeby, elektronika,…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Verdana"/>
              </a:rPr>
              <a:t>prodejny se zbožím denní potřeby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– základní potravinářský a nepotravinářský sortiment, otevřeno 24 hodin denně, např. u benzínových pum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Verdana"/>
              </a:rPr>
              <a:t>supermarkety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– velké samoobslužné prodejny se sortimentem potravinářským a nepotravinářským, rozlehlá prodejní plocha, prodlužují prodejní dobu, velká konkuren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Verdana"/>
              </a:rPr>
              <a:t>hypermarkety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– obrovské samoobslužné prodejny na okrajích měst, široký sortiment, nízké ceny, dostupné aut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Verdana"/>
              </a:rPr>
              <a:t>obchodní domy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– nabízejí velmi široký sortiment zboží pod jednou střechou, snaží se zvýšit přitažlivost, provozují nové služby (cestovní kanceláře, půjčovny aut, realitní kanceláře, …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072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diskontní prodejny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– bývají členy řetězců obchodů, velký obrat, omezené služby, výprodeje zásob,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obchodní střediska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– rozsáhlé obchodní komplexy, především na okrajích měst, seskupují řadu nezávislých specializovaných obchodních firem a obchodních domů, široký sortiment zboží, široká nabídka služeb (opravny, restaurace, holičství, CK, bankovní služby,…), občerstvení a odpočinek (dětské koutky,…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katalogové prodejny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– zákazníci si vyberou ve výstavní místnosti podle katalogů nebo podle vystaveného zboží, vyplní objednávku a při zaplacení je jim zboží vydáno přímo ze skladu, omezené služb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Verdana"/>
              </a:rPr>
              <a:t>Ve kterých MO nakupujete nejčastěji, které zboží a proč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Zdroj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ŠVARCOVÁ, J. </a:t>
            </a:r>
            <a:r>
              <a:rPr b="0" i="1" lang="cs-CZ" sz="2900" spc="-1" strike="noStrike">
                <a:solidFill>
                  <a:srgbClr val="000000"/>
                </a:solidFill>
                <a:latin typeface="Verdana"/>
              </a:rPr>
              <a:t>Ekonomie – stručný přehled,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ydání</a:t>
            </a:r>
            <a:r>
              <a:rPr b="0" i="1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ro rok</a:t>
            </a:r>
            <a:r>
              <a:rPr b="0" i="1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2012/2013 Zlín : Nakladatelství a vydavatelství Ing. Jena Švarcová, Ph. D., CEED, 2012. ISBN 987-80-87301-16-6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SVĚTLÍK, J. </a:t>
            </a:r>
            <a:r>
              <a:rPr b="0" i="1" lang="cs-CZ" sz="2900" spc="-1" strike="noStrike">
                <a:solidFill>
                  <a:srgbClr val="000000"/>
                </a:solidFill>
                <a:latin typeface="Verdana"/>
              </a:rPr>
              <a:t>Marketing – cesta k trhu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Zlín: EKKA, 1994. ISBN 80-900015-8-0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58500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457200" y="1905120"/>
          <a:ext cx="8229600" cy="4587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zdělávací oblast: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dnikání a podnikové čin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ématická oblast: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ketingový mix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ředmět: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keting a managemen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ýstižný popis způsobu využití, případně metodické pokyny:</a:t>
                      </a:r>
                      <a:r>
                        <a:rPr b="0" lang="cs-CZ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udenti se seznamují se způsoby distribuce, s funkcemi a druhy VO a M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líčová slova: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tribuce, prodejní cesty, velkoobchod, maloobcho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ruh učebního materiálu: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zentac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16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cc"/>
                </a:solidFill>
                <a:latin typeface="Arial"/>
              </a:rPr>
              <a:t>Marketingový mix - distribuce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27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cc"/>
                </a:solidFill>
                <a:latin typeface="Arial"/>
              </a:rPr>
              <a:t>Distribuce</a:t>
            </a:r>
            <a:br>
              <a:rPr sz="3200"/>
            </a:b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844640"/>
            <a:ext cx="805032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Distribuce řeší problém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omu a kde se budou výrobky prodáv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ak zajistit, aby byl výrobek nabízen na správném místě ve správném okamžik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376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cc"/>
                </a:solidFill>
                <a:latin typeface="Arial"/>
              </a:rPr>
              <a:t>Prodejní cesty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560" y="2060640"/>
            <a:ext cx="83170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Prodejní cesta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– souhrn prostředníků a zprostředkovatelských článků, jejichž prostřednictvím přechází zboží od výrobce ke kupujícím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Verdana"/>
              </a:rPr>
              <a:t>Prodejní cesty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řím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epřímé – zahrnují jeden nebo více mezičlánků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Verdana"/>
              </a:rPr>
              <a:t>Jaký typ prodejní cesty a z jakých důvodů byste navrhli 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Verdana"/>
              </a:rPr>
              <a:t>a/ peči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Verdana"/>
              </a:rPr>
              <a:t>b/ elektronik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Verdana"/>
              </a:rPr>
              <a:t>Funkce prodejních cest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bchodní – zahrnuje nákup zboží od výrobců, prodej zboží a převzetí rizi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logistická  - zahrnuje dopravu od výrobce, skladování, přizpůsobení zboží požadavkům zákazník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dpůrná – zahrnuje finanční pomoc v podobě obchodního úvěru, marketingový výzkum, propagaci, poskytování služe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331640" y="2565360"/>
            <a:ext cx="7313400" cy="26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0000"/>
                </a:solidFill>
                <a:latin typeface="Verdana"/>
              </a:rPr>
              <a:t>Jaké vlastnosti by měl mít výrobce, aby s ním prostředníci (VO, MO) chtěli spolupracovat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55640" y="148392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Charakteristika optimálního výrobce z hlediska prostředníků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odává včas, ve sjednaném množství, ceně, kvalitě, balení a design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timuluje poptávku po výrobcích vhodnou reklamo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yužívá nástrojů podpory prodeje ve vztahu k prostředníků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održuje záruční lhůty, poskytuje opravy, instalaci a další služb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258920" y="2492280"/>
            <a:ext cx="7313760" cy="28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0000"/>
                </a:solidFill>
                <a:latin typeface="Verdana"/>
              </a:rPr>
              <a:t>Jaké vlastnosti by měl mít prostředník (VO, MO), aby s ním výrobci chtěli spolupracovat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6:53:23Z</dcterms:created>
  <dc:creator>kabek</dc:creator>
  <dc:description/>
  <dc:language>en-US</dc:language>
  <cp:lastModifiedBy>Igor</cp:lastModifiedBy>
  <dcterms:modified xsi:type="dcterms:W3CDTF">2014-09-13T15:03:29Z</dcterms:modified>
  <cp:revision>17</cp:revision>
  <dc:subject/>
  <dc:title>Marketingový mix - distribuce</dc:title>
</cp:coreProperties>
</file>