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50E-0E88-40FC-85E9-19A7EF0E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1D1-63FE-4C26-8C6C-2111389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633-1500-40E3-87F7-DDF2653E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0A5-DA31-4889-BAA8-82BE8A89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6EB-90B5-4C5D-A4C8-090DF4B1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6ABF-A99E-4121-91DA-7560FD2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8538-4D61-455A-9E20-7E300BA9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E695-E2EF-48E3-8914-3AD20096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4525-5BAD-4BA3-A243-D5976A89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FD2-EEEC-4BC1-8A60-B5D00F47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005-4CB0-4702-A41F-CE180D2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2D2-BB67-4FDF-B258-6303CDB3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9E1C-E594-4479-9B09-D3D16AA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D1C1-0964-465A-8566-53F45F8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AFCD-FBBA-4FEB-AD01-C1C2FA66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909E-474E-4289-92C6-F0883AEE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C059-F603-403D-B905-29BC732D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F9F-8BFD-43DD-8F7C-44532690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62B-1FED-4825-BB51-CC2E259D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B07-E4D2-41A7-BABD-B82F1867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0A8-89E7-4863-AC77-B857B57C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1E8-FAE2-4995-A5D6-8325F9F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967-3054-4FDB-8C69-79E6F06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5BD-D44E-4E42-83D6-0B1AB03F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B433-F775-45EC-AFFB-A51E89083DD9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023D-BE6F-4723-9550-EC9077AC3AE6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062000"/>
                <a:gridCol w="1800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1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ařaďte do správné položky typového kalkulačního vzorce tyto nákla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rémie děl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e výrobních hal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eklama v televi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Kancelářské potře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ve sprá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 kancelář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oba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zásob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energie výrobních li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pomocného materiá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e shrnutí a zopakování kalkulací, poukázání na návaznost učiva ekonomiky a marketing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lkulace, kalkulační jednice, typový kalkulační vzor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2b2b2"/>
                </a:solidFill>
                <a:latin typeface="Arial"/>
              </a:rPr>
              <a:t>Kalkula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výsledek kalkulování, rozpočet nákladů na jednici výkon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ční jed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např. jeden výrob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Cíle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správnou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, o kolik můžeme cenu snižovat nebo zvyšovat, aniž bychom měli ztr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možné úspory v náklad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K čemu se využívají kalku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yužití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stanovení ceny výrobk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kontrole hospodaře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 porovnání plnění plá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zjištění ziskovosti jednotlivých odděl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Členění kalkulac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doby sestave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dběžná – sestavuje se před zahájením výroby, sestavuje se na základě plá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sledná – sestavuje se po dokončení výroby, sestavuje se na základě skutečných nákladů zjištěných v účetnic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truktu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běžná – všechny výkony se započítávají průběžně včetně nedokončené výroby a polotova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á – polotovary a nedokončená výroba se započítávají zvláš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etody výpočtu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lkulace dělení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 poměrovými čí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ráž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počet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klady rozdělíme na přímé a nepřím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dají se určit na 1 jednici (ks, kg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Ne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edají se určit na jednici, jsou to tzv. režij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Uveďte příklady přímých a nepřímých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2b2b2"/>
                </a:solidFill>
                <a:latin typeface="Arial"/>
              </a:rPr>
              <a:t>Typový kalkulační vzorec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ý materiál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eškerý materiál, který se stává součástí výrobku, dá se stanovit na jednici. Např.: spotřeba základního materiálu, pomocného materiálu, obal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é mz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mzdy lidí, kteří přímo souvisí s výrobou, např. mzdy výrobních dělníků, jejich prémie, odměn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statní přímé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visí s výrobou a dají se určit na jednici. Např.: spotřeba provozní energie, náklady na opravy a udržová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rob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výrobu, které se nedají určit na jednici. Např.: nájemné, mzdy THP pracovníků ve výrobě, odpisy, cestovné, náklady na osvětlení výrobní haly, daně, pojiště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 položek: 1+2+3+4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ro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zásobovac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zásobování podniku, např. mzdy zásobovačů, skladníků, nájemné sklad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řízení a vedení podniku, např. platy THP pracovníků ve správě, nájem kancelářských prostor, telefonní poplatky, kancelářské potřeb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ch nákladů výroby + 5+6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dbytová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šechny náklady spojené s odbytem, např. reklama, mzdy a odměny pracovníků v odbyt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 náklady výkonu + 7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úplné 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úplné vlastní náklady výkonu + zisk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e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bez 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55:32Z</dcterms:created>
  <dc:creator>Administrator</dc:creator>
  <dc:description/>
  <dc:language>en-US</dc:language>
  <cp:lastModifiedBy>Igor</cp:lastModifiedBy>
  <dcterms:modified xsi:type="dcterms:W3CDTF">2014-09-13T15:01:59Z</dcterms:modified>
  <cp:revision>12</cp:revision>
  <dc:subject/>
  <dc:title>Kalkulace</dc:title>
</cp:coreProperties>
</file>