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A59DD-D245-4EFF-BA1E-6FAF67F4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D3B0A-CE41-46E8-AA8C-0DCF518C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5E21-1CF5-4708-BECF-B4B97ECF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B376-6BA9-4361-A25B-EC58E11D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D4D9-74E8-485B-8C86-59A63CFC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113F-168C-4AAD-9C6C-179C9BD9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3AD8-5517-490D-AC49-6FC8B9D4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83D2-AB7D-42EB-ABEE-E7278203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F338-31C9-4AAD-B61B-A20F55EC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E068-795C-4601-A346-967FDAD1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A744-7998-48FB-A2D4-877AC7A2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2840C-B944-403E-8EF3-1858B12B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40C8-A3A8-4E05-8612-B32EACD0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3AC1-89D3-4EDC-923C-B2D95087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C5DE-F8DF-4112-B60A-6FB31CC6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FB77-AAA9-4DCC-B0C0-8099CF9B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63C4-97B6-46BD-8A2D-C31085CC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A27EF-08E6-4CA8-BF8E-98C2E5A8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25B88-C7A7-4267-9B02-5CE59BD7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D5AC-00DE-43A9-8E4A-736D61D6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3997-0819-47E4-B29A-CF8EF54F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62AC-836F-4684-B90B-1EE4E79B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C5AE-F68C-4D68-9C56-02600C5A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DE788-09A4-4CAA-941D-0CFBA76E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2903-6CE1-466C-83FB-70A7474B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0812-F848-48FD-A036-41D53998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B144-2CE9-4E98-9510-B9540642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19C6-9AC7-4454-A2AF-9326ECE7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7945-B8AA-436A-8395-DBC79E43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5EFFC-F19F-4897-BC78-4988D4F0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469E6-D6E1-4E4F-BD17-2D1690D4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6E62-3FC8-4073-9707-78B5DDCA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4AE08-5395-40E7-8100-13670911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4D40-3B4A-47B9-A28E-47E48FC2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F913C-97F0-445E-8DB4-C220CDC8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E8C0-2E3A-413F-8DB9-0B57E49D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FA58-8261-45DD-97C8-175EE3C3595C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9121-FFE1-4B5D-AB7F-4D9AAF86D8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B5DA-AF51-4257-B365-8927CDCB482E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1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Jakou metodu stanovení ceny byste použili 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ealkoholického náp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Počíta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Značkové sportovní obu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 stanovení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trategie u nových výrob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imming price (smetánková cena) – jde o stanovení vysoké ceny, jejím cílem je vytvoření image kvality a ojedinělosti výrobku, po vstupu konkurence na trh se cena snižuje. Zisk je dosahován okamžitě. Uplatňuje se v případě, že výrobek je na trhu jedinečný, kvalitní a zákazník je ochotný ho za vysokou cenu koup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netration price (cena proniknutí) – jde o stanovení nízké ceny, jejím cílem je získat co nejvíce zákazníků a odradit konkurenci. Později se cena zvyšuje. Zisk je dosahován později. Uplatňuje se v případě, že na trhu existují podobné výrobky a zákazník je citlivý na ce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sychologický přístup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ťovské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cena vyvolává dojem vysoké kv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ístění běžných výrobků mezi výrobky luxus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ej některých výrobků za velmi snížené ceny přiláká do obchodu zákazníky, kteří pak nakupují i zboží s vyšší ce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ělé s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Diskriminační stanovení ceny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de o stanovení různé ceny pro různé tržní segmenty (ceny jízdného, vstupné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Jakou cenovou strategii byste použili 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Vstupného do 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ové příchuti čokolá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ového mobilního telef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U zakázky na zavedení nové firemní počítačov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měny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Hlavní příčiny změ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ování konku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pší využití výrobní kapacity, růst objemu výr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ížení tržního podí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oulad mezi nabídkou a poptáv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st nákladů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Druhy sle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ážka při platbě – při dřívějším proplacení fa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sráž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ónní sl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unkční srážka – poskytuje se obchodním článk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é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dej na protiúče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520f0"/>
                </a:solidFill>
                <a:latin typeface="Arial"/>
              </a:rPr>
              <a:t>S jakými sleva se nejčastěji setkáváte při svých nákupe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457200" y="1905120"/>
          <a:ext cx="8229600" cy="4449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 metodami a strategiemi stanovení ceny a s důvody změn c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a, metody stanovení ceny, strategie stanovení c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8560" y="2349360"/>
            <a:ext cx="734544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ff"/>
                </a:solidFill>
                <a:latin typeface="Arial"/>
              </a:rPr>
              <a:t>Marketingový mix - cen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Ce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7991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520f0"/>
                </a:solidFill>
                <a:latin typeface="Arial"/>
              </a:rPr>
              <a:t>Pokuste se definovat co je to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to výše peněžní úhrady zaplacená na trhu za prodávaný výrobek nebo poskytovanou služ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Cíle podniku při stanovení ce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ximalizace zi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žní podí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st objemu prod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atnosti inv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pičková kvalita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né cíle – udržení dosavadního postavení, získání nových zákazníků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stanovení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ákladově orientovaná metoda (cena stanovená kalkul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= náklady + 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hody: - jasná pravidla pro stanovení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dnik má zaručenu určitou míru zisku u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ýhody: - cena neodráží reálnou situaci na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konkur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ik stanovuje cenu podle konkurence (nejčastěji nižší než konkurence), používá se, pokud je výrobek podobný konkurenčním výrob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- jednoduc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- nepřihlíží se ke skutečným nákladům na výro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může dojít k cenové vál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ignorování skutečné ceny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musí se brát v úvahu i značka, kvalita, styl, servis,…kterými se výrobek může lišit od konkuren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zákaz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chází se z marketingového výzkumu, kterým se zjistí potřeby, přání a představy zákazníka o výrobku i o ceně a podle toho se pak podnik řídí při stanovení c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a: - reá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a: - časová a finanční náročnost při provedení výzku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neberou se v úvahu náklady na výrobu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poptáv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chází z cenové elasticity poptá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nová elasticita =  % změna poptávaného množství / % změna ceny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enově elastická poptáv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malá změna ceny vyvolá velkou změnu poptávaného množství, E je menší než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enově málo elastická poptáv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velká změna ceny vyvolá jen malou změnu poptávaného množství, E je větší než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- v praxi zajišťuje velký z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- složit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onkurzní a smluvní 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nkurzní c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kupující vyhlašuje konkurz a vybírá si firmu, která nejlépe vyhovuje jeho požadav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mluvní c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dohoda prodávajícího a kupujícího o ceně (např. aukce, prodej nemovitostí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a – velice výhodné pro kupujícího (může si vybír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29:03Z</dcterms:created>
  <dc:creator>kabek</dc:creator>
  <dc:description/>
  <dc:language>en-US</dc:language>
  <cp:lastModifiedBy>Igor</cp:lastModifiedBy>
  <dcterms:modified xsi:type="dcterms:W3CDTF">2014-09-13T15:03:10Z</dcterms:modified>
  <cp:revision>18</cp:revision>
  <dc:subject/>
  <dc:title>Marketingový mix - cena</dc:title>
</cp:coreProperties>
</file>