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9BA7-2E07-4B90-930F-DDD5F27B0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A80E-3BFE-4539-9543-BFCD0FFB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DD7D-F1FE-4F69-BF8F-101391C67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5EDD-EAA4-44FD-B364-70164D02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EDD1-B1A5-45BD-880C-3D4035DD7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1A48-5A6F-4D97-A10E-7B0FD7AD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958D-8350-4DEB-8A5F-1802F5A6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F960-E216-4522-A341-C2569B10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715E-3FCF-47BE-BC3C-88D8C2B0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F477-9A5E-4FF3-A56D-1947E190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D37B-A99E-4345-95C8-39A86F58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52F2-D2B0-4E92-8E99-4B5DB359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A5EA-0FD2-4C46-94E2-35174088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32E9-D2E0-448E-B7FC-A507AF99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CA01-6A41-4247-8E24-E2D10159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18A4-E1DE-4478-9E02-45A1BCA3E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9C3D-1500-450B-9E60-3C58B4B50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53F0-18DC-4922-B38F-9734060F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35ED-1A97-49E6-BAF2-1D89C097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159D-E181-4882-9F45-98E9B575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E845-8179-4EEE-B8BB-816477B8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E501-5EBF-4BEB-8350-B512479B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F0C3-1F11-4FC9-B16D-E265BF25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FE4A-F3D1-4779-818B-60B0DF23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BF55-3FBF-4284-B08A-41CF7E7CF9B8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D7E7-5420-46A4-8C02-77984B95E6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1133640"/>
                <a:gridCol w="1655640"/>
                <a:gridCol w="2881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1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12. 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072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k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kuste najít další silné a slabé stránky, příležitosti i hrozby pro ZOO Krále Jelim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739880" y="274680"/>
            <a:ext cx="5664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"/>
          <p:cNvGraphicFramePr/>
          <p:nvPr/>
        </p:nvGraphicFramePr>
        <p:xfrm>
          <a:off x="457200" y="1905120"/>
          <a:ext cx="8229600" cy="4830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středí podni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i hledají silné a slabé stránky, příležitosti a hrozby dané firmy, navrhují jak využít příležitosti v konkurenčním boj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né stránky, slabé stránky, příležitosti, hroz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1915920"/>
            <a:ext cx="8217000" cy="155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500" spc="-1" strike="noStrike">
                <a:solidFill>
                  <a:srgbClr val="000000"/>
                </a:solidFill>
                <a:latin typeface="Century Gothic"/>
              </a:rPr>
              <a:t>Zoo Krále Jelimána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48243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800000"/>
                </a:solidFill>
                <a:uFillTx/>
                <a:latin typeface="Century Gothic"/>
              </a:rPr>
              <a:t>Základní inform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še Zoo je zaměřená na africký kontinent, tamní faunu a flóru.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vštěvníci mohou vidět speciálně upravené obrovské výběhy pro všechna zvířata, přizpůsobené jejich přírodnímu prostředí.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zde několik vysokých rozhleden a každý návštěvník dostane při vstupu dalekohled, aby mu ze světa zvířat neunikl ani jeden moment.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zájemce jsou zde zařízeny přednášky našich zoologů z cest do Afriky, případně se mohou zapojit do akcí jako jsou Den africké kuchyně, Festival africké hudby apod.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dre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romovka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eské Budějo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927 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2060640"/>
            <a:ext cx="8288280" cy="141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500" spc="-1" strike="noStrike">
                <a:solidFill>
                  <a:srgbClr val="000000"/>
                </a:solidFill>
                <a:latin typeface="Century Gothic"/>
              </a:rPr>
              <a:t>SWOT analýza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19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800000"/>
                </a:solidFill>
                <a:uFillTx/>
                <a:latin typeface="Century Gothic"/>
              </a:rPr>
              <a:t>Silné strán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riginalita v zaměře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me jedinou Zoo v České republice, která je dopodrobna zaměřena na jeden kontinent, milovníci Afriky ocení, že se mohou plně soustředit jen na toto prostředí, nejsou rozptylováni a pleteni jinými kontinen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ajímavost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jišťujeme různé zájmové kurzy a přednášky, na které mohou přijít všichni zájemci, o všech akcích jsou předem informováni letáky a informacemi na našich internetových stránká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klam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še firma je dobře reprezentována v zahraničí, naše jméno se objevuje na seznamech mezinárodních organizacích,  z masmédií využíváme reklamu v rádiích, TV, internetu, máme billboardy, letáky, brožury, vizitky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mag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lký důraz klademe na image celého areálu, výběhu jsou vystaveny co nejpřirozeněji, nacházejí se zde vodopády, vodotrysky, jezírka, bambusové ploty, chatrč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ístup k zákazníků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nažíme se, aby zákazníci měli přístup k veškerým informacím, což řešíme pomocí informačních počítačů s dotykovou obrazovkou rozmístěných v areálu a také naši zaměstnanci jsou pověřeni vždy pomoci a poradit, budou-li požádá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mezené zaměření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ím, že jsme zaměřeni pouze na Afriku, lidem zajímajícím se o Asii, Ameriku, Evropu, nemáme v podstatě co nabídnout a připravujeme se o potenciální zákazní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ysoké provozní náklady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hledem ke snaze zajistit co nejpřirozenější prostředí pro zvířata a zkrášlení celého areálu, musíme vynakládat vysoké náklady, a přesto vstupné necháváme s poměrně nízkou cenou, takže hrozí, že při menším množství zákazníků se dostane naše firma do ztrá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klady na vzdělání zaměstnanců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še zaměstnance se snažíme motivovat vzdělávacími kurzy z oblasti zoologie. Při výjezdech do Afriky si hradí co možná nejmenší náklady, což je velkou finanční zátěží pro naši fir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19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800000"/>
                </a:solidFill>
                <a:uFillTx/>
                <a:latin typeface="Century Gothic"/>
              </a:rPr>
              <a:t>Slabé strán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46195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800000"/>
                </a:solidFill>
                <a:uFillTx/>
                <a:latin typeface="Century Gothic"/>
              </a:rPr>
              <a:t>Příležitos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ové technologie, poznatky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sme vybavení moderními technologiemi pro snadný přístup zákazníků k informacím. Moderní techniku využíváme také například ve Vodním světě nebo Světě rostlin, kde máme speciální zavlažovací systémy a klimatizace nastavované k přesné simulaci přirozeného prostředí. Speciální zaměstnanci se také věnují vědě a výzkumu o chování zvířat, jejich prostředí, úspěšném rozmnožování v zajetí apod. Úspěšné práce mohou předkládat mezinárodním organizacím a získat případné paten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ožnost zachraňovat ohrožené druhy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íky vědě dokážeme odchovat mláďata ohroženým druhům zvíř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eloživotní vzdělávání zajišťuje pracovité a snažící se zaměstnanc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hledem k nabízeným možnostem je poptávka po práci v naší Zoo vysoká, máme tedy možnost výběru vhodných uchazečů, kteří se chtějí vzdělávat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19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800000"/>
                </a:solidFill>
                <a:uFillTx/>
                <a:latin typeface="Century Gothic"/>
              </a:rPr>
              <a:t>Hroz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1557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Hrozba úhynu a šíření nemocí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ní možné zajistit, aby se zvířata nedostala do kontaktu s nemocnou osobou nebo úplně zamezit krmení zvířat nežádoucí potravou. Může to vést k onemocnění či dokonce úhynu zvíře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ýpadek v technické oblasti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ane-li se, že budeme dočasně odloučeni z důvodů závady od elektřiny, hrozí velké nebezpečí narušení normální chodu Zoo a ohrožení života některých zvířat (například vysazení filtrů ve Vodním světě). Snažíme se proto zajistit alternativní řešení v nouzových situacích, ale nemůžeme být zabezpečeni na 100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ychle se měnící potřeby zákazníků, jejich stálost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ak jsme již zmínili, zaměření naší firmy je výhodou i nevýhodou. Hrozbou se stává v tom případě, že návštěvník nemá k africkému kontinentu natolik vyvinutý vztah, aby byl ochoten naši Zoo vícekrát navštívit. Jelikož není možné každý den upoutávat jejich pozornost akcemi, návštěvnost může být ohrožena nedostatečným zájm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onkurence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še Zoo sice sídlí ve velkém městě, ale blízkost Prahy je ohrožující, vezmeme-li v úvahu, že je hlavním městem a má široké zaměření. Také Zoo Dvůr Králové je velmi konkurence schopná, jejich Africké safari je celorepublikově známé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17:23:15Z</dcterms:created>
  <dc:creator>morcinkova</dc:creator>
  <dc:description/>
  <dc:language>en-US</dc:language>
  <cp:lastModifiedBy>Igor</cp:lastModifiedBy>
  <dcterms:modified xsi:type="dcterms:W3CDTF">2014-09-13T15:26:00Z</dcterms:modified>
  <cp:revision>22</cp:revision>
  <dc:subject/>
  <dc:title>Zoo Krále Jelimána</dc:title>
</cp:coreProperties>
</file>