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7D1-6F44-47CB-8A8E-D3F5355C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2E2-E207-40A5-ADF5-00D0111A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EF2E-BF3E-4574-810C-2B2C52B4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EF0-9AAD-471A-8764-AE26D9F0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9B80-26E4-4F89-9DA7-7E9DC118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5135-6CEC-4E65-90F1-76A15BE2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14AE-6973-41E0-8A29-C8F337A5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D947-27BB-4BB2-A321-FBE9669B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EEB3-5319-48AC-890D-5D48DB4C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D858-7CEE-4692-961A-D41C89F4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61FD-40F4-4163-BA4B-06FF5CDD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6FE-D913-40AA-A403-6ADCADF3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63D8-5BAE-4CED-B348-A8842CE5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039E-2D91-447D-A312-3DA8833C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2FA5-A286-453C-9C3D-43BD16D5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882C-523C-49E7-85B0-4FB9BE0B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5EE7-94F3-4715-8E3F-B88A0649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8CA-8947-453F-A987-4B1B5F80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A64-86EE-4D8F-950C-62119CB2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AB6-478B-405A-8983-ECBFF8CD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2CA-7452-4079-B62C-C0E73AA2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8E1-48DF-4806-91CE-716B5918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ECA-19D3-43AD-8571-7B19A832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F1A-3C8A-4975-8F4B-DD850FFB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4f4f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0313-336F-461B-A792-866F3F90E4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74747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E007-326D-4FFE-8429-8FA1574E330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Příležit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ískávání nových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 nových trh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stranění bariér na zahraničních trzí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užití nových technologií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Hroz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stup nové konkurence na tr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kr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ychle se měnící potřeby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stabilní politická situace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00000" y="530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Charakterizujte silné stránky, slabé stránky, příležitosti a hrozby vaší ško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39640" y="1495440"/>
          <a:ext cx="8229600" cy="5321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alýza prostředí z pohledu managemen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udenti se seznamují s nutností zkoumat prostředí z různých úhlů pohledů, nalézat tržní výhody a způsoby jejich využití, odhalovat své silné a slabé stránky, příležitosti a hrozby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kurence, tržní výhody, SWOT analý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2818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Analýza prostředí z pohledu managementu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8720" y="4964040"/>
            <a:ext cx="69930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ahoma"/>
              </a:rPr>
              <a:t>Prostředí zkoumáme podle těchto vybraných analýz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rterova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ST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tržních vý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WOT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Porterova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grpSp>
        <p:nvGrpSpPr>
          <p:cNvPr id="99" name="Zástupný symbol pro obsah 5122"/>
          <p:cNvGrpSpPr/>
          <p:nvPr/>
        </p:nvGrpSpPr>
        <p:grpSpPr>
          <a:xfrm>
            <a:off x="1288440" y="1299240"/>
            <a:ext cx="6585480" cy="2097000"/>
            <a:chOff x="1288440" y="1299240"/>
            <a:chExt cx="6585480" cy="2097000"/>
          </a:xfrm>
        </p:grpSpPr>
        <p:sp>
          <p:nvSpPr>
            <p:cNvPr id="100" name="_s1028"/>
            <p:cNvSpPr/>
            <p:nvPr/>
          </p:nvSpPr>
          <p:spPr>
            <a:xfrm flipH="1">
              <a:off x="1576800" y="2344320"/>
              <a:ext cx="302292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29"/>
            <p:cNvSpPr/>
            <p:nvPr/>
          </p:nvSpPr>
          <p:spPr>
            <a:xfrm>
              <a:off x="1288440" y="2090160"/>
              <a:ext cx="179964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Dodav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0"/>
            <p:cNvSpPr/>
            <p:nvPr/>
          </p:nvSpPr>
          <p:spPr>
            <a:xfrm>
              <a:off x="4671720" y="2344320"/>
              <a:ext cx="2735640" cy="3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6111000" y="2126160"/>
              <a:ext cx="176292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Odběr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 flipV="1">
              <a:off x="4600440" y="1834200"/>
              <a:ext cx="1080" cy="264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3448080" y="1299240"/>
              <a:ext cx="230256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Nové vstupy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213000" y="2056320"/>
              <a:ext cx="2645280" cy="603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Podniky v odvětví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(i náš podnik)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Oval 12"/>
            <p:cNvSpPr/>
            <p:nvPr/>
          </p:nvSpPr>
          <p:spPr>
            <a:xfrm>
              <a:off x="3448080" y="2841840"/>
              <a:ext cx="2302560" cy="55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Možné substitut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13"/>
            <p:cNvSpPr/>
            <p:nvPr/>
          </p:nvSpPr>
          <p:spPr>
            <a:xfrm flipH="1" flipV="1">
              <a:off x="4581000" y="2643480"/>
              <a:ext cx="1080" cy="21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3860640"/>
            <a:ext cx="889308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může být novým vstupem v odvětví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to jsou substitu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Podle jakých kritérií volíme dodavatele a z jakých zdrojů o nich získáváme informa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nás bude zajímat u našich odběratelů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Nové vstu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vé firmy, které vstupují do odvětví, nové výrobky, služby, nové technologie, postupy suroviny atp. Pro vstup nových prvků na trh jsou důležité tyto faktory – náklady na výroby, značka, situace ekonomik, rozdíly výrobků vlastních a konkurenčních, vládní politika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Odběr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odběrateli, jejich počet, síla, odebírané množství, podmínky jejich nákupu at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Dodav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dodavateli, jejich dodací podmínky, možnost dodávek od jiných dodavatelů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Možné substitu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sou výrobky, které mohou funkčně nahradit výrobky podniku na trhu (gramofon.desky x CD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STEP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00"/>
                </a:solidFill>
                <a:latin typeface="Tahoma"/>
              </a:rPr>
              <a:t>Tato analýza hodnotí silné a slabé stránky podniku z těchto hledisek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Tato analýza se v poslední době velmi často doplňuje ještě o jedno hledisko – vzniká analýza SWTE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00"/>
                </a:solidFill>
                <a:latin typeface="Tahoma"/>
              </a:rPr>
              <a:t>W – počas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 hledisk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U jakých firem nás bude zajímat hledisko počasí a proč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tržních výhod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9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Cíl: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600" spc="-1" strike="noStrike">
                <a:solidFill>
                  <a:srgbClr val="ffff00"/>
                </a:solidFill>
                <a:latin typeface="Tahoma"/>
              </a:rPr>
              <a:t>Nalezení a vybudování tržních konkurenčních výho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stup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tění potřeb cílové skupiny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hodnocení potřeb zákazníků podle důležitos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Každé dílčí potřebě přiřazujeme očekávání zákazníka, porovnáváme ho s vlastní nabídkou a specifikujeme výhody a nevýhody vůči konkurenc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potřeby zákazníků lze uspokojit lépe a stanovujeme nutná opatře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zda realizace těchto opatření bude mít vliv na rozhodovací proces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nové konkurenční výhody můžeme vybudov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tanovujeme opatření nutná k uchování současných výhod a k vybudování nových výh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Proč je pro firmu důležité analyzovat tržní výhod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SWOT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iln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Finanční sí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íz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é jmé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ovační schop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ezilidské vzt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á organizač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oderní technické vybavení 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lab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průměrn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vyjasněná strate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staralé zaříz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ruchovost vybav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patná dostup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dostatečný výzkum a vývoj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1:25:29Z</dcterms:created>
  <dc:creator>klapuchova</dc:creator>
  <dc:description/>
  <dc:language>en-US</dc:language>
  <cp:lastModifiedBy>Igor</cp:lastModifiedBy>
  <dcterms:modified xsi:type="dcterms:W3CDTF">2014-09-13T14:55:06Z</dcterms:modified>
  <cp:revision>20</cp:revision>
  <dc:subject/>
  <dc:title>Analýza prostředí z pohledu managementu</dc:title>
</cp:coreProperties>
</file>