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AEAD-1125-47B1-958D-D89F7CF2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85E8-B064-4DE5-B30C-6F934C3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8685-765A-469F-8FAE-A9C0B0F3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F6B48-8539-4B07-A542-9815A14B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D87-E5A4-4107-A06F-01BB4D46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4109-4F83-41AA-BAA6-EF179B96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2F9-99D1-4D54-B98F-7F2DA6D8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AD0-A42F-47F6-A86D-4DC488B4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216-1857-49D3-BFAD-6E2C62AE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A8B8-F09F-46F4-9380-DB8DBAAB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B548-252B-482C-A204-9D26DEA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43D5-8265-4757-BDD1-42EAD007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D67C-6B6B-4954-92C1-81A661C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C76E-651C-4D49-B313-DE95C56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BD7D-E022-471B-9AEC-5F0A611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E23D-BCFA-49E3-A714-6BD76029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FADE-FF09-42BF-B845-A5472DB1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51C5-B6EF-4238-85C0-7F54F0EB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9FBF-48A4-4FD8-B3F0-362FAB3A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FA3D-5E72-4029-9B94-CA01A81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4265-E859-42B0-9640-ED5F1454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2468-820A-4D5F-A9AC-0ABD2BAE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8111-BF93-4F5E-ACD4-7798AA5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9A7D-67BC-4FB9-92BB-FB835BA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B15-87A5-4907-83C3-7B380F4D60FC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A05-DC8D-490B-AD00-56D1A01E0775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04920"/>
                <a:gridCol w="165744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39880" y="457200"/>
            <a:ext cx="56642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905120"/>
          <a:ext cx="8229600" cy="45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dotazníkem a hledají chyby v jeho sestav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ázky otevřené, uzavřen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Dotazník - ukázk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ení občané, ke dn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1.2009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o Vás otevíráme nové nákupní centrum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DD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eré bude zaměřené na oblečení pro všechny věkové kategorie. Proto by nás zajímalo, co Vám zde v nákupním centru chybí, co byste si zde přáli najít a další připomínk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Co byste si přáli najít v oddělení pro kojence a batol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větší výběr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rozšíření sortimentu o ob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dětskou kosmetiku a jiné doplňky ( hračky, vaničky, chodítka, chrastítka apo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Jakého druhu zboží byste uvítali v dětském oddělení ví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oblečení zaměřené na určitou tématiku (sportovní, kulturní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 Co byste si přáli mít v dámském a pánském oddělen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olečenské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4. Dáváte přednost obuvi vysoké kva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5. V módních doplňcích chcete převážně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pasky, šper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kabelky, kožená galante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kravaty, manžetové knoflíčky (pánské doplňk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. Přejete si mít v našem nákupním centru malou kavárn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. Přejete si v našem nákupním centru mít dětský koute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. Jaké oddělení byste zde ještě chtěli najít?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. Uvítali byste kvalitu služeb jakou je například asistentka nebo poradkyně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0. Jak byste naše nákupní centrum ohodnotili na stupnici 1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 zakroužkujte )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lepší –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horší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 – 2 – 3 – 4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1. Jak často nakupujete oblečení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aximálně 1 x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2 – 4 x  měsí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5 x a více 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2. Js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u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3. Váš vě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8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9 – 2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30 – 50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51 a více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4. Ve Vaší rodině se nacház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______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t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5. Váš měsíční příjem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1 000 – 24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25 000 – 4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41 000 Kč a ví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kujeme za vyplnění našeho dotazníku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hodnoťte, zda dotazník obsahuje všechny čá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otázky jsou otevřené a které uzavřen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každé otázky určete druh (dichotonická, vícevýběrová, vstupní věta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splněny všechny požadavky kladené na sestavení dotazníku? Najděte případné chyby a zkuste je odstra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7:30:40Z</dcterms:created>
  <dc:creator>Administrator</dc:creator>
  <dc:description/>
  <dc:language>en-US</dc:language>
  <cp:lastModifiedBy>Igor</cp:lastModifiedBy>
  <dcterms:modified xsi:type="dcterms:W3CDTF">2014-09-13T15:24:47Z</dcterms:modified>
  <cp:revision>13</cp:revision>
  <dc:subject/>
  <dc:title>Snímek 1</dc:title>
</cp:coreProperties>
</file>