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C74C-4AD7-4213-830F-21E88E93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138B-4FAC-4FEE-A738-158248F1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542A-33CA-4F14-9511-E13E0937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2091-A1BF-4C8F-B501-36B5CADC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3743-626A-43C7-8C62-684F95B7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9CCC-9AB2-4914-809E-66544FE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628F-0D79-496D-9E92-2EE74AA3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D702-0C3B-4EED-A911-B9EBE56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A589-E9E5-42A9-9B81-FDE35012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714-E7EA-41D3-8985-4D73C85C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137F-E730-4D58-8440-C94AF5CE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4B51-62A4-4B67-A61E-6E225088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6F08-85A2-4512-B3BF-294C46A7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CA03-19F2-44E0-ACFC-1F9BF03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2C74-D582-4CD4-8541-F1A5FA17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36C7-DAEE-41B6-837D-E56DFFC8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A97C-65C5-4D16-81AB-7AEF19B9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BE40-28A6-441A-8D80-DA7036B5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AB75-4ABC-413A-A4E3-2F49735A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A977-4EA8-40D5-B5F2-D7F3F0B4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5569-D06E-4821-B70E-3E695D69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89B4-C80E-4D0F-9475-4B5A0DC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EF32-237D-4835-94AA-0AACBC45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EB74-11CC-482A-B51D-AF70412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B7A-0AB3-4FF3-AB96-F80BECCB25C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A8B-0F38-4E5A-B012-265FA390EB3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512720"/>
                <a:gridCol w="273708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Dotaz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dotaz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ými způsoby můžete kontaktovat dotazované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otazování se uskutečňuje prostřednictvím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spondenty můžeme kontaktovat 3 způsob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Písemně</a:t>
            </a: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 – poštou nebo vhazováním do schráne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nízké náklad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lá návratnost – je nutné ji zvyšovat např. soutěžemi, dárky, urgenčními dopis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Telefonicky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yšší návrat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šší náklady, nutnost klást jednoduché otáz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Osobně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elká návratnost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soké náklady, nutnost vyškolit tazate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Druhy dotazován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strukturované – dotazník je pro všechny respondenty stejný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polostrukturované – v dotazníku se připouští odchylky podle reakcí respondentů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nestrukturované – je stanoven pouze cíl dotazování a tazatel se může ptát každého respondenta jina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Dotazník – nástroj marketingového výzku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Čá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lovení, vysvětlení výzku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k téma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asifikační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děko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za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ichotonick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ícevýběrov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souhlasu nebo nesouhl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důležit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cházející ze slovního rozliše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odov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Úplně 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lovní asoci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stupní 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ý příbě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lně komentovaný 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e každému typu otázky vytvořte příkl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5e5ff"/>
                </a:solidFill>
                <a:uFillTx/>
                <a:latin typeface="Garamond"/>
              </a:rPr>
              <a:t>Pravidla při sestavování dotazníku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vádět všechny možnosti odpověd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musí být jednoduch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cizí slo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do daleké budou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kládat vícenásob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na prestižní a intimní tém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slova denně, pravidelně, nyní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rovést pilotáž dotazní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905120"/>
          <a:ext cx="8229600" cy="481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poznávají důležitost informací a způsoby jejich získávání, diskutují o svých zkušenostech s marketingovými výzkumy, kterých se zúčastni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, marketingový výzkum, dotaz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e5e5ff"/>
                </a:solidFill>
                <a:latin typeface="Garamond"/>
              </a:rPr>
              <a:t>Marketingový výzku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53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Proč jsou v podnikání důležité inform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požadavky na informace klad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 jakých zdrojů informace můžem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arketingový informační systé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MIS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– zahrnuje pracovníky, zařízení a informační technologie pro sběr, třídění, analýzy, vyhodnocování a distribuci informací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Požadavky na informace: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potřebné, včasné, přesné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Zdroje informací MI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interní podnikové zdroje – informace z účetnictví, podnikových statistik, databází,… Poskytují informace o nákladech, výnosech, výsledku hospodaření,…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á inteligence – poskytuje informace o marketingovém prostředí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vlastní zaměstnanc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prodejní článk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konkur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specializované agentu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ý výzkum – poskytuje informace o trhu, konkurenci, prostředí a hlavně o zákaznících, o jejich potřebách a reakcích na marketingový mix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arketingový výzkumný proc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Etap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říprava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efinování problému a orientační analýza situace včetně stanovení hypotéz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lán výzkumu – obsahuje druh a zdroje informací, výběr vzorku (náhodný, výběrový, typický), stanovení metody výzkumu, způsob analýzy, rozpočet, časový harmon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alizace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Sběr informac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Zpracování a analýza informací (úprava, klasifikování, kódování, technické zpracování informací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Interpretace výsledků, závěry (potvrzení nebo vyvrácení hypotézy), doporuč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etody marketingového výzkumu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Základní met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Pozor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pozor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 pozorován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ři pozorování se zaznamenává, jak se spotřebitelé chovají při nákupu, a to buď osobně, nebo prostřednictvím kamer. Používá se, pokud nám zákazník nechce nebo nemůže poskytnout požadované informace. Musí být nenápadné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pozorován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tandardizované – pozorovatel má přesně určeno co, jak, kdy, kde má pozorovat a jak má zaznamenat výsledk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estandardizované – pozorovatel má stanoven pouze cíl pozorování a všechno ostatní si určuje sá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+ nezávislost na ochotě zákazníků spolupracov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- velmi vysoké nároky na pozorovatele, časově náročn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formace jsou čerpány ze skutečností, které jsou z důvodů výzkumu schválně přichystá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experiment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Laboratorní – test párového srovná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 terénu – v prodejnách změníme např. umístění výrobků a sledujeme reakci zákaz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11:23Z</dcterms:created>
  <dc:creator>kabek</dc:creator>
  <dc:description/>
  <dc:language>en-US</dc:language>
  <cp:lastModifiedBy>Igor</cp:lastModifiedBy>
  <dcterms:modified xsi:type="dcterms:W3CDTF">2014-09-13T15:04:41Z</dcterms:modified>
  <cp:revision>19</cp:revision>
  <dc:subject/>
  <dc:title>Marketingový výzkum a segmentace trhu</dc:title>
</cp:coreProperties>
</file>