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B468-F7CE-4212-A91A-DC78B1CC42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7FFC-7C38-4F77-8E54-94BE8B38914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1EB-85DE-4B42-8944-23BC5103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0B3-40C6-4A04-9990-56655C34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EF2-D436-4D32-BD72-D9DDF87B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BBC-DF7A-4565-B5E1-CFBFECAC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6FF3-5CB5-4BC8-B674-2351B220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1BF2-F38F-4425-8B5B-C64B55E4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E2F6-9728-4DB1-9BDB-48E5F77D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D737-E9AA-46D6-83E3-C791ACA0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AACE-6AD1-4988-9447-23E4CC3F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B8D8-01FD-4FC8-9F3E-35C524DD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510A-8E50-4B73-8F8A-28CA58A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593-287F-4429-A2C5-D1E7F08C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D73A-8B4C-434B-9CE4-58382930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249D-5766-43BA-A22F-29C1CED8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9861-5689-497B-BF00-C5CA9A22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7246-D264-44F0-8E75-CD5BF962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400A-EE9D-457D-A09F-A6465DBA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B5D-8360-4650-BC7A-229A9523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ACC-91A3-4EA2-A296-ECAD55D8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C65-AB5F-4561-B6E4-16AEE895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7FB-CB58-4968-B179-2B1E8386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C52-F6BE-484B-B7A9-DC62A07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473-EC79-4A51-B552-8356B456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E86-EBE7-4301-BE9C-A43910E3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A816-CA8E-4950-B225-67A1C5BBA05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3036-6EEA-43A7-8D14-5711B4EF04E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39640" y="3573360"/>
          <a:ext cx="7488360" cy="736560"/>
        </p:xfrm>
        <a:graphic>
          <a:graphicData uri="http://schemas.openxmlformats.org/drawingml/2006/table">
            <a:tbl>
              <a:tblPr/>
              <a:tblGrid>
                <a:gridCol w="2071800"/>
                <a:gridCol w="1312920"/>
                <a:gridCol w="1655640"/>
                <a:gridCol w="24480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INOVACE_1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Umístění firmy a její ima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345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ši Zoo jsme umístili na okraji Českých Budějovic z důvodů potřeby velkých pozemků a přírod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Adresa: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tromovka 9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927 05 České Budějovice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ýběhy jsou speciálně přizpůsobené přirozenému prostředí jednotlivých druhů zvířat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Pro neomezené možnosti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 pozorování zvířat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jsme postavili vysoké rozhledn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 areálu jsou rozmístěny automaty na horké nápoje a studené nápoje, obchody se suvenýry a občerstvením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</a:t>
            </a:r>
            <a:br>
              <a:rPr sz="6600"/>
            </a:b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ez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artneř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11280" y="1125360"/>
            <a:ext cx="6400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B České Budějovice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vedení běžného účt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skytnutí bankovního úvěr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Pojišťovna Kooperativa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majetk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sob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dpovědnosti za škody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cestovní pojištěn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rokodýlí ZOO Protivín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krokodýlů)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idepo Valley National Park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aprivi Game Park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ptáci) a flór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estovní kancelář Nomád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zprostředkování pracovních cest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artner při odměnách zaměstnanc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64008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ejsilnější konkurent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11280" y="177300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DVŮR KRÁLOVÉ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je jedna z největších ZOO v České republice. Nebezpečnější je fakt, že nabízí zajímavou podívanou v podobě Afrického safari. Je to v podstatě jediná větší ZOO, která je z velké části zaměřená na Afriku a tudíž má z části podobné nabídky pro návštěvníky jako m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Arial"/>
              </a:rPr>
              <a:t>ZOO ZLÍN LEŠNÁ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e nachází na Moravě. Svůj areál rozdělili na kontinenty, takže návštěvníci si v této ZOO přijdou na své - i Afrika je zde dostatečně zastoupena. Výběhy jsou vymyšlené velice hezky a podobně jako u nás, žádné klece, ale přírodně oplocené části, oddělované říčkou a vodními příkop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ZOO PRAHA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ysoce moderní zahrada ukazující zvířata v podmínkách, které se co nejvíce blíží jejich přirozenému prostředí. Nabízí také mnoho vzdělávacích programů pro školy i širokou veřejnost, v čemž je pro nás velkou konkurencí. V budoucnu tedy zaměříme větší pozornost právě do vzdělávacích programů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eřejnost – sdělovací prostředk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10920" y="1557000"/>
            <a:ext cx="642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Největší vlivy v rámci sdělovacích prostředků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TV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pořady na stanicích Nova, Prima, Prima COOL, ČT1, ČT2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Časopisy</a:t>
            </a:r>
            <a:r>
              <a:rPr b="1" lang="cs-CZ" sz="2400" spc="-1" strike="noStrike">
                <a:solidFill>
                  <a:srgbClr val="cbcbcb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zveřejňování reportáží z cest do Afriky od našich zoologů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bcbcb"/>
                </a:solidFill>
                <a:latin typeface="Times New Roman"/>
              </a:rPr>
              <a:t>Zákazníc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entury Gothic"/>
              </a:rPr>
              <a:t>Šíří všeobecně známé informace o Zoo, na žádnou z námi poskytovaných služeb si v dotaznících nestěžují, preferují naši Zoo před jinými, šíří dobré jméno firmy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565000"/>
            <a:ext cx="762012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a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é ekonomické ukazatel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Picture 645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1912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546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115320" cy="27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ybrané demografické vliv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7" name="Picture 441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48504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897200" y="609480"/>
            <a:ext cx="5349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11280" y="1743120"/>
          <a:ext cx="7488000" cy="5075280"/>
        </p:xfrm>
        <a:graphic>
          <a:graphicData uri="http://schemas.openxmlformats.org/drawingml/2006/table">
            <a:tbl>
              <a:tblPr/>
              <a:tblGrid>
                <a:gridCol w="3746520"/>
                <a:gridCol w="374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é prostředí - ukáz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ázka analýzy marketingového prostředí, dokazuje nutnost návaznosti učiva ekonomiky, účetnictví, statistiky, práva a marketingu a vede ke zopakování základních znalostí z těchto předmět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vaha, výsledovka, partnerské firmy, konkurence, politické prostřed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0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4824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řírodní podmí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8280" y="134100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Ochrana životního prostřed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aše Zoo se samozřejmě účastní spousty akcí, pomáhajících životnímu prostředí v našem okolí, ale také zahraničí. Jsme v několika Evropských organizací, pomáhajících proti vymírání ohrožených druhů zvířat, pro lepší péči o lesy, atd.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ázvy vybraných organizací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TA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People for the Ethical Treatment of Animals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organizace na ochranu zvířat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WWF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orld Wide Fund for Nature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– celosvětový fond pro přírodu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NESCO 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uroparc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- Evropská federace pro národní park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litické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411280" y="1196640"/>
            <a:ext cx="6400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Zákon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563/1991 Sb. Zákon o účetnictví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100/1988 Sb. Zákon o sociálním zabezpečení 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Century Gothic"/>
              </a:rPr>
              <a:t>586/1992 Sb. Zákon o dani z příjmů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411/2008 Sb. Vyhláška o stanovení druhů zvířat vyžadujících zvláštní péči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15/2008 Sb. Vyhláška o opatřeních proti zavlékání a rozšiřování škodlivých organismů rostlin a rostlinných produktů 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96/2003 Sb. vyhláška o zdraví zvířat a jeho ochraně, o přemísťování a přepravě zvířat a o oprávnění a odborné způsobilosti k výkonu některých odborných veterinárních činností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ulturní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170028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elmi dbáme na oblast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dělávání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. Kromě obvyklého pohledu na svět zvířat se zákazníci díky přednáškám mohou rozvíjet své znalosti v oblasti živočišné a rostlinné říši. Pro studenty veterinárních středních (popř. vysokých) škol a také pro studenty botaniky, nabízíme speciální programy pro celé třídy, ale i pro jedince, je možná domluva s profesorem a v rámci možností zařídit přednášky s právě probíraných učivem ve škole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vštívit Zoo může kdokoliv, má-li zájem o faunu a flóru afrického kontinentu, je to vhodné trávení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olného času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, výborné pro děti, je třeba v nich pěstovat dobrý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tah k přírodě.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další informace byste zařadili do analýzy marketingového prostřed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ukazatele finanční analýzy znáte? Z uvedené rozvahy a výsledovky zkuste vybrané ukazatele vypočíta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teré další ekonomické a demografické vlivy působí na tuto firmu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 tabule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4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3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dyngrafy.nsf/graf/inflace_1994_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redakce.nsf/i/prace_a_mzdy_pr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256500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129440" cy="201636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i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4360" y="188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ávrh organizační struktu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5" name="Organization Chart 11"/>
          <p:cNvGrpSpPr/>
          <p:nvPr/>
        </p:nvGrpSpPr>
        <p:grpSpPr>
          <a:xfrm>
            <a:off x="685800" y="1981080"/>
            <a:ext cx="7771680" cy="4114440"/>
            <a:chOff x="685800" y="1981080"/>
            <a:chExt cx="7771680" cy="4114440"/>
          </a:xfrm>
        </p:grpSpPr>
        <p:cxnSp>
          <p:nvCxnSpPr>
            <p:cNvPr id="106" name="_s1028"/>
            <p:cNvCxnSpPr>
              <a:stCxn id="107" idx="1"/>
              <a:endCxn id="108" idx="2"/>
            </p:cNvCxnSpPr>
            <p:nvPr/>
          </p:nvCxnSpPr>
          <p:spPr>
            <a:xfrm rot="10800000">
              <a:off x="1913760" y="4332600"/>
              <a:ext cx="199080" cy="1470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11" idx="2"/>
            </p:cNvCxnSpPr>
            <p:nvPr/>
          </p:nvCxnSpPr>
          <p:spPr>
            <a:xfrm flipV="1">
              <a:off x="4571280" y="3450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08" idx="2"/>
            </p:cNvCxnSpPr>
            <p:nvPr/>
          </p:nvCxnSpPr>
          <p:spPr>
            <a:xfrm rot="10800000">
              <a:off x="1913760" y="4332600"/>
              <a:ext cx="199080" cy="588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1"/>
            <p:cNvCxnSpPr>
              <a:stCxn id="115" idx="0"/>
              <a:endCxn id="111" idx="2"/>
            </p:cNvCxnSpPr>
            <p:nvPr/>
          </p:nvCxnSpPr>
          <p:spPr>
            <a:xfrm flipV="1" rot="16200000">
              <a:off x="5752440" y="2268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2"/>
            <p:cNvCxnSpPr>
              <a:stCxn id="108" idx="0"/>
              <a:endCxn id="111" idx="2"/>
            </p:cNvCxnSpPr>
            <p:nvPr/>
          </p:nvCxnSpPr>
          <p:spPr>
            <a:xfrm flipH="1" flipV="1" rot="5400000">
              <a:off x="3095280" y="2269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3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752440" y="1386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4"/>
            <p:cNvCxnSpPr>
              <a:stCxn id="111" idx="0"/>
              <a:endCxn id="119" idx="2"/>
            </p:cNvCxnSpPr>
            <p:nvPr/>
          </p:nvCxnSpPr>
          <p:spPr>
            <a:xfrm flipV="1">
              <a:off x="4571280" y="2568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5"/>
            <p:cNvCxnSpPr>
              <a:stCxn id="122" idx="0"/>
              <a:endCxn id="119" idx="2"/>
            </p:cNvCxnSpPr>
            <p:nvPr/>
          </p:nvCxnSpPr>
          <p:spPr>
            <a:xfrm flipH="1" flipV="1" rot="5400000">
              <a:off x="3095280" y="1387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036"/>
            <p:cNvSpPr/>
            <p:nvPr/>
          </p:nvSpPr>
          <p:spPr>
            <a:xfrm>
              <a:off x="3342240" y="1981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Ředitel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37"/>
            <p:cNvSpPr/>
            <p:nvPr/>
          </p:nvSpPr>
          <p:spPr>
            <a:xfrm>
              <a:off x="68580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nom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334224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ersonální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039"/>
            <p:cNvSpPr/>
            <p:nvPr/>
          </p:nvSpPr>
          <p:spPr>
            <a:xfrm>
              <a:off x="599976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log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040"/>
            <p:cNvSpPr/>
            <p:nvPr/>
          </p:nvSpPr>
          <p:spPr>
            <a:xfrm>
              <a:off x="68580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Zoologov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599976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Údržba, úkli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2"/>
            <p:cNvSpPr/>
            <p:nvPr/>
          </p:nvSpPr>
          <p:spPr>
            <a:xfrm>
              <a:off x="2113200" y="4627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Ošetřovatel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43"/>
            <p:cNvSpPr/>
            <p:nvPr/>
          </p:nvSpPr>
          <p:spPr>
            <a:xfrm>
              <a:off x="3342240" y="374508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Veterináři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044"/>
            <p:cNvSpPr/>
            <p:nvPr/>
          </p:nvSpPr>
          <p:spPr>
            <a:xfrm>
              <a:off x="2113200" y="550944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řednášejíc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64008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tivace zaměstnanc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11280" y="1052280"/>
            <a:ext cx="64008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naši zaměstnanci mají vstupné do našeho areálu i mimo pracovní dobu zdarma. Pro jejich blízké příbuzné poskytujeme karty s 50% slevou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Údržba (elektrikáři, IT technici,…) mají k dispozici služební auta s logem Zoo. Mohou jej využívat i v osobním čase, avšak pohonné hmoty a škody způsobené vlastní vinou si hradí sami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Zoologové i veterináři mají možnost účastnit se dvakrát za rok konkurzů a vycestovat na speciální zoologické kurzy do afrických rezervací. Při této příležitosti se vzdělají v oblasti tamějších metod ošetřování, léče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zvířat</a:t>
            </a: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a vedení těchto zařízeních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zoologové i veterináři se během roku účastní vzdělávacích kurzů, jak z oblasti fauny, tak flóry, podle zaměření práce a podle zájmů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cké vliv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Vybavení:</a:t>
            </a:r>
            <a:br>
              <a:rPr sz="24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Klimatizační systémy v paviló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estavěné vodotrysky ve všech externích i interních (mořský pavilon) vodních plochá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Filtry na okysličení vody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3x automat na horké nápoje, 2x automat na studené nápoje, 2x automat s občerstvení pro návště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Automaty na vodu pro zaměstnance (4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Informační počítače s dotykovou obrazovkou v pavilonech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Rozvah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411280" y="1773360"/>
          <a:ext cx="6400800" cy="3670200"/>
        </p:xfrm>
        <a:graphic>
          <a:graphicData uri="http://schemas.openxmlformats.org/drawingml/2006/table">
            <a:tbl>
              <a:tblPr/>
              <a:tblGrid>
                <a:gridCol w="1989360"/>
                <a:gridCol w="1211040"/>
                <a:gridCol w="2028960"/>
                <a:gridCol w="11714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em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udov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ovitý majet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víř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klad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ěžný úč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raven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odb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zam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00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12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8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56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kladní kapitá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zervní fo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ouhodobý úvě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dodav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k F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užné mz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068 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 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 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Účet zisků a ztrá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484360" y="1268280"/>
          <a:ext cx="6400800" cy="4888080"/>
        </p:xfrm>
        <a:graphic>
          <a:graphicData uri="http://schemas.openxmlformats.org/drawingml/2006/table">
            <a:tbl>
              <a:tblPr/>
              <a:tblGrid>
                <a:gridCol w="1917720"/>
                <a:gridCol w="1282680"/>
                <a:gridCol w="1886040"/>
                <a:gridCol w="131436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MÁ DÁ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9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39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9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1 163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2 13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7</a:t>
                      </a: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2:03:50Z</dcterms:created>
  <dc:creator>morcinkova</dc:creator>
  <dc:description/>
  <dc:language>en-US</dc:language>
  <cp:lastModifiedBy>Igor</cp:lastModifiedBy>
  <dcterms:modified xsi:type="dcterms:W3CDTF">2014-09-13T15:02:51Z</dcterms:modified>
  <cp:revision>41</cp:revision>
  <dc:subject/>
  <dc:title>MARKETING A MANAGEMENT</dc:title>
</cp:coreProperties>
</file>