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1945-4CC6-4D46-BC04-439CC9E96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54D9-8D4A-4839-8C65-4FF2710BD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DD9B-0FDD-4230-830D-6FCFF42EE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A56E-07CA-4F2D-9294-B1CA532C4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D3C12-D715-4C05-A4C1-B6F1DF468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1EC60-03A4-4604-A6B6-91F1E189C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B06B6-4093-4864-A129-C3097BC64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F1F7B-6BD2-44FB-AA32-BD3860AE5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C150C-9DD0-40AA-8705-965A52B3C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C75CF-63B6-4C69-9483-01CB63BF4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69873-7828-44FE-B2BE-5A9C000B3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4F10-8E2D-4DF6-B338-6B2DBBCB2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5FBFC-C80B-486A-9232-106E8E41B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8C16E-AF75-47E9-A637-BBA0A9784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136A5-C6FA-48C1-9CA9-FC6C0652E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083D2-24A3-4B82-969B-8EA5FCE6D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8E879-63F4-4F07-BBFB-E505A8143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D390-7CB7-4C61-945A-9F294CCB8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86BE-2232-4D27-9BA8-6297EB9F2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707B-A3E3-4557-9165-61E35A424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053C-43F0-4439-8BD0-EDCA074D2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4764-FE37-44E8-B0A0-D54DCBF15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51E4-B1DB-4CC0-AD2F-0E45F473C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F6B4-7984-48C7-BD37-5E6E45027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5A745-8FF9-4A38-ACF0-CAE74D8DFCE2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4CEEA-23EE-447F-85AE-2D8C79919C79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Výukový materiál zpracován v rámci projektu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EU peníze školá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Registrační číslo projektu: CZ.1.07/1.5.00/34.0208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1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511280"/>
                <a:gridCol w="1441440"/>
                <a:gridCol w="1656000"/>
                <a:gridCol w="2952720"/>
              </a:tblGrid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Y_32_INOVACE_18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39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g. Bohuslava Klapuchová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 roční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 10. 20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93400"/>
            <a:ext cx="77724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333360"/>
            <a:ext cx="8147160" cy="65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ffff"/>
                </a:solidFill>
                <a:latin typeface="Arial"/>
              </a:rPr>
              <a:t>Daňové odpisy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 – řídí se zákonem o dani z příj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vyjadřují opotřebení majetku v průměrných podmínká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tyto odpisy ovlivňují daň z příjmu, metody výpočtu jsou závazně stanoveny stát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ffff"/>
                </a:solidFill>
                <a:latin typeface="Arial"/>
              </a:rPr>
              <a:t>metody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a/ rovnoměrné odpisování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b/ zrychlené odpisování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v případě technického zhodnocení (přestavba, rekonstrukce, modernizace, …) dražšího než 40 000,- Kč ročně se zvyšuje hodnota dlouhodobého majetku a odpisy se provádí ze zvýšené cen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82600"/>
            <a:ext cx="77724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4360" y="2890800"/>
            <a:ext cx="7772400" cy="301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9999"/>
                </a:solidFill>
                <a:latin typeface="Arial"/>
              </a:rPr>
              <a:t>Co je to technické zhodnocení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93400"/>
            <a:ext cx="77724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ffffff"/>
                </a:solidFill>
                <a:uFillTx/>
                <a:latin typeface="Arial"/>
              </a:rPr>
              <a:t>Technické zhodnocení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výdaje na nástavby, přístavby, stavební úpravy, rekonstrukce a modernizace majetku, pokud převýšily u jednotlivého DHM nebo DNM v úhrnu za rok částku 40 000,- Kč. *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TZ zvyšuje PC majetku, při odepisování je nutné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Zvýšit PC (VC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Použít sazby (koeficienty) pro zvýšenou VC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 u="sng">
                <a:solidFill>
                  <a:srgbClr val="ffffff"/>
                </a:solidFill>
                <a:uFillTx/>
                <a:latin typeface="Arial"/>
              </a:rPr>
              <a:t>Technické zhodnocení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a/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modernizace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 – rozšíření vybavenosti nebo použitelnosti majetk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b/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rekonstrukce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 – zásahy do majetku, které mají za následek změnu jeho účelu nebo technických parametrů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zvyšuje PC majetku, projeví se v nákladech postupně pomocí vyšších odpisů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93400"/>
            <a:ext cx="77724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říklady na odpisy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V lednu 2008 si firma koupila auto, PC 200 000,- Kč. Odpisujte rovnoměrně, odpisová skupina 2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Firma koupila v únoru 2008 traktor, jehož PC je 1 600 000,- Kč. Odpisujte zrychleně, odpisová skupina 2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Řešení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Auto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79280" y="2492280"/>
          <a:ext cx="8964720" cy="3819600"/>
        </p:xfrm>
        <a:graphic>
          <a:graphicData uri="http://schemas.openxmlformats.org/drawingml/2006/table">
            <a:tbl>
              <a:tblPr/>
              <a:tblGrid>
                <a:gridCol w="1793880"/>
                <a:gridCol w="1792440"/>
                <a:gridCol w="1792080"/>
                <a:gridCol w="1893960"/>
                <a:gridCol w="1692360"/>
              </a:tblGrid>
              <a:tr h="636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o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dpi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rávk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 000,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 000,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 000,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8 000,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 000,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 500,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 500,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3 500,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 000,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 500,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1 000,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9 000,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6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 000,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 500,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5 500,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 500,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 000,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 500,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 000,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23560"/>
            <a:ext cx="77724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476280"/>
            <a:ext cx="3809880" cy="561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Trakto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79280" y="1484280"/>
          <a:ext cx="8785440" cy="4751280"/>
        </p:xfrm>
        <a:graphic>
          <a:graphicData uri="http://schemas.openxmlformats.org/drawingml/2006/table">
            <a:tbl>
              <a:tblPr/>
              <a:tblGrid>
                <a:gridCol w="1757520"/>
                <a:gridCol w="1755720"/>
                <a:gridCol w="1758960"/>
                <a:gridCol w="1755720"/>
                <a:gridCol w="1757520"/>
              </a:tblGrid>
              <a:tr h="903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o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C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dpi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rávk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C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600 000,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0 000,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0 000,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280 000,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7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600 000,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2 000,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32 000,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68 000,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600 000,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4 000,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216 000,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4 000,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1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600 000,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6 000,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472 000,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8 000,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1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600 000,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8 000,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600 000,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93400"/>
            <a:ext cx="77724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říklady na odpisy s technickým zhodnocením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Firma pořídila v roce 2008 budovu v PC 1 300 000,- Kč, v roce 2009 provedla technické zhodnocení za 900 000,- Kč. Odpisová skupina 6, vypočítejte odpisy v prvních 5 letech rovnoměrně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Firma koupila v lednu 2008 stroj, PC 700 000,- Kč. V roce 2010 byla provedena modernizace v hodnotě 100 000,- Kč. Odpisová skupina 2, odpisujte zrychleně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Řešení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Budova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0" y="2565360"/>
          <a:ext cx="9144000" cy="401472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  <a:gridCol w="1828800"/>
                <a:gridCol w="1828800"/>
                <a:gridCol w="182880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o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C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dpi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rávk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C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300 000,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260,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260,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286 740,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200 000,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 000,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 260,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142 740,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200 000,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 000,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1 260,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098 740,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1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200 000,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 000,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5 260,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054 740,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1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200 000,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 000,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9 260,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010 740,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99880"/>
            <a:ext cx="77724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620280"/>
            <a:ext cx="3809880" cy="547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Stroj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79280" y="1413000"/>
          <a:ext cx="8748720" cy="4800600"/>
        </p:xfrm>
        <a:graphic>
          <a:graphicData uri="http://schemas.openxmlformats.org/drawingml/2006/table">
            <a:tbl>
              <a:tblPr/>
              <a:tblGrid>
                <a:gridCol w="1749600"/>
                <a:gridCol w="1749240"/>
                <a:gridCol w="1751040"/>
                <a:gridCol w="1749600"/>
                <a:gridCol w="174924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o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dpi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rávk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0 000,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0 000,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0 000,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0 000,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0 000,-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4 000,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4 000,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6 000,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00 000,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4 400,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8 400,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1 600,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00 000,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0 800,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9 200,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0 800,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00 000,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7 200,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56 400,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 600,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1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00 000,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 600,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00 000,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93400"/>
            <a:ext cx="77724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Zdroje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ŠVARCOVÁ, J. </a:t>
            </a:r>
            <a:r>
              <a:rPr b="1" i="1" lang="cs-CZ" sz="3200" spc="-1" strike="noStrike">
                <a:solidFill>
                  <a:srgbClr val="ffffff"/>
                </a:solidFill>
                <a:latin typeface="Arial"/>
              </a:rPr>
              <a:t>Ekonomie – stručný přehled, 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vydání</a:t>
            </a:r>
            <a:r>
              <a:rPr b="1" i="1" lang="cs-CZ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pro rok</a:t>
            </a:r>
            <a:r>
              <a:rPr b="1" i="1" lang="cs-CZ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2012/2013 Zlín : Nakladatelství a vydavatelství Ing. Jena Švarcová, Ph. D., CEED, 2012. ISBN 987-80-87301-16-6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*)ŠTOHL, P. </a:t>
            </a:r>
            <a:r>
              <a:rPr b="1" i="1" lang="cs-CZ" sz="3200" spc="-1" strike="noStrike">
                <a:solidFill>
                  <a:srgbClr val="ffffff"/>
                </a:solidFill>
                <a:latin typeface="Arial"/>
              </a:rPr>
              <a:t>Učebnice účetnictví pro střední školy a veřejnost II. Díl 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Znojmo 2009. ISBN 978-80-87237-13-7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1898640" y="609480"/>
            <a:ext cx="534672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4" name=""/>
          <p:cNvGraphicFramePr/>
          <p:nvPr/>
        </p:nvGraphicFramePr>
        <p:xfrm>
          <a:off x="457200" y="1905120"/>
          <a:ext cx="8229600" cy="49068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dnikání a podnikové činnost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středí podnik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rketing a managem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ázev učebního materiál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dpisy dlouhodobého majetk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zentace k zopakování a shrnutí učiva ekonomik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dpisy, oprávky, zůstatková cena, technické zhodnocení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71600" y="1511280"/>
            <a:ext cx="6400800" cy="299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cbcbcb"/>
                </a:solidFill>
                <a:latin typeface="Times New Roman"/>
              </a:rPr>
              <a:t>Odpisy dlouhodobého majetku</a:t>
            </a:r>
            <a:endParaRPr b="0" lang="en-US" sz="4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5562000"/>
            <a:ext cx="6400800" cy="13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82600"/>
            <a:ext cx="77724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6560" y="2420640"/>
            <a:ext cx="769644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9999"/>
                </a:solidFill>
                <a:latin typeface="Arial"/>
              </a:rPr>
              <a:t>Co to jsou odpisy a proč majetek odpisujeme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-275400"/>
            <a:ext cx="68706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268280"/>
            <a:ext cx="7696080" cy="460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Dlouhodobý majetek se opotřebovává postupně, a proto se jeho hodnota postupně přenáší do nákladů firmy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</a:rPr>
              <a:t>Opotřebení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ffff"/>
                </a:solidFill>
                <a:latin typeface="Arial"/>
              </a:rPr>
              <a:t>Fyzické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 – opotřebení používání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ffff"/>
                </a:solidFill>
                <a:latin typeface="Arial"/>
              </a:rPr>
              <a:t>Morální 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– majetek technicky zaostává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82600"/>
            <a:ext cx="77724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9999"/>
                </a:solidFill>
                <a:latin typeface="Arial"/>
              </a:rPr>
              <a:t>Definujte základní pojmy: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9999"/>
                </a:solidFill>
                <a:latin typeface="Arial"/>
              </a:rPr>
              <a:t> </a:t>
            </a:r>
            <a:r>
              <a:rPr b="1" lang="cs-CZ" sz="3600" spc="-1" strike="noStrike">
                <a:solidFill>
                  <a:srgbClr val="ff9999"/>
                </a:solidFill>
                <a:latin typeface="Arial"/>
              </a:rPr>
              <a:t>Odpis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9999"/>
                </a:solidFill>
                <a:latin typeface="Arial"/>
              </a:rPr>
              <a:t>Oprávk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9999"/>
                </a:solidFill>
                <a:latin typeface="Arial"/>
              </a:rPr>
              <a:t>ZC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82600"/>
            <a:ext cx="77724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267920"/>
            <a:ext cx="7696080" cy="421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</a:rPr>
              <a:t>Odpisy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 – peněžní vyjádření opotřebení majetku za určité obdob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</a:rPr>
              <a:t>Oprávky 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– souhrn všech odpisů za dobu užívání majetk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</a:rPr>
              <a:t>Zůstatková cena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 = pořizovací cena – oprávk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97360"/>
            <a:ext cx="77724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55640" y="2707920"/>
            <a:ext cx="7696080" cy="181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9999"/>
                </a:solidFill>
                <a:latin typeface="Arial"/>
              </a:rPr>
              <a:t>Jaké znáte druhy odpisů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93400"/>
            <a:ext cx="77724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</a:rPr>
              <a:t>Druhy odpis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ffff"/>
                </a:solidFill>
                <a:latin typeface="Arial"/>
              </a:rPr>
              <a:t>Účetní odpisy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 – jsou upraveny zákonem o účetnictv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tyto odpisy vyjadřují skutečné opotřebení dlouhodobého majetku v konkrétních podmínkác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metoda výpočtu odpisu závisí na firmě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1T07:21:45Z</dcterms:created>
  <dc:creator>klapuchova</dc:creator>
  <dc:description/>
  <dc:language>en-US</dc:language>
  <cp:lastModifiedBy>Igor</cp:lastModifiedBy>
  <dcterms:modified xsi:type="dcterms:W3CDTF">2014-09-13T15:05:14Z</dcterms:modified>
  <cp:revision>23</cp:revision>
  <dc:subject/>
  <dc:title>Odpisy dlouhodobého majetku</dc:title>
</cp:coreProperties>
</file>