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1752-7001-47A7-9346-A66A542B5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C0BD-25DB-4A7E-9C5A-08DFDBF8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9A01-F36B-47CE-9C62-B4164F1C1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14A0-A460-4C1B-AC7B-3263F1A39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8465-2066-4AAE-A862-78D771FF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059B-0353-4AF0-BB87-FB9C2525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5D1F-0CC5-4435-A376-26BD0F82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B8BB-DBEC-41CE-B1F5-C704B931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DD6A-0016-415F-BD1F-4FA9CBE0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948B-3D06-4F94-97AC-A7109FA3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D945-2EA4-42A7-A6BA-EFE99E10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6FFC-F0BB-44F9-A3C6-EBB4BF92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86AB-87DA-43AB-AEC3-BA0A47036B1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1278000"/>
                <a:gridCol w="1584360"/>
                <a:gridCol w="280836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1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 9. 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Členění oběžného majetk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soby – věcná forma oběžného majet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teriá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kladní materiál a surovi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mocný materi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a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honné hmo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robné nářad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ancelářské potře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istící prostřed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dokončená výroba – nedokončené výrobky v takovém stupni zpracování, že nejsou prodej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otovary – rozpracované výrobky, které by se už daly prodá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otové výrobky – určeny k prode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boží – vše, co je zakoupeno za účelem dalšího prode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vířata – zásoby pro zemědělskou výrob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eněžní forma oběžného majet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rátkodobý finanční maj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eníze v poklad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eníze na běžném úč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ni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rátkodobé cenné papí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hledáv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7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7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7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robný maj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3588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Arial"/>
              </a:rPr>
              <a:t>Charakteristik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užívá se déle než 1 r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á pořizovací cenu menší než 40 000,-, popř. 60 000,- K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Arial"/>
              </a:rPr>
              <a:t>Členění drobného majetku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Hmotn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Nehmotn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3366ff"/>
                </a:solidFill>
                <a:latin typeface="Arial"/>
              </a:rPr>
              <a:t>Uveďte příklady drobného hmotného a nehmotného majetk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Zdroje krytí majet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949720"/>
            <a:ext cx="822960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11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66ff"/>
                </a:solidFill>
                <a:latin typeface="Arial"/>
              </a:rPr>
              <a:t>Jaké znáte zdroje krytí majetk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3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lastní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ní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ondy tvořené ze zi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ff"/>
                </a:solidFill>
                <a:latin typeface="Arial"/>
              </a:rPr>
              <a:t>Jak můžeme použít disponibilní zis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Cizí zdro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Bankovní úvě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statní závaz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ůči dodavatel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ůči F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ůči zaměstnanc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ůči OSS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ůči zdravotním pojišťovnám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66ff"/>
                </a:solidFill>
                <a:latin typeface="Arial"/>
              </a:rPr>
              <a:t>S jakými hospodářskými operacemi je spjat vznik závazků vůči uvedeným institucí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8229600" cy="26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66ff"/>
                </a:solidFill>
                <a:latin typeface="Arial"/>
              </a:rPr>
              <a:t>Co je to rozvaha a kdy ji sestavuje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3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ozvaha k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jetek = Aktiva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droje krytí = Pa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. Dlouhodobý majete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. Vlastní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Hmotn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ákladní kapit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Nehmotn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Fon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Finanč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 Oběžný majete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 Cizí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ásob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Bankovní úvě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KF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Ostatní závaz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ohledáv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oučet aktiv = součet pas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 u="sng">
                <a:solidFill>
                  <a:srgbClr val="000000"/>
                </a:solidFill>
                <a:uFillTx/>
                <a:latin typeface="Arial"/>
              </a:rPr>
              <a:t>Příkla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Sestavte přehled aktiv a pasiv, pokud víte, že podnik měl k 31. 12. tento stav majetku a zdrojů krytí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1. závazky vůči dodavatelům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110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2. pohledávky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30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3. dlouhodobý majetek celkem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     3 500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4. peníze v pokladně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  5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5. materiál na skladě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215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6. krátkodobý bankovní úvěr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45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7. výrobky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38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8. peníze na BÚ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62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9. závazky vůči zaměstnancům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76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10. ZK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     3 619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ešen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20"/>
          <p:cNvGrpSpPr/>
          <p:nvPr/>
        </p:nvGrpSpPr>
        <p:grpSpPr>
          <a:xfrm>
            <a:off x="395280" y="0"/>
            <a:ext cx="8066160" cy="12528360"/>
            <a:chOff x="395280" y="0"/>
            <a:chExt cx="8066160" cy="12528360"/>
          </a:xfrm>
        </p:grpSpPr>
        <p:sp>
          <p:nvSpPr>
            <p:cNvPr id="91" name="AutoShape 21"/>
            <p:cNvSpPr/>
            <p:nvPr/>
          </p:nvSpPr>
          <p:spPr>
            <a:xfrm>
              <a:off x="395280" y="0"/>
              <a:ext cx="8066160" cy="125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2"/>
            <p:cNvSpPr/>
            <p:nvPr/>
          </p:nvSpPr>
          <p:spPr>
            <a:xfrm>
              <a:off x="556560" y="835200"/>
              <a:ext cx="1290600" cy="125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Akti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3"/>
            <p:cNvSpPr/>
            <p:nvPr/>
          </p:nvSpPr>
          <p:spPr>
            <a:xfrm>
              <a:off x="3299040" y="835200"/>
              <a:ext cx="2097000" cy="125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Rozvaha k 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4"/>
            <p:cNvSpPr/>
            <p:nvPr/>
          </p:nvSpPr>
          <p:spPr>
            <a:xfrm>
              <a:off x="7009560" y="835200"/>
              <a:ext cx="1290600" cy="125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Pasi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>
              <a:off x="556560" y="2088000"/>
              <a:ext cx="774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26"/>
            <p:cNvSpPr/>
            <p:nvPr/>
          </p:nvSpPr>
          <p:spPr>
            <a:xfrm>
              <a:off x="395280" y="2505600"/>
              <a:ext cx="4033080" cy="167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DM celkem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3 500 000,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OM – materiál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  215 000,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- výrobky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    38 000,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- peníze v pokl.          5 000,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- BÚ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    62 000,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- pohledávky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    30 000,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27"/>
            <p:cNvSpPr/>
            <p:nvPr/>
          </p:nvSpPr>
          <p:spPr>
            <a:xfrm>
              <a:off x="4267080" y="2505600"/>
              <a:ext cx="4033080" cy="167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VK – ZK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3 619 000,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CK – bank. Úvěr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     45 000,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- dodavatelé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   110 000,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- zaměstnanci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     76 000,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8"/>
            <p:cNvSpPr/>
            <p:nvPr/>
          </p:nvSpPr>
          <p:spPr>
            <a:xfrm>
              <a:off x="556560" y="4176000"/>
              <a:ext cx="774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29"/>
            <p:cNvSpPr/>
            <p:nvPr/>
          </p:nvSpPr>
          <p:spPr>
            <a:xfrm>
              <a:off x="395280" y="4593600"/>
              <a:ext cx="4033080" cy="167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Celkem A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 3 850 000,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30"/>
            <p:cNvSpPr/>
            <p:nvPr/>
          </p:nvSpPr>
          <p:spPr>
            <a:xfrm>
              <a:off x="4267080" y="4593600"/>
              <a:ext cx="4033080" cy="125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Celkem P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3 850 000,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31"/>
            <p:cNvSpPr/>
            <p:nvPr/>
          </p:nvSpPr>
          <p:spPr>
            <a:xfrm>
              <a:off x="4267080" y="2088000"/>
              <a:ext cx="0" cy="37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739880" y="274680"/>
            <a:ext cx="5664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středí podni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 k zopakování a shrnutí učiva ekonomi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ouhodobý majetek, oběžný majetek, vlastní zdroje krytí, cizí zdroje krytí, rozva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ajetek podni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2781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66ff"/>
                </a:solidFill>
                <a:latin typeface="Arial"/>
              </a:rPr>
              <a:t>Definujte majetek podni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jetek, který podnikatel vloží do podnikání se nazývá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bchodní maje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1476360" y="1844640"/>
            <a:ext cx="7201080" cy="4321080"/>
            <a:chOff x="1476360" y="1844640"/>
            <a:chExt cx="7201080" cy="4321080"/>
          </a:xfrm>
        </p:grpSpPr>
        <p:sp>
          <p:nvSpPr>
            <p:cNvPr id="54" name="AutoShape 5"/>
            <p:cNvSpPr/>
            <p:nvPr/>
          </p:nvSpPr>
          <p:spPr>
            <a:xfrm>
              <a:off x="1476360" y="1844640"/>
              <a:ext cx="7201080" cy="43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6"/>
            <p:cNvSpPr/>
            <p:nvPr/>
          </p:nvSpPr>
          <p:spPr>
            <a:xfrm>
              <a:off x="3924720" y="2420640"/>
              <a:ext cx="1440000" cy="72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Obchodní majet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7"/>
            <p:cNvSpPr/>
            <p:nvPr/>
          </p:nvSpPr>
          <p:spPr>
            <a:xfrm>
              <a:off x="1476360" y="4293000"/>
              <a:ext cx="1584000" cy="72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Dlouhodobý majet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8"/>
            <p:cNvSpPr/>
            <p:nvPr/>
          </p:nvSpPr>
          <p:spPr>
            <a:xfrm>
              <a:off x="6229080" y="4293000"/>
              <a:ext cx="1728000" cy="72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Oběžný majet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9"/>
            <p:cNvSpPr/>
            <p:nvPr/>
          </p:nvSpPr>
          <p:spPr>
            <a:xfrm>
              <a:off x="4068720" y="4293000"/>
              <a:ext cx="1152000" cy="72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Drobný majet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 flipH="1">
              <a:off x="2052360" y="3141000"/>
              <a:ext cx="201600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>
              <a:off x="5220720" y="3141000"/>
              <a:ext cx="187200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2"/>
            <p:cNvSpPr/>
            <p:nvPr/>
          </p:nvSpPr>
          <p:spPr>
            <a:xfrm>
              <a:off x="4644720" y="3141000"/>
              <a:ext cx="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66ff"/>
                </a:solidFill>
                <a:latin typeface="Arial"/>
              </a:rPr>
              <a:t>Čím se liší majetek dlouhodobý a oběžný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louhodobý maj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Charakteristik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ba použitelnosti je delší než 1 r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stál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spotřebovává se ve výrobě najednou, ale opotřebovává 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Arial"/>
              </a:rPr>
              <a:t>Členění dlouhodobého majetku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louhodobý hmotný majetek (DH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movitý majetek – pozemky a budovy bez ohledu na jejich pořizovací ce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ovitý majetek – majetek, který má dobu použitelnosti nejméně 1 rok a pořizovací cenu větší než 40 000,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louhodobý nehmotný majetek (DNM) – doba použitelnosti je delší než 1 rok a pořizovací cena větší než 60 000,- (licence, autorská práva, software,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louhodobý finanční majetek (DFM) – na dobu delší než 1 rok (dlouhodobé cenné papíry, dlouhodobé půjčky poskytnuté jiným podnikatelům, 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běžný maj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Charakteristik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ba použitelnosti kratší než 1 r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ění svoji podsta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 výrobě se spotřebová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05:54:33Z</dcterms:created>
  <dc:creator>klapuchova</dc:creator>
  <dc:description/>
  <dc:language>en-US</dc:language>
  <cp:lastModifiedBy>Igor</cp:lastModifiedBy>
  <dcterms:modified xsi:type="dcterms:W3CDTF">2014-09-13T15:02:16Z</dcterms:modified>
  <cp:revision>19</cp:revision>
  <dc:subject/>
  <dc:title>Majetek podniku</dc:title>
</cp:coreProperties>
</file>