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7D7-1FA0-4659-B0DA-6552A71620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9996-BFCC-4D97-82C4-07611C1EF6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731-8595-4956-A1B8-36D42D63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F24-62AA-4A25-86A4-A0E956C2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7C4-6C11-4535-8724-CED69F80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D86-F142-4E6D-864B-EDB3EF5D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785-D6CE-4579-BC28-EBA633D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BEF-3DC2-41DE-822C-7C532B5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C7B-EC48-4717-82BA-7BDD15B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3E9-9C5A-49DA-A3EC-336D35D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48E-C57B-409A-A589-C8D9853B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A52-D923-4A59-BB5F-5E676BC5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9D0-4CEC-4BE4-BB38-BF85C72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E1C-8CFF-435F-ADCC-3002E078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4C3-8EF5-447D-8223-D8A0B9D138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  <a:gridCol w="180000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9.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22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veřejnost – banky, pojišťovny, investoři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ělovací prostředky – TV, rozhlas, tisk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a a vládní org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veřejnost – obyvatelé žijící v blízkosti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veřejnost –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Uveďte konkrétní situace, jak může veřejnost ovlivnit fir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ní trhy – zaměřené na domá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é trhy – zaměřené na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trhy – MO, 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trhy – všechny dříve jmenované trhy v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a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inflace, nezaměstnanost, cla, daně, hospodářská politika státu,výše minimální mzdy, úroková mír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Na internetu zjistěte, jaká je výše inflace, nezaměstnanosti, průměrné a minimální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počet obyvatel, hustota obyvatel, pohlaví, věk, počet členů domácností, porodnost, úmrtnosti, migrace obyvatel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od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klimatické podmínky, půdní poměry, nerostné bohatství, ochrana životního prostřed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vědeckotechnický pokrok, nové technologie, genetické inženýrství,stále nové požadavky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legislativa, politika státu, mezinárodní politická situa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Které zákony musíte znát a dodržovat, pokud chcete podnik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ě-kultur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hodnoty a postoje lidí, životní styl, náboženství, vzdělanost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1341360"/>
          <a:ext cx="7920000" cy="54532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učebního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rostředí z pohledu marketing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vysvětlení vlivů prostředí na firmu, objasní vzájemné ovlivňování jednotlivých částí prostředí a fir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é mikroprostředí, marketingové mezoprostředí, marketingové makroprostřed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 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Arial"/>
              </a:rPr>
              <a:t>Analýza prostředí firmy z pohledu marketi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8200" y="402840"/>
            <a:ext cx="75391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éma marketingové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2" descr="Marketing"/>
          <p:cNvPicPr/>
          <p:nvPr/>
        </p:nvPicPr>
        <p:blipFill>
          <a:blip r:embed="rId1"/>
          <a:stretch/>
        </p:blipFill>
        <p:spPr>
          <a:xfrm>
            <a:off x="911160" y="1600200"/>
            <a:ext cx="7318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i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 a personál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i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47"/>
          <p:cNvGrpSpPr/>
          <p:nvPr/>
        </p:nvGrpSpPr>
        <p:grpSpPr>
          <a:xfrm>
            <a:off x="1042920" y="2133720"/>
            <a:ext cx="7921440" cy="4462560"/>
            <a:chOff x="1042920" y="2133720"/>
            <a:chExt cx="7921440" cy="44625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4044240" y="3850560"/>
              <a:ext cx="893160" cy="1027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609732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V="1" rot="16200000">
              <a:off x="5070240" y="3851640"/>
              <a:ext cx="893160" cy="102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301824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4122360" y="213372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04292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514944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720360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odby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3097080" y="4811400"/>
              <a:ext cx="1758600" cy="1784880"/>
            </a:xfrm>
            <a:custGeom>
              <a:avLst/>
              <a:gdLst>
                <a:gd name="textAreaLeft" fmla="*/ 85680 w 1758600"/>
                <a:gd name="textAreaRight" fmla="*/ 1672920 w 175860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923">
                  <a:moveTo>
                    <a:pt x="3600" y="0"/>
                  </a:moveTo>
                  <a:arcTo wR="3600" hR="3600" stAng="16200000" swAng="-5400000"/>
                  <a:lnTo>
                    <a:pt x="0" y="18323"/>
                  </a:lnTo>
                  <a:arcTo wR="3600" hR="3600" stAng="10800000" swAng="-5400000"/>
                  <a:lnTo>
                    <a:pt x="18000" y="21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á – kombinace předcháze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4"/>
          <p:cNvGrpSpPr/>
          <p:nvPr/>
        </p:nvGrpSpPr>
        <p:grpSpPr>
          <a:xfrm>
            <a:off x="684360" y="692280"/>
            <a:ext cx="8135280" cy="4599720"/>
            <a:chOff x="684360" y="692280"/>
            <a:chExt cx="8135280" cy="459972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15360" y="1567440"/>
              <a:ext cx="920520" cy="284832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751640" y="2531520"/>
              <a:ext cx="180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868120" y="1567800"/>
              <a:ext cx="920520" cy="284796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531960" y="69228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6843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5319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7920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137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a motivace lidí – finanční motivace, soutěže prodejců, zaměstnanecké výhod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aměstnanecké výhody byste si představovali ve svém budoucím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veň vybavenosti firmy – kvalita vybavení, jeho úroveň, užité informační technologie, opotřebení majetk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2707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ek firmy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krytí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bor ukazatelů z finanční analýzy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jmenujte druhy majetku a zdrojů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náte ukazatele, které hodnotí ekonomickou situaci ve firm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ístě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age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 firm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ez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nerské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avatelé – faktory výběru,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ované ag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y, pojišťov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dle jakých kritérií byste si vybírali partnerskou firmu – dodavatele, banku, pojišťovn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kud získáte informace o konkurenci a proč jsou pro nás tak důlež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7:44:28Z</dcterms:created>
  <dc:creator>Ing. Bohuslava Klapuchová</dc:creator>
  <dc:description/>
  <dc:language>en-US</dc:language>
  <cp:lastModifiedBy>Igor</cp:lastModifiedBy>
  <dcterms:modified xsi:type="dcterms:W3CDTF">2014-09-13T14:54:49Z</dcterms:modified>
  <cp:revision>125</cp:revision>
  <dc:subject/>
  <dc:title>Analýzy prostředí firmy z pohledu marketingu a managementu</dc:title>
</cp:coreProperties>
</file>