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F836-3FEA-4F70-B6F7-6959CFDC98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ABB-3A48-4972-AA2E-910412EAB8B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635B-409F-438A-88AB-4EB7964416D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427-3ABD-4B83-93D2-40913B506DF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F370-22DA-4D14-883E-961B340209D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BA48-7D44-457F-8ABE-AE0263CFB84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F8CF-0894-446C-AE2B-82161FF6CC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CC4-D680-4374-B0E0-C6006EC9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EE0-F026-427C-BB50-0716425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224-F472-455D-BAE4-1B5B4E08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CF3-0396-454F-8DE8-D624FE25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E4EE-040F-4563-888A-B901AD8C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473A-1984-40A5-8CFB-5E673005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920E-EAC1-4173-8EC7-E5568D73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B55F-D726-4275-8288-9698B09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855-3098-481A-B4DA-D0383AE6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E8F3-B0C1-4D6B-9821-D5907E12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B8FF-B863-42CC-BE3D-93FB113D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283-03A7-4C84-B33A-D658CA0E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5F2B-C3AD-43A0-9E93-F5FCC78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3538-297A-40CF-81C8-E474AFF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25D3-C5BC-492F-AFF5-7A57CFD1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3E92-9275-44B5-BA10-9333AF00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ACCD-9DDD-4593-99D2-BB92505B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5751-7A61-4DD5-85B1-BB7F36A3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C650C-3CCF-4D54-9B72-EC02275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D2C6-A264-448C-BBAF-8E24DBE2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DF98-2F60-4CAB-BD09-37350A4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6432C-4AD2-4EC6-9029-2AF0109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439-E93B-45B0-BC6E-10C9348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C4E0-6DCB-483B-8DB9-66999918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3BEB-F125-42BF-9E9C-9C1FC5C0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3743-878F-47E6-9BA8-5A79FBE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11B1-B9B5-4A03-8495-E744278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62CA-F2B6-4410-B211-F660803F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83BE-694C-4452-A99A-391A55B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10CE-AE30-4238-BB6F-058E985B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A9450-69A3-4973-9B68-30DBC5B1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07A15-8288-4EDA-A210-BC8D3DEF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898F0-2C12-44B2-9EF9-C88478AA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F0D-AA32-45F6-B57B-3A61968A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283A5-2F6C-43D7-A609-26C58910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F680D-A28A-43F1-8B19-91AB4AAF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642D-B406-4020-84A1-55D7ACE1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C2BA-3CF8-40FB-8439-4F24AB7A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507E8-EAC3-4D5B-911D-5B943AD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073E-1059-4931-A995-64F6F5E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B093-BA03-40F3-BE0B-2F3D69B5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FD28-7803-4A76-93FC-852DE612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1B20-2ABC-4CDD-BEDF-DBF7B04A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27816-834B-4971-8F7D-D3F3B9F9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061-2893-46E4-A484-DC61D714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019F-DABE-4D12-874B-4D9BA9B7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A7423-9D8D-494A-B9DE-0551E66E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7577-1790-4251-A0BD-9B5454A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958D9-78E2-423B-A6AD-841FFA0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DBF87-49B2-4452-B2AC-2DD73D80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E4301-F324-4579-9630-289C2DA6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4C5EF-36B0-4B27-B24D-DE11854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03CF-963C-4794-B904-C414180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290BA-AD2C-4DB3-8A55-16A93C3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C0F3-6880-48D4-8B38-265A6677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42D-9727-4FA8-8A26-9CE39FE9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94968-C5AC-4174-B407-4E36E319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EAEB-F46E-4E61-8498-5B3FE738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600A9-04BA-44B3-A567-B9CE1BFB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3761-8E1F-4269-AD78-70C8412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8825-A4D7-4D0D-BEDE-BF4FB69C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F458-A9BF-4744-8DCC-8B6DC59F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E1A84-5B03-47B2-A3B0-A910AC1E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7B64-468D-4206-8E99-02BC295F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4DAE-B7DA-43C4-BEE5-27F0F9A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20370-288C-4CD3-8F9F-47385DCE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EE8-7B6A-47A9-BBF2-C122E2B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D27C8-A3EA-4997-9336-9AA40256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2987-3F13-430B-83EF-8464FBA8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5C4A0-252E-4583-A72C-3EDA520A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DD6-94D5-493A-A963-E387FA2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687-FE3D-409D-88B6-C7059B56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81F0-8C50-4794-B312-D89759E3E29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52E9-EDAA-4898-BDCC-B622B2A574E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AA16-B6A1-43F5-B823-2F1AC154145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6B82-5EB9-4C65-9FD6-731178CDBC6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8DD5-786C-44CB-AC05-F48BEC5F7A6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F10E-DBFD-4843-9601-92E9CA5D8FB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earne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would pas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ied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uld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go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here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2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2.podmínkoá věta, spojka i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ain clause, if clause, verb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minul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dmínka neskutečná (nemůže nasta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= kdy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minulý čas ….podmiň.způso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call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492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had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buy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 leav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2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minulý čas ….. podmiňovací způso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idn´t com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uldn´t wai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55Z</dcterms:modified>
  <cp:revision>42</cp:revision>
  <dc:subject/>
  <dc:title>PRESENT  CONTINUOUS</dc:title>
</cp:coreProperties>
</file>