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3F2D-379F-4309-A481-6E333D38E63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EE85-4273-4B5F-B8A8-0A5A148A929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07BC-6182-41AF-8F90-EFC7F8FD8DC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F87D-E53E-4F2A-A935-5510E25DC45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7E3E-C84D-4BCB-AE96-AC46FE1CDCC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9B66-3F78-4477-942A-B58B0C9DC84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B6BE-DBD0-4DA4-8370-5D544A81019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F48-0931-45A4-A87A-AB7474AB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10A-8528-4DCC-9802-5F0E2768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835-A59C-41FB-8581-5C373F8B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54F5-7A8F-40A7-A019-8D5031CEB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B7D0-5216-4E87-A27E-09288AD3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06E8-77CC-4EBF-993D-D0A1A71C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A23E-EAC7-40F1-808E-983187F3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6BC1-795E-4F71-BBBC-3B26F2D9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F829-EEB0-4935-8F45-A3C66AA4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621A-106F-4DC6-90E6-9C775C4A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5FA9-2E90-492B-84DA-10BA2890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B974-5714-44B4-A4F6-16BCE86A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52E1-E153-4C43-8A5D-BD104C4F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992E-4F6B-4B1F-BE57-7AF93985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97F7-61DA-4FF8-ABF0-2114D15E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42B2-E3A3-4C30-AD6B-531A241C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B3EA-B9BE-48AA-8068-8C44FF8C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197CA-C951-403A-AF5C-73654FEA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22339-FD9F-4020-A15A-9AFFAEDF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8DCC0-50F1-4058-9AF6-B1BE6EB4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B904E-3540-4549-8128-44869FD8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DA1A4-5AE9-42F3-A752-17101F5C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02C-558D-41BE-8AC5-3CAF09BB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BDCFC-0919-4145-82EA-1590EBD4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229DD-2847-47EA-90B1-8B2B84F8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1A0CF-DC00-4ED8-905E-838D30D0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8A084-D5A3-47CC-9162-3C51559F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AD6A2-229A-4F63-B838-4EA4DEBB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C55BB-071A-4CD0-B29D-E2AAA5D5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FAA9C-B0DB-4A9F-94F4-EDB3570C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0FD8A-2ED9-48A6-802F-98415E7F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E1114-A244-4243-91AA-4801EF7C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9E924-99C4-476A-96E9-6BF6F8CA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FA80-DCC3-4D3E-BA8A-4C92E893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4AE3F-72F3-4E42-9451-0850524E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79099-7343-4EF0-A7EC-26C88E9F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E0F58-0BCD-4E7A-B968-882BFDCA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DB7AE-D2B4-4F20-95F1-BBB15E91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85919-5622-4DA6-9B51-F79C91B6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42AB5-DA17-4920-9307-A06BECBD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04275-9DAD-4639-9F4C-ECF2B4C0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64A8B-A17A-4054-BC48-84046B68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41F02-C9E2-4803-910A-2A7C0C9D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EAE17-355B-44AB-A7CF-8A8DE3B7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2C6-FDEA-4FB6-BBDA-08F11975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51DF4-F5AD-4525-91A6-89CD73D9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144F1-FDFC-4122-94EC-BDFB4FF9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29F11-CC8E-4B2A-A043-6287E3EC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F8E15-1CBB-49EB-A56A-1733AB77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E1047-EF51-40BF-A1A1-D74A67C6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66F3E-42B8-4824-A215-542505B5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C958B-40F0-4DE1-BCE6-30BA904E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9A2FC-5D07-4C38-B637-B3B883EE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D97BB-4CDA-4B1E-8EC2-A9E47D11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3338F-4B6E-4906-9008-9CBF62F6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8E60-6BD6-45EA-85E5-EEB22D49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59FE0-06E6-435D-B99F-D2E83E2C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D4334-4F48-4B9A-B1A5-988D1EE8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62DDE-ABD1-4033-862E-BBD626B2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0FC85-3740-4E50-B8CE-948E8B7B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13929-2F6D-426F-8645-34126E5D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E6447-F4F2-4361-9373-E41D56ED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877FE-FBAC-4703-9637-D310A2C3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82DDE-2C7E-48B6-934E-635012B0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338C5-9F9A-4AE5-860C-E0BF9329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821CE-684D-4DBF-8029-C2B72783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120-DD3E-45F9-9829-0E75822F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F3B48-6DAC-4E56-ADF7-73EAC556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980C6-D56F-47FE-98EA-9C53B962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BF1C1-15AF-4B2C-9136-0BEE83F8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AAF4-26A7-4492-A1AB-1CC7FB25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15B-C88B-4991-BBA1-C984D427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0EB5-52D5-4F9F-9D37-F12A675C07A2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3FFE-E3D6-4ECE-958F-9CEDABF48C2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A1E7-A7BF-4904-9E9C-E86D3AAD045C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C776-514F-4D8D-BA13-300A5BE635E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698F-AB29-4280-9471-AB3D87A0831A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37E2-1653-44A7-ACCE-DD18B59C619F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Put in the correct forms of the verbs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539640" y="2565000"/>
            <a:ext cx="806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,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give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 your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doesn´t know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t,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n´t help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learn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ard, 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pass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exa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hurry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n´t miss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tr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BE  CAREFUL !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539280" y="3645000"/>
            <a:ext cx="8209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přítomný čas ….. budoucí č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f they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AR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t home, we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ill mee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.podmínková vě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pravidel pro tvoření 1.podmínkové věty a správné použití slov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lovesa, podmínková věta, spojka if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verbs, if clause, main clau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10920" y="3645000"/>
            <a:ext cx="7848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spcBef>
                <a:spcPts val="1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ýká se budoucn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spcBef>
                <a:spcPts val="1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ínka skutečná (může nastat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spcBef>
                <a:spcPts val="1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IF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= jestliže, poku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F + přítomný čas ….. budoucí č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(if clause)    …..  (main clause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přítomný čas ….. budoucí č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have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time, I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ill call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přítomný čas ….. budoucí č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f s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has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oney, s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ill buy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přítomný čas ….. budoucí č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oesn´t come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ill leav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1.PODMÍNKOVÁ  VĚTA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539640" y="3645000"/>
            <a:ext cx="80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+ přítomný čas ….. budoucí č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oesn´t come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on´t wai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Put in the correct forms of the verbs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539640" y="2565000"/>
            <a:ext cx="806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meet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,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give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im your let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not know)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t, 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not help)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learn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hard, they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pass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exa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f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hurry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, 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(not miss)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the tr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7:13Z</dcterms:modified>
  <cp:revision>41</cp:revision>
  <dc:subject/>
  <dc:title>PRESENT  CONTINUOUS</dc:title>
</cp:coreProperties>
</file>