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A2D1-C4D4-4ACA-B2F8-54EC878814F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111B-1F0A-4FB5-B84A-BC1A26B9BD5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4D4C-D2C4-43E6-9998-76DBBB6D7EC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902D-2991-4DDF-BD4D-0580F1E0A37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CEB7-5B9C-4BA8-A878-924EB218B51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9825-C6E5-4370-A01F-36885CDA851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5234-558D-41C7-B090-454BA43A177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12E7-E33E-4895-A21F-7B21A7874BA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939A-4405-4DB9-A22A-AA7816E2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E06-01F0-4353-A824-E285164C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822A-D63C-4086-B7ED-03BE10EF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BCAC-9EC9-4338-8C59-0676FACB5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2F97-1DFF-46DF-A395-0A96FC01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7039-29D7-4203-BCBF-3AE71ECE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5CA9-318C-4093-B296-30568A9F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7CB3-51AE-4963-912F-8D44113D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253F-12D1-44C7-8A61-0D6FC48F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5452-E3B9-4E4A-B9A8-890AFAB7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3764-2F45-40E2-8B2E-D21950A0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07C1-73FE-47AB-9302-56C98687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52EF-B341-4FC8-A566-4C7B3819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7944-6E4A-4BAA-B9D7-E2CDE4BA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E35E-0634-4A5F-BA17-8D33E26A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C7D5-CD61-49B1-8426-B99EFD10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B4A7-3545-4CC5-9766-1B5C2901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6AE94-B358-43E9-BD72-BDE9390D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D2B4B-4AFB-4078-AB72-313DFB25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47C8A-DEFF-471A-A050-C9301AAA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E783E-0630-4575-87F7-74852B71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5068F-15BD-4738-B2E4-D1EC9FF4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7EC2-6927-48E8-9E82-FA6EA1B0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F8A71-A00D-4B42-9842-37DAACEA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88555-6082-4AF7-9549-F526E23B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650EF-1BE6-4E19-B5DE-702C5440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C8409-8A96-4A31-A137-BD2B8318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61DA7-2C76-4362-AB20-FDB35014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F51D4-CF8E-4579-8DD7-F0266920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23EF2-A604-4F9D-8C46-91DC5572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D03C0-265A-4A01-9558-711C5CCB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F5271-8B05-4F5E-99E2-C2BB1644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D283D-A7F5-46CA-8196-5B66E708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C261-0A70-4B2B-8D0A-96159BE1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F32F2-9F9D-4ED6-9F74-27B26E55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EBD4C-9AAF-4C97-A9A8-D45B8CB8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2B05D-5705-41EC-9E73-D2FCDCF6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4BDE1-90FB-47D5-9E5B-108EFFA8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99BDC-01C8-4952-924E-A50D9460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0B910-8D53-4CB4-8363-D916F6A0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2EA35-A022-44E4-B721-4E5AA53A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51B94-76EF-4562-A372-6638F4F5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31512-A585-4CA6-B60E-C4414B2B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36324-42BD-4AAE-A5C7-B94AFCBD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7AA5-9632-4BE8-A293-A0062CE0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242AE-949E-4EC3-8B5C-04F7B153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1DCAA-310E-47D7-96CF-E0D26767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E5908-DACD-4CE4-A720-32024BF7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7A52F-5F00-4E38-9230-83FAFB89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D6A62-1FCE-4A93-923C-933930DE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0C28A-9CFB-4F40-98D5-5EF27445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2AD39-B0F0-4947-883C-DCC72E5D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60BCF-07ED-4EA5-897C-D64B96D0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536E5-A8F7-4C76-AB57-1AFE2655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8C67A-41BA-4CAB-843C-C1C85953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C08C-0E1A-4E7B-98D0-04AFA453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1DE55-2867-4A57-976C-B933C4F1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8F9E1-57FB-4F5C-97D6-714EE46D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80F0D-96F0-463C-848D-9374CFF1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CEC20-D613-4D84-B8DF-20B68134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929F6-A678-49F0-8860-74CE5A7C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3B604-EC67-43F1-BC6A-C1607170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CE26F-E8C0-4E61-8095-50CBCBB6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7ECB8-A1DD-4E5E-9711-0C3AA4B3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919A5-3945-4883-A9BB-E7380697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381EC-6A8B-4F7B-ACD1-92729FE8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74EC-A91E-4AC0-9BE2-68D8C3BB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30551-3595-4407-B3EE-80D16A14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716C3-8081-4197-8C07-F24B693A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2B1FA-D825-406A-A32C-2B69B9FA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C77E-8BAD-4305-BD8C-BFD339AF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C06E-9F0A-4347-9B8B-29D01491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A220-530F-4CD1-92C2-171C3EDAA763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726C-FE43-46A3-90D9-44EF0E7AB0C3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41DE-2AF9-4102-9A2C-A5F53E42D187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0C4F-AC59-4348-B3E3-9EC0C09E66AB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02F6-10CD-45C6-AF69-0F80B19301C5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6A0A-205A-48D7-A352-348F8DD66980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AY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402920" y="3933360"/>
            <a:ext cx="6697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may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park my car her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may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spend all his mone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OPISNÉ  TVARY 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MODÁLNÍCH  SLOVE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68000" y="2781000"/>
            <a:ext cx="83516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can                   be able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must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have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may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be allowed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Šipka doprava 4"/>
          <p:cNvSpPr/>
          <p:nvPr/>
        </p:nvSpPr>
        <p:spPr>
          <a:xfrm>
            <a:off x="3564000" y="29480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Šipka doprava 5"/>
          <p:cNvSpPr/>
          <p:nvPr/>
        </p:nvSpPr>
        <p:spPr>
          <a:xfrm>
            <a:off x="3564000" y="3546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Šipka doprava 6"/>
          <p:cNvSpPr/>
          <p:nvPr/>
        </p:nvSpPr>
        <p:spPr>
          <a:xfrm>
            <a:off x="3557520" y="4243320"/>
            <a:ext cx="978120" cy="48600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MINULÝ  ČAS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MODÁLNÍCH  SLOVE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250560" y="2781000"/>
            <a:ext cx="85690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can walk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as abl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o wal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must wait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had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wait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may leave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as allowed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eav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Šipka doprava 4"/>
          <p:cNvSpPr/>
          <p:nvPr/>
        </p:nvSpPr>
        <p:spPr>
          <a:xfrm>
            <a:off x="2843280" y="28940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Šipka doprava 5"/>
          <p:cNvSpPr/>
          <p:nvPr/>
        </p:nvSpPr>
        <p:spPr>
          <a:xfrm>
            <a:off x="2843280" y="3573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Šipka doprava 6"/>
          <p:cNvSpPr/>
          <p:nvPr/>
        </p:nvSpPr>
        <p:spPr>
          <a:xfrm>
            <a:off x="2843280" y="421308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MINULÝ  ČAS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MODÁLNÍCH  SLOVE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250920" y="278100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can walk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asn´t abl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o wal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must wait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didn´t have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wait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may leave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asn´t allowed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eav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Šipka doprava 4"/>
          <p:cNvSpPr/>
          <p:nvPr/>
        </p:nvSpPr>
        <p:spPr>
          <a:xfrm>
            <a:off x="2843280" y="28940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Šipka doprava 5"/>
          <p:cNvSpPr/>
          <p:nvPr/>
        </p:nvSpPr>
        <p:spPr>
          <a:xfrm>
            <a:off x="2843280" y="3573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Šipka doprava 6"/>
          <p:cNvSpPr/>
          <p:nvPr/>
        </p:nvSpPr>
        <p:spPr>
          <a:xfrm>
            <a:off x="2843280" y="421308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BUDOUCÍ  ČAS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MODÁLNÍCH  SLOVE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250920" y="278100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can walk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ill be abl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o wal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must wait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ill have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wait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may leave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ill be allowed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eav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Šipka doprava 4"/>
          <p:cNvSpPr/>
          <p:nvPr/>
        </p:nvSpPr>
        <p:spPr>
          <a:xfrm>
            <a:off x="2843280" y="28940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Šipka doprava 5"/>
          <p:cNvSpPr/>
          <p:nvPr/>
        </p:nvSpPr>
        <p:spPr>
          <a:xfrm>
            <a:off x="2843280" y="35798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Šipka doprava 6"/>
          <p:cNvSpPr/>
          <p:nvPr/>
        </p:nvSpPr>
        <p:spPr>
          <a:xfrm>
            <a:off x="2843280" y="422100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BUDOUCÍ  ČAS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MODÁLNÍCH  SLOVE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250920" y="2781000"/>
            <a:ext cx="86421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can walk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   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n´t be abl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o wal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must wait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   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n´t have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wait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 may leave.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    I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n´t be allowed to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eav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Šipka doprava 4"/>
          <p:cNvSpPr/>
          <p:nvPr/>
        </p:nvSpPr>
        <p:spPr>
          <a:xfrm>
            <a:off x="2627280" y="28940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Šipka doprava 5"/>
          <p:cNvSpPr/>
          <p:nvPr/>
        </p:nvSpPr>
        <p:spPr>
          <a:xfrm>
            <a:off x="2627280" y="35798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Šipka doprava 6"/>
          <p:cNvSpPr/>
          <p:nvPr/>
        </p:nvSpPr>
        <p:spPr>
          <a:xfrm>
            <a:off x="2627280" y="422100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odální slov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modálních sloves a jejich opisné tvary pro minulý a budoucí č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odální slovesa, can, may, must, opisný tv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ODÁLNÍ  SLOVESA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vlastnosti, opisné tv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ODÁLNÍ  SLOVESA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0" name="Zástupný symbol pro obsah 5" descr=""/>
          <p:cNvPicPr/>
          <p:nvPr/>
        </p:nvPicPr>
        <p:blipFill>
          <a:blip r:embed="rId1"/>
          <a:stretch/>
        </p:blipFill>
        <p:spPr>
          <a:xfrm>
            <a:off x="689040" y="1968480"/>
            <a:ext cx="77724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ODÁLNÍ  SLOVESA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826560" y="3573000"/>
            <a:ext cx="741708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spcBef>
                <a:spcPts val="79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ají stejný tvar ve všech osobách čísla jednotného i množnéh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can, you can, he can, we can, you can, they c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ODÁLNÍ  SLOVESA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26560" y="3573000"/>
            <a:ext cx="741708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) Následuje po nich sloveso bez „to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must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go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e must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av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hey ma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a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here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he must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wai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ODÁLNÍ  SLOVESA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826560" y="3573360"/>
            <a:ext cx="74170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) Do minulosti, budoucnosti apod. používáme opisné tva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must            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I will </a:t>
            </a:r>
            <a:r>
              <a:rPr b="0" i="1" lang="cs-CZ" sz="3200" spc="-1" strike="noStrike">
                <a:solidFill>
                  <a:srgbClr val="7a7a90"/>
                </a:solidFill>
                <a:latin typeface="Times New Roman"/>
              </a:rPr>
              <a:t>must?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 will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have to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cs-CZ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cs-CZ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Šipka doprava 6"/>
          <p:cNvSpPr/>
          <p:nvPr/>
        </p:nvSpPr>
        <p:spPr>
          <a:xfrm>
            <a:off x="2411280" y="5119560"/>
            <a:ext cx="978120" cy="48600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CA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402920" y="3933360"/>
            <a:ext cx="6697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can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speak Englis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can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stay there overnigh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US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402920" y="3933360"/>
            <a:ext cx="6697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must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tidy my roo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must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help his mum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6:30Z</dcterms:modified>
  <cp:revision>39</cp:revision>
  <dc:subject/>
  <dc:title>PRESENT  CONTINUOUS</dc:title>
</cp:coreProperties>
</file>