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8041-64C0-4285-82A5-549A849EE66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5BDB-1316-4C12-9718-3AE9ABA8978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DEEA-0B6D-4948-90FA-DB61882A65A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8705-DA07-4846-B9FC-694EF649C19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AA34-E3BB-4133-9FB3-3D017933BD2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505C-5076-4BDD-85AE-6E98AEA18E4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AAE6-3816-4E45-B666-D726C0DEF9A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FE8-3DA0-4538-84A0-4D05E302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DDA-94E0-479D-ADB8-638C6611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B5BC-BC64-40DF-9F53-818D1644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2ADE-2D05-4C27-B8BF-074FC848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DAAE-AC0C-40D8-8480-22B0CB39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FB11-95CD-4C70-BAE0-CD391D88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ECCE-7213-4080-8ABA-56536023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BE2B-39A4-4871-8E8C-CDDB1C83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CFAB-167B-490C-B6FA-800B8D1D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E9C8-74C7-4539-B2CC-EC086E98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3D3E-C320-47CB-B545-C7CFE842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AB4-4467-40FD-8762-26815795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961A-7659-4AA7-9C3A-805ADCEC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71BA-69E4-4026-A762-8C51866E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46AB-47BE-4E6D-9F1B-5168D59C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0A06-D1CE-424D-A5A5-D0E06755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A7EE-E66D-48A4-8CEA-D063A2C4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1CF53-026C-4361-96F2-C35B967A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4A593-3735-47F0-8400-03859063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DA3AE-E1B2-49F5-9335-DAA76975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8C569-BA6A-49A6-A242-367CD1C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3265-A384-49FE-88FC-C42D4BBA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1245-1B2B-4A41-B511-DD877C7E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9EC1F-3B9E-4CE3-A508-1951ACEF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EEC7-47E1-408D-859B-9A6D3D6A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84FE-4558-4AA5-A259-F68A0598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F502-E4F9-4196-9B48-41F788D1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14CB-13C1-417D-ADBE-65E0BDC7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57AC-4BD3-4B8F-8BDD-654D6B77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97D6-D6DB-4782-BF3E-6BC73E24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E9EC-3F24-446F-B9E1-0023EE57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0A40-4C39-48DE-92A0-11C38A06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997ED-B391-4D6B-8B96-37B134A1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97A-D8C1-4E48-A218-F2BBDECB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BEBA9-146D-4D94-A59E-F5135F2D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9E221-9625-46F5-8B4F-255DE715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0301-7344-46BF-A42C-8C08328E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12E99-933B-4B38-8281-C3758120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2066-AA7B-4A83-B069-A4BB9A15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564BF-3D23-462B-A9D2-9BF97A0F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15FE5-2879-4BF1-A0EA-2EE61AEC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AA2C9-170D-413F-A282-CA698CE6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56F62-780E-45DE-A0ED-566290E1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B15DE-6DFB-4F95-A653-CEA4374B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718-9002-4203-A986-81864CC7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A0C5-F6A4-43B6-921E-7DD410CE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790E8-3096-48C9-8559-BE371E6F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5135-8D4D-4A2C-9999-E9533F9D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86C2F-F5DF-451A-B495-EBDD1E9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5FA2E-C76D-4E7C-9E38-B7E5888F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66214-7831-45FC-ABFC-07CAFF0F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A958-A176-48BA-86A9-AE29D0EB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50DC3-EBDE-466E-B9C7-16A2D29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DDC2-DD28-4EF1-9C55-797C1E51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2D161-7909-482B-B726-63FE7C09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4F96-6952-401B-AD91-E2D6EE1B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8B808-FBE6-4170-B651-7CC38285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6B564-D1E7-43CE-86A9-53E48467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C3752-A895-497B-9037-6C29322B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0A767-C83F-45C7-9CD6-282C0350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29C7D-1C32-45EA-97E3-A67B727B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043AD-A845-4635-9B4A-480DEDE2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FA994-B411-4761-A7FC-0B5075FC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5128E-17A8-4678-AE24-9FDD142E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AF9EB-49FE-45C9-92E4-15B71C7C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119F0-FDF0-4D0B-9847-67F09474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5C5-82E5-4F89-BDBA-4E2D5B05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2BF10-18B0-435A-82FA-23EB0E61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1C614-F465-4022-B65E-EAB2AD06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38677-707E-4733-AF48-D673EDE9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F36-A1EA-492F-B038-568F420B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9E35-257D-42BF-A445-D00CBA59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D9B2-721E-41C3-9839-751E8A04A9D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5275-F956-4375-81AC-8B69D12C845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B064-9D6A-4A58-81A3-8EA64C7A8A0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5BDB-646C-4911-A116-2038A9C0BAE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61B6-AC6C-4A1C-B7E1-743B1DF0879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834A-9AF4-48FB-B75D-475155309EE8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5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71640" y="3213000"/>
            <a:ext cx="7416720" cy="21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ow to read the time? </a:t>
            </a:r>
            <a:r>
              <a:rPr b="0" lang="cs-CZ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4:4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:5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8:40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1:3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:1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:25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8:50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9:0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w to read these dates?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3.8.197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4.6.1999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8.1.19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1.5.1333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2.4.1564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9.11.20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druhů číslov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druhů číslovek používaných v anglickém jazy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Číslovky, základní číslovky, řadové číslovky, násobné číslovky, desetinná čísla, zlom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ČÍSLOVK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hled číslove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ŘADOVÉ  ČÍSLOV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5800" y="1981080"/>
          <a:ext cx="7772400" cy="396252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ŘADOVÉ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f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ÁSOBNÉ  ČÍSLOV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5800" y="1981080"/>
          <a:ext cx="7772400" cy="396252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ÁSOBNÉ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ic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ur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ve tim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ESETINNÁ ČÍS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4360" y="1773360"/>
          <a:ext cx="7191360" cy="4668840"/>
        </p:xfrm>
        <a:graphic>
          <a:graphicData uri="http://schemas.openxmlformats.org/drawingml/2006/table">
            <a:tbl>
              <a:tblPr/>
              <a:tblGrid>
                <a:gridCol w="2661120"/>
                <a:gridCol w="218880"/>
                <a:gridCol w="4311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.ČÍS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CIMAL NUMB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4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4 = three point one 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,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.4 = one hundred and twenty three point fou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9 = six point oh ni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75 = zero point three seven fiv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LOM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1557360"/>
          <a:ext cx="7772400" cy="4363920"/>
        </p:xfrm>
        <a:graphic>
          <a:graphicData uri="http://schemas.openxmlformats.org/drawingml/2006/table">
            <a:tbl>
              <a:tblPr/>
              <a:tblGrid>
                <a:gridCol w="3598560"/>
                <a:gridCol w="57492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LOMK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ACTION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half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hir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ee fif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YJADŘOVÁNÍ  ČAS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85800" y="1981080"/>
          <a:ext cx="7772400" cy="3475080"/>
        </p:xfrm>
        <a:graphic>
          <a:graphicData uri="http://schemas.openxmlformats.org/drawingml/2006/table">
            <a:tbl>
              <a:tblPr/>
              <a:tblGrid>
                <a:gridCol w="3598920"/>
                <a:gridCol w="574560"/>
                <a:gridCol w="35989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Č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: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 PAST sev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: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f PAST nin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: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 TO eleve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: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tenth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: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VYJADŘOVÁNÍ  D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5800" y="1981080"/>
          <a:ext cx="7772400" cy="3814920"/>
        </p:xfrm>
        <a:graphic>
          <a:graphicData uri="http://schemas.openxmlformats.org/drawingml/2006/table">
            <a:tbl>
              <a:tblPr/>
              <a:tblGrid>
                <a:gridCol w="2014560"/>
                <a:gridCol w="216000"/>
                <a:gridCol w="55418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U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uary 1st   /the first of January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2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 23  or February 23r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.199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 6, 19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February the sixth, nineteen ninety-sev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…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…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5:31Z</dcterms:modified>
  <cp:revision>50</cp:revision>
  <dc:subject/>
  <dc:title>PRESENT  CONTINUOUS</dc:title>
</cp:coreProperties>
</file>