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1E8D-3B1C-4D84-9367-6CB288D2A7A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D1EE-B291-49A8-AE98-84B050FCB5A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BC32-9700-4A9C-B493-9B038AA83978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DCFF-60AB-44C7-A6F9-EC217215C46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E10A-42A2-4EF2-98B3-2823C08D013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DB42-89A8-4B3F-9215-2A18F9FFFD6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A1B0-D146-49B0-A063-9248225797B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83F-23E3-4E08-B2A0-CFCB9891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6AF-E43B-4D60-B56F-6E3D0898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789-450E-4FE4-80F8-F24DF803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566-6427-459E-B5DF-FA04E885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82A1-4BB6-4C59-A885-18AC7B8B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A3A8-1E1D-4C32-B8F1-B38027D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5FF5-46D3-4D50-AE6E-619A2ECE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1142-EDF0-4585-B9AA-B23F4789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E659-06AA-4177-BBC6-7C4997CF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8CEF-6A49-4027-AB70-3601B27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B93-54FD-4545-88A5-57BF777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F79-A3DD-43EA-8599-60AB7C7A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0998-0C6E-462D-9F1D-1798E944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BECE-8F41-4F50-9025-F2099251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0DCE-C251-4388-94F2-5CFFC20B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8B77-F1DA-444A-8688-CD9E81F9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0A3C-D69E-4515-A1CA-43B1698A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7057-E905-479F-BCF8-55DAC23A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7BCE4-2261-48E9-8AC4-B576D560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2C59-C6DC-4843-9D45-330B282C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B2118-78B1-4255-A1C5-72B2DFF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D9EB-10B8-4CC7-BE67-02E6A66E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728-0D11-4A48-B1C9-A6D7FE58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C6A0-0C4F-4656-8A29-3165EDB8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5E04B-4F30-4959-91F4-56F6F6A2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54BB-68E8-4856-B8B4-8B907F0C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3D5A2-AAAB-4D5A-A7E7-E9987687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DC5B-B5C4-44C5-BA90-52492BCD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C1745-691D-46C7-BEBD-781B71FB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4109-7FEF-4D42-8926-7F7A8538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8E7C-71E7-459A-B34C-F2FDCE98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CFC7-3B4B-4EC9-9A28-451B4721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DB8F-5C39-4CE3-BE0E-DC085724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B16-C6AA-48C7-A1ED-75855A7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84FFD-3D98-46EA-8E0E-AE4391E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C2C17-077A-461A-8DCA-30DE3212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3754-552C-40BD-83BA-EC516DC9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D427-05B1-45F4-BD06-3B3D40D6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B068-CD68-4E87-9D4A-6A5A206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2264-FA22-4700-9258-79B6380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5D94-1AD9-415A-8D4B-845BDEB7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FE0B-779F-4C66-9556-EC80DE8F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63C4E-FEDE-4F68-BC14-84EF6DCF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AC0A-985D-4D2D-B151-C34CF982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0D9-FB0E-43FD-9338-10769FBA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A7422-E299-436F-AD14-73C9A0F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5E94-E23D-446E-A0CF-6DC21C27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8D3FA-D839-4737-8FF7-9829026A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B707-372C-4CF9-984F-C543AC0D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9929-372B-42E7-BCAC-BBBBDC94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6EC2-EE0A-4253-B4BD-B0186134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C4914-015F-4593-8722-619AC02E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C43A-C95E-407E-A433-006A5F6B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B0EA2-B71C-42BE-8BCA-F4F20319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75C7C-B1EC-4055-988D-31089BA8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86A-6A9A-4BE9-9876-EC89876C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370E-BE1D-4EDE-BEAF-BF642D2C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37C86-9682-4EE6-8463-FAFEB3B2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4890-9068-47C0-8C2F-D4EF49D9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8887-BAA5-4353-A25B-19CFD4BE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BEEE5-A09B-485D-B747-2774603F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F96D-F926-4AA9-BCFA-9251F36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E11F-A88F-4C9F-A17C-30889A7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FC9F5-454A-4D5B-9D2C-8F3BA17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96320-5CE1-4DCE-BBC9-B9695FB8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32091-7835-4310-B7F9-8A865CE3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05F-64F3-422E-85CF-9D15717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9CFF7-FDC5-474D-8100-C2754D51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49B80-0B3F-4B1A-8DA6-912FCAF8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0393-55FB-4A7E-BEB1-641E7E39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804-A700-48BA-80CA-882EA43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36A-56EB-44EB-B5B8-346DCC46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B572-5F22-4112-A25C-D554EC8249E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877D-90C6-4E2E-8023-6AF173AEEC5B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DD36-E412-40BA-B43D-1647CF8502D4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3DE2-B446-4F3B-AB3C-DB92853062F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4806-3FAD-4919-8631-FCC079006A1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1C5F-5E3A-48DE-8308-FC0D2C09B9A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2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VZTAŽ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4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NEURČIT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46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ÁZACÍ  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ICH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EN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Y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HOSE?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2920" y="3068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WHI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What colour d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col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you like?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do you lik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ed or gre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……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….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……..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……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for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his present is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ou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idea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bought this present.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(we)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hled zá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druhů zájmen používaných v anglickém jazy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Zájmena, osobní zájmena, přivlastňovací zájmena, ukazovací zájmena, vztažná zájmena, zvratná zájmena, tázací zájm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ZÁJME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hled zá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she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SOBNÍ 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4.pá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, her, i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0920" y="38088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IVLASTŇOVACÍ ZÁJMENA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(stojící samostatně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s, hers, it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ir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VRATNÁ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84360" y="2276640"/>
          <a:ext cx="7772400" cy="365760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mself, herself, itsel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mselv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UKAZOVACÍ ZÁJME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84360" y="2276640"/>
          <a:ext cx="7772400" cy="3109680"/>
        </p:xfrm>
        <a:graphic>
          <a:graphicData uri="http://schemas.openxmlformats.org/drawingml/2006/table">
            <a:tbl>
              <a:tblPr/>
              <a:tblGrid>
                <a:gridCol w="3670200"/>
                <a:gridCol w="503280"/>
                <a:gridCol w="35989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tné číslo  (singular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ožné číslo  (plural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4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s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t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se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4:34Z</dcterms:modified>
  <cp:revision>43</cp:revision>
  <dc:subject/>
  <dc:title>PRESENT  CONTINUOUS</dc:title>
</cp:coreProperties>
</file>