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7908-48F5-450F-8C0C-587C9D2F127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CFE1-4116-4759-BBA7-BB7824773DC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EBA-4BE5-483A-911F-B44DA58C628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CC70-8335-4AF4-B195-683D7183767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1749-C8F1-4F29-BA27-8CB3090ABE4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439-C021-4DAF-BEC0-3198EEB3C78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EB34-01D7-492B-A57E-356CB17F5BC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358-0BA8-4F27-95C6-4756F77C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A99-5BCC-44BE-93DB-8BB3197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6C2-132C-4601-BE3F-1768A25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716-243D-45BA-966F-7469A3D5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1E39-4800-4BEE-8425-8ED3605C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A577-3827-4456-B3B0-DE74DF36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9571-2DAD-44F5-AD84-BE42B246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0493-3D18-4DFB-9EF8-B2DBCE71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DFCD-CDA6-4D87-8176-B1BFACB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B2C6-9361-4ED8-A6AF-C367A81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A89E-6D9E-4C2E-B0C0-F7D80D1C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DCBF-4FAF-4467-BE7F-1C2538E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AE8F-B2A5-4C7E-B56E-A13D247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D3D7-C6DB-4997-8D20-558AB9DC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A5FA-F465-4D6A-B9FA-76DC9B41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E664-9C2B-42F9-B660-831CDBBC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F4D0-6238-43D1-8514-8AEB6927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D201-CAD9-47A8-80CE-418A9E6C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6BAF-B372-4DCA-B2EF-8F82FBE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1721-9FFA-4867-A8DE-A217DAD3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613E-502A-4CB0-8B8E-D40AE354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2BFF5-3F8F-4B52-A69A-3E873BC0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124-F626-4F8A-A753-307F07E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A48E-49FC-444C-8AF0-7F84D2EA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51EE-B173-4A41-904D-6B7C3B1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0FCE9-ACF4-4B82-A7D3-31E670B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9142D-C096-4577-9D04-42D1279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F157-2E37-4CAE-927E-F8D48457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93F78-5EC7-45D0-85D0-030F9830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3AC56-C19B-4E0E-9C85-63DBB7A7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EF790-2475-406A-9FDE-181BBAA5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4FDFC-53B0-47AD-B474-88E75FA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AAF96-A606-410F-804C-266BCDF4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970-D13F-4AF9-8545-7213C65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59A2-E808-413F-B66D-0EDDD0C3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E591B-F3E6-4D0D-8E30-812B3796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47B9A-6232-4A96-8C01-908F4067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47DE6-2E16-4DF2-9689-689294C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61C0C-8488-4418-999A-77142AF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F91C-420E-4466-BE51-E58F0C2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EB88-A7D7-4217-BC35-59E4C1AD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227F5-A809-4EF0-8774-CCF75CF9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F653-2BBD-4E11-B267-89511D4B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741F-468D-47BF-BF06-8305D6CE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C96-A296-4EEE-ADAA-FA354159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C3698-94ED-4E2A-AD80-2B5F27A1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2666-763A-49EA-85C7-7F9A32B4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E7A80-9242-4CFF-92B1-9E2EF02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9507-28AF-4D62-9B6A-9EF6BDE0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68BB-033D-4483-9E2E-54261EDC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7FA14-F02A-4D56-B430-A179EE4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7588-D5E5-4A2A-B88D-35035EA3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D9E7-BA44-4C68-841F-7DDA85AC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D92ED-6E7C-4286-8762-90448BB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B42D-244E-4741-941A-C5C26E20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9B6-A837-456B-A298-416D0AF6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A2C7-519C-44A3-809F-903A7DE9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55F3D-55B2-41A4-8557-F89099E1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38878-54D4-42D6-B327-056703CF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82134-8609-4078-9EBA-AA9059A1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4B2E-C9E0-47D1-9B33-EDCBCF16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C5443-03A5-41B2-BC42-8FABF9F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071E4-1096-40A2-8918-3A1C9566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DBAA-162D-4975-BF0C-E923A174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8079-F4B4-4438-9871-8301D295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6B41-1F28-4109-A9D0-215922DE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1A7-F4ED-4573-9103-2727E70E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BF85-D6CE-4F67-ADFF-B8CF05B0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E35AD-8EFA-4BF2-868A-61C801F7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449BF-E7BD-4A41-BCB9-47B77EAB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EC12-2898-49DD-AC12-7909B12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52B-150C-4587-9DDC-A4CB6C2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A4BF-ECB8-419B-8228-77ABFB45C68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ED47-8C08-4ED0-B9D4-D56ABB6422D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455B-5B32-41AE-A4EF-E7FA2F97C98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85A1-26C4-41EE-B12A-D9ED8F2ACE5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9967-A98C-44FA-8F55-C3997048B2B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05C8-8B34-4727-A98F-B501B2236A8E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ake opposites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83800" y="218448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pula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ssibl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cisiv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167360" y="24494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167360" y="3268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167360" y="400536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4145040" y="48848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edpon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předpon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předpo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opposi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edpony u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ŘEDPONY 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797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m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349000"/>
            <a:ext cx="7488360" cy="30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m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a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513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6728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42100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olera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pend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1164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11640" y="3441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ir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lia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g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r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sponsib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5336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7280" y="33512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81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un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313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uc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  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un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098960" y="2490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098960" y="3305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40360" y="4081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dis-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097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aith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oy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  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i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n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38640" y="25146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0200" y="33019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0200" y="407664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2:53Z</dcterms:modified>
  <cp:revision>41</cp:revision>
  <dc:subject/>
  <dc:title>PRESENT  CONTINUOUS</dc:title>
</cp:coreProperties>
</file>