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8427-B17A-442B-95D1-F236E223FDB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4721-244F-4CFE-B98D-CE22BF8A17F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4E75-3216-4D00-BD54-193A27654C9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F82E-6ADC-4D84-AF23-9CE0AF0E32C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9BAA-31A6-4E50-B1E1-FA5DAAA29916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0311-BEE5-4B9E-9DC2-FEB5AEA7057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6465-F690-42F0-9E29-FFD107312CE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004A-6D56-4C1F-8238-781A4166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E44F-A7C3-41D9-B1F9-E05C9437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ABD-DFA0-4D0F-9444-F7746383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09AC-1FAE-458D-9249-BBF89600B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82F6-A38B-408A-A266-5904CF85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2A24-BDD0-44FF-A94E-294184CD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791F-A835-455C-884D-E2F85B5A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2C31-5541-4E0A-8892-E89B54FE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CB26-61D2-4BCC-BA86-A72EEF4F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F24E-1CB7-4C3E-ACF7-3C47BC30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2A64-C5AF-4656-980B-102B1C49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99D-08B9-470F-8E2D-D9C71DDF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1A48-7813-4EDF-B821-3F1C42F2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DC9F-65D8-48B9-A945-FA2DAEE5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2948-FD2B-4016-B659-CB2F8981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4748-7440-45CD-8CFA-33BE0803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3F06-2B33-47CD-A556-768ABD3D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A5E0A-83A5-4600-AA22-BD0C0DE7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9E7D4-05E2-4BE5-BC27-30A2CB96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AFA21-6C0E-40FE-8D43-99DE89A1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0A301-D636-4A64-B823-F8E8AEE6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376A0-C7E3-4797-894B-FFC9E4AF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C2D4-F7C8-4BF2-9F56-F899C173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84030-468A-47C0-AED7-194CF95E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AAD70-2402-4ACC-AC0B-6920772D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478F9-ADB6-4D23-8538-5E6A853B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8E948-C36F-43A0-9C49-9FC5CF98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7A2DD-F012-4C6F-BA94-3D99F76E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A46C-E0EB-4628-AFEA-87B95CE4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D7FD8-570D-4AF0-B771-B84E17EC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1A507-EFA0-40A4-969B-3470BAB5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0BD15-0C3C-4F04-B706-745EE5DC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685F8-343D-4419-ADD4-EA70F912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D47-8CC7-4515-BF0A-C03A0B2D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08463-E5E7-42C7-8A7C-B3C15022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9C7B6-222F-482B-9E37-4B3336F2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A82F1-8CAE-4A17-A605-BBBA84A7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2F4FF-BB6A-4EEF-B76B-65FC0677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E71AE-6C93-4CA4-9EFF-892170F6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547B5-EF1F-444D-8089-DC6689E1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F05A1-DEED-4C6A-963A-50388238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74F88-4EB8-4FDC-9F95-01EE3490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9B80C-9754-4290-A59C-3055E389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A7D63-DC09-46BD-A864-008D1FF1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A72-1389-4BB2-8650-185E4926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76EB8-90E0-4CF0-B2B9-A009EE85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BCEC9-BA65-4676-B23B-E1A5454E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C7FDD-0A5D-41AF-BF15-75916322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B5D30-6731-45A4-AD1C-A8F0DEA1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A2E9D-EF0B-415B-A836-50B6268C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6E6B2-256B-4AF9-8668-947DB468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9C786-5CE0-45C6-ACCF-4410509D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1A7CE-2F69-4DA6-8E8A-210C7B81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28965-DA81-4C33-9967-6266ADF1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D6BF6-07E2-4594-B82C-2B954569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A3B-06AE-4948-9295-8EF846A7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9EE23-78BF-4D31-AC8B-46C15FF8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AF6DE-40E5-44E4-9FBA-0E36B7F4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35CAF-2709-4756-94D0-4FB58F8F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73554-25E2-4D13-B120-AEB8D574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3BBE7-008E-4155-A1B0-7295AC17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72C80-2870-485B-979E-251F963F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F37E7-FF13-4F87-893D-0A47B5C9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A3097-6446-45B1-AE54-B4E0F27A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302F9-B11D-44B2-8B56-B293ADC5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91CAC-5A72-4218-B411-C47A9A17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B10F-0476-4D56-8A65-11599A37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7D2A9-EEC2-4E07-BB57-4692FC46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B6A66-BF1C-4793-B848-5D175F42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529B7-F63F-4DA5-82EB-78C90036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FF79-973E-47CE-AA90-B865A257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1C29-284C-4AA0-8EEE-EFA47CDF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D5CB-EED6-476E-B259-F7FF25AC910D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0B40-5AAF-4011-BB2D-C5FAA89129E6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B303-B2B2-450E-B4E4-1568DF53A579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970D-8E0A-4BB6-A8BD-5DE6C443AAA9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D475-CBE1-470F-90DB-F871603C7ECC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873B-A010-40CA-8008-9151E2B6ED69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les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899640" y="2349360"/>
            <a:ext cx="7488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ain  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pai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l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ear 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fear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l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use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use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l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Šipka doprava 4"/>
          <p:cNvSpPr/>
          <p:nvPr/>
        </p:nvSpPr>
        <p:spPr>
          <a:xfrm>
            <a:off x="4211640" y="2565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Šipka doprava 5"/>
          <p:cNvSpPr/>
          <p:nvPr/>
        </p:nvSpPr>
        <p:spPr>
          <a:xfrm>
            <a:off x="4211640" y="3357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Šipka doprava 6"/>
          <p:cNvSpPr/>
          <p:nvPr/>
        </p:nvSpPr>
        <p:spPr>
          <a:xfrm>
            <a:off x="4211640" y="414972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920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ut in the correct ending: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899640" y="2349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onder             .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noise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......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shade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ilarity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Šipka doprava 4"/>
          <p:cNvSpPr/>
          <p:nvPr/>
        </p:nvSpPr>
        <p:spPr>
          <a:xfrm>
            <a:off x="4067280" y="25225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Šipka doprava 5"/>
          <p:cNvSpPr/>
          <p:nvPr/>
        </p:nvSpPr>
        <p:spPr>
          <a:xfrm>
            <a:off x="4027320" y="335772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Šipka doprava 6"/>
          <p:cNvSpPr/>
          <p:nvPr/>
        </p:nvSpPr>
        <p:spPr>
          <a:xfrm>
            <a:off x="4027320" y="4149720"/>
            <a:ext cx="978120" cy="4856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Šipka doprava 7"/>
          <p:cNvSpPr/>
          <p:nvPr/>
        </p:nvSpPr>
        <p:spPr>
          <a:xfrm>
            <a:off x="4027320" y="4905360"/>
            <a:ext cx="978120" cy="4856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Koncovky přídavných 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nejčastějších koncovek přídavných jmen včetně pří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řídavná jména, koncov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n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58560"/>
            <a:ext cx="7772400" cy="18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PŘÍDAVNÁ JMÉNA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71640" y="36450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Koncovky přídavných j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KONCOVKY    PŘÍDAVNÝCH JM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0" name="Zástupný symbol pro obsah 5" descr=""/>
          <p:cNvPicPr/>
          <p:nvPr/>
        </p:nvPicPr>
        <p:blipFill>
          <a:blip r:embed="rId1"/>
          <a:stretch/>
        </p:blipFill>
        <p:spPr>
          <a:xfrm>
            <a:off x="676440" y="1981080"/>
            <a:ext cx="7802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y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99640" y="2445840"/>
            <a:ext cx="7488360" cy="30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ess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ess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un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un</a:t>
            </a: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it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it</a:t>
            </a:r>
            <a:r>
              <a:rPr b="0" lang="cs-CZ" sz="4400" spc="-1" strike="noStrike" u="sng">
                <a:solidFill>
                  <a:srgbClr val="ffffff"/>
                </a:solidFill>
                <a:uFillTx/>
                <a:latin typeface="Times New Roman"/>
              </a:rPr>
              <a:t>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Šipka doprava 4"/>
          <p:cNvSpPr/>
          <p:nvPr/>
        </p:nvSpPr>
        <p:spPr>
          <a:xfrm>
            <a:off x="4067280" y="2637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Šipka doprava 5"/>
          <p:cNvSpPr/>
          <p:nvPr/>
        </p:nvSpPr>
        <p:spPr>
          <a:xfrm>
            <a:off x="4097160" y="348624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Šipka doprava 6"/>
          <p:cNvSpPr/>
          <p:nvPr/>
        </p:nvSpPr>
        <p:spPr>
          <a:xfrm>
            <a:off x="4067280" y="4265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iv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99640" y="2781000"/>
            <a:ext cx="7488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attractivity              attrac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naivity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na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negativity                nega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Šipka doprava 4"/>
          <p:cNvSpPr/>
          <p:nvPr/>
        </p:nvSpPr>
        <p:spPr>
          <a:xfrm>
            <a:off x="422604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Šipka doprava 5"/>
          <p:cNvSpPr/>
          <p:nvPr/>
        </p:nvSpPr>
        <p:spPr>
          <a:xfrm>
            <a:off x="4226040" y="37767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Šipka doprava 6"/>
          <p:cNvSpPr/>
          <p:nvPr/>
        </p:nvSpPr>
        <p:spPr>
          <a:xfrm>
            <a:off x="4226040" y="458136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ic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99640" y="2205000"/>
            <a:ext cx="7488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organism              orga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enthusiasm               enthusias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istory                histor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Šipka doprava 4"/>
          <p:cNvSpPr/>
          <p:nvPr/>
        </p:nvSpPr>
        <p:spPr>
          <a:xfrm>
            <a:off x="4067280" y="2421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Šipka doprava 5"/>
          <p:cNvSpPr/>
          <p:nvPr/>
        </p:nvSpPr>
        <p:spPr>
          <a:xfrm>
            <a:off x="4060800" y="3213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Šipka doprava 6"/>
          <p:cNvSpPr/>
          <p:nvPr/>
        </p:nvSpPr>
        <p:spPr>
          <a:xfrm>
            <a:off x="4060800" y="403380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ou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883800" y="2244240"/>
            <a:ext cx="7488360" cy="28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advantage            advantage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o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onotony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monoto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ous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ury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uri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o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Šipka doprava 4"/>
          <p:cNvSpPr/>
          <p:nvPr/>
        </p:nvSpPr>
        <p:spPr>
          <a:xfrm>
            <a:off x="4121280" y="24382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Šipka doprava 5"/>
          <p:cNvSpPr/>
          <p:nvPr/>
        </p:nvSpPr>
        <p:spPr>
          <a:xfrm>
            <a:off x="4121280" y="31924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Šipka doprava 6"/>
          <p:cNvSpPr/>
          <p:nvPr/>
        </p:nvSpPr>
        <p:spPr>
          <a:xfrm>
            <a:off x="4121280" y="393372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ful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99640" y="2349360"/>
            <a:ext cx="7488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beauty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beauti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u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colour       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u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meaning            meaning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u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Šipka doprava 4"/>
          <p:cNvSpPr/>
          <p:nvPr/>
        </p:nvSpPr>
        <p:spPr>
          <a:xfrm>
            <a:off x="4211640" y="25480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Šipka doprava 5"/>
          <p:cNvSpPr/>
          <p:nvPr/>
        </p:nvSpPr>
        <p:spPr>
          <a:xfrm>
            <a:off x="4211640" y="3357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Šipka doprava 6"/>
          <p:cNvSpPr/>
          <p:nvPr/>
        </p:nvSpPr>
        <p:spPr>
          <a:xfrm>
            <a:off x="4211640" y="414972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3:56Z</dcterms:modified>
  <cp:revision>38</cp:revision>
  <dc:subject/>
  <dc:title>PRESENT  CONTINUOUS</dc:title>
</cp:coreProperties>
</file>