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D42E-2C45-4562-AE2A-6233A7CC517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17AB-160D-48F7-B4BB-7361A9DD0C0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7BC5-2853-414F-BF78-A905FE47A51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51C9-9CD0-4DC8-AF8D-D1795FEBD01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722B-F609-4B81-862D-1DD8732A58D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63E-4357-4A7D-A16B-EDF779B0AAB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C587-31B0-4527-AD1C-B00C3DB3218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693-A273-4CC1-B3F7-A80AC154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1CF-7706-432C-A698-6625F8CA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AA0-7452-40DF-9B58-E5B8D0CC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786-45F1-4B94-83EA-55DB2A05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F774-E8FC-4F80-9E60-A16783E5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86F3-A2E2-415B-B4C6-7C6C72C3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1D14-32C4-4D19-92E3-5E3974C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7F47-3EB8-4D2D-9880-7F1FE71F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3977-3960-4E0C-89E6-73D96BD6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B4CD-9EE4-4A11-BC9E-033FB59B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E6DB-678C-45F5-92EC-706D2E1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AEB-98C7-4D37-8738-11FCD086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2A3A-749B-44B3-AB2B-953408F9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7B20-9B1A-47BA-BBBD-A9F9A3E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24F1-0240-4FA3-98C5-CCE7EF13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0229-1066-4526-908C-C7E35982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B232-82C7-4A9F-808F-1716EBA8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4BBB-3960-4577-BF06-1581A9FF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9021B-1D1C-401C-9B35-8A72A7A2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EC03-2BB8-4C9D-85DC-496C16BB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F515-5302-4F94-BCA6-DFC4C61D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F0C3-3C9B-4C48-950F-13DBA67D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568-A2ED-482D-B6F3-7E5F9123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CF0F0-B84A-490B-8CDB-202FA055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B2E3-920D-436E-B6B1-1D703B3D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9318-78FF-4062-9D91-B4966446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24FDA-7525-4CAC-9C2F-B4BC7C64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F6647-16F2-4A97-80C6-FF7850D7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6344-45E8-4E08-9413-0D1BB215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1EE7-9B2C-48DC-80C2-30C72619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2D42-CBC6-451E-B9D7-266D8619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58163-A9CA-47DD-AA52-C3334D1B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B14D-FDC9-4BF7-A6DF-92B9F137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088-BD3F-4144-A309-3ABC6C0D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327C-0A56-4403-B173-629C2B4E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88A8-1497-4747-B6FC-C0EE9905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506F5-33EE-4A2D-BABC-93CF9EA0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8FA0-70DE-4794-8465-123088B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B075B-7141-4903-9B23-06E0F4B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92302-E031-4EA5-A1F0-9ED6BE66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97FB-2D12-4766-86B4-B4F124D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3CC3-70CA-4B64-AA71-A109843D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1640-83B9-4932-8833-D842AB6B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4031-B75A-480D-B191-5E752D6B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B35-CB72-45DE-A62E-886C2D27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64CF6-8268-4538-B3A8-5AFDD6FA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8C91-C66A-40A4-B2A9-4900BCA0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618FE-49F2-40EA-90DF-930D72AC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ED4B-B8F1-4462-B064-ACF4277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8F0D-0D76-48FD-8F30-FE1EC581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63792-A42B-4519-AE77-04BDE22D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12F8F-4AEB-4619-B2A5-D573C0B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CF76E-8E9F-4D6F-8290-B68CE827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69062-913C-4559-87BD-1513A01C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112E-4FE1-4E92-ADEE-67E6AF2B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A65-B93F-454A-A0E2-8D66145E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9BB25-1FF1-4CD7-B02B-426D2F6B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AE8C-B9E5-4B37-92D0-60320A63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ED500-D784-4280-A695-ADDFD26D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B202-CCC9-4374-A9A2-5433F27D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CB79-8D78-4ECB-968B-4627DABD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DECDE-9E3A-4AE2-B6B3-BEA097A8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D6F25-10AD-4013-BB53-DD9ABFA1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08665-F429-4A49-ABB3-48C18D2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74B6-C885-47AD-A691-FC3449D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8D7E-E184-4A49-A932-5AD46BDA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6D8-5A23-4D63-832A-719418D0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06DB-1272-479A-ACE2-EF4ED645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36239-947A-4DFD-BB74-6D650E4F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9E67C-7A97-4C0F-B32C-6B434C9D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ADC-976C-41A6-95C9-ADB3043A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382-B0E3-4586-B02F-8B542455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98E6-6ABF-4252-A994-7D3110A7301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A191-14B6-4A31-B820-175028F5643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3720-1269-4D89-8604-C58D31FDA3A0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D238-A674-4EE9-8DE2-28A1B8B26A6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ED64-4567-4699-A464-E0139C4DD2C7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DF5E-8A1E-4517-BCD9-E0F6B903901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wor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fur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furth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ake comparatives and superlativ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3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mportant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t     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oisy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all                            …….                 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Šipka doprava 4"/>
          <p:cNvSpPr/>
          <p:nvPr/>
        </p:nvSpPr>
        <p:spPr>
          <a:xfrm>
            <a:off x="2916360" y="29480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Šipka doprava 5"/>
          <p:cNvSpPr/>
          <p:nvPr/>
        </p:nvSpPr>
        <p:spPr>
          <a:xfrm>
            <a:off x="291636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Šipka doprava 6"/>
          <p:cNvSpPr/>
          <p:nvPr/>
        </p:nvSpPr>
        <p:spPr>
          <a:xfrm>
            <a:off x="2886120" y="424332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Šipka doprava 4"/>
          <p:cNvSpPr/>
          <p:nvPr/>
        </p:nvSpPr>
        <p:spPr>
          <a:xfrm>
            <a:off x="6012000" y="2933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Šipka doprava 4"/>
          <p:cNvSpPr/>
          <p:nvPr/>
        </p:nvSpPr>
        <p:spPr>
          <a:xfrm>
            <a:off x="6012000" y="35528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Šipka doprava 4"/>
          <p:cNvSpPr/>
          <p:nvPr/>
        </p:nvSpPr>
        <p:spPr>
          <a:xfrm>
            <a:off x="5979960" y="42703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Šipka doprava 6"/>
          <p:cNvSpPr/>
          <p:nvPr/>
        </p:nvSpPr>
        <p:spPr>
          <a:xfrm>
            <a:off x="2867040" y="48816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Šipka doprava 6"/>
          <p:cNvSpPr/>
          <p:nvPr/>
        </p:nvSpPr>
        <p:spPr>
          <a:xfrm>
            <a:off x="5951520" y="488160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upňování přídav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pravidel pro stupňování přídav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tupňování, přídavná jména, comparatives, superlatives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ŘÍDAV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tupňování přídav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STUPŇOVÁNÍ PŘÍDAV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689040" y="1968480"/>
            <a:ext cx="7772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Krátká přídavná jména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351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rong             str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r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st                 fas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fas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ong                l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on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ght                ligh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ight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2050920" y="294804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2050920" y="3546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2050920" y="424332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Šipka doprava 4"/>
          <p:cNvSpPr/>
          <p:nvPr/>
        </p:nvSpPr>
        <p:spPr>
          <a:xfrm>
            <a:off x="4932360" y="293364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4"/>
          <p:cNvSpPr/>
          <p:nvPr/>
        </p:nvSpPr>
        <p:spPr>
          <a:xfrm>
            <a:off x="4897440" y="3546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4897440" y="422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6"/>
          <p:cNvSpPr/>
          <p:nvPr/>
        </p:nvSpPr>
        <p:spPr>
          <a:xfrm>
            <a:off x="2050920" y="488160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4897440" y="48974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Krátká přídavná jména</a:t>
            </a:r>
            <a:br>
              <a:rPr sz="6000"/>
            </a:b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(pravopisné změny)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arge              larg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ig                 bi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ger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g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ea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              eas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eas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r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y              gr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r             th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re</a:t>
            </a:r>
            <a:r>
              <a:rPr b="0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2268360" y="29242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2268360" y="3548160"/>
            <a:ext cx="978120" cy="482400"/>
          </a:xfrm>
          <a:prstGeom prst="rightArrow">
            <a:avLst>
              <a:gd name="adj1" fmla="val 50000"/>
              <a:gd name="adj2" fmla="val 5022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2268360" y="4265640"/>
            <a:ext cx="978120" cy="485640"/>
          </a:xfrm>
          <a:prstGeom prst="rightArrow">
            <a:avLst>
              <a:gd name="adj1" fmla="val 50000"/>
              <a:gd name="adj2" fmla="val 4988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Šipka doprava 6"/>
          <p:cNvSpPr/>
          <p:nvPr/>
        </p:nvSpPr>
        <p:spPr>
          <a:xfrm>
            <a:off x="4908600" y="420372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Šipka doprava 4"/>
          <p:cNvSpPr/>
          <p:nvPr/>
        </p:nvSpPr>
        <p:spPr>
          <a:xfrm>
            <a:off x="4908600" y="29242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4908600" y="35481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4"/>
          <p:cNvSpPr/>
          <p:nvPr/>
        </p:nvSpPr>
        <p:spPr>
          <a:xfrm>
            <a:off x="4908600" y="4869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4"/>
          <p:cNvSpPr/>
          <p:nvPr/>
        </p:nvSpPr>
        <p:spPr>
          <a:xfrm>
            <a:off x="2268360" y="48927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inter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most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teres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Víceslabičná přídavná jména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more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most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Nepravidelné stupňování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99640" y="2781000"/>
            <a:ext cx="7488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1:36Z</dcterms:modified>
  <cp:revision>38</cp:revision>
  <dc:subject/>
  <dc:title>PRESENT  CONTINUOUS</dc:title>
</cp:coreProperties>
</file>