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73B9A-C480-4492-8A6D-E6C3133DA77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53E20-BF51-4FBA-B803-327E2D11939D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B06B0-7160-4820-8015-15555A7713EC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1E0AE-F21F-4AB7-BAEE-D5F85E1E92B5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6E700-AC16-4E8B-985B-4849451BD08B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B01AF-A325-46C7-8B93-CC0D41E6654A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568CC-0994-44EB-8F1C-32654632B875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E56B-2994-4F6C-9A9F-8376DC098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2EE9-D541-4EE5-8E3B-E78507D01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F6D0-26E1-4206-AB60-5FC3995A9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6689-1B4E-4334-95FE-50A623B1C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3AA5F-3F92-42E0-AC37-2A8998660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E25BC-CB4C-4B77-B0ED-92A880C24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0983E-E9D2-42F8-9052-D7A0646E8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3FF83-BA81-42C7-B1FA-809BE1A37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167BA-F05B-4C5F-B1E8-510009759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2145A-A8EE-4263-BA3A-67E98A580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558AB-E23E-4A4D-8EC6-F72941CE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4D77-BFB5-4275-BDBB-57FC507CE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B8E59-1097-4920-A0AE-C5F05880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E11AE-EFDE-4073-A235-C6EF1F94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E27B1-5883-4168-A8BD-840B3D739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3F615-7BCB-4991-8D7F-CC2657E42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D2FD0-0F1B-4E7D-AEA7-289114528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E7CBE-3CFD-4D15-8446-F123C547D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F675C-D52E-4273-93C0-31E815703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5CA97-3EE1-4403-BD53-E9AC7FF73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911A9-E182-4616-9F3B-886A463C2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792EF-988F-4774-A7BD-37DF883AE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3996-1639-4ED7-A3ED-56B11842E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01CC6-287E-49A9-8AAC-4DD490AD6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7D646-D26B-4A36-933F-D929530E8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B8D73-9CC8-47AC-92D4-2077C2D6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52779-79E4-495D-8058-B08CF37C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53DDE-80E5-4BC1-8EB7-A0066DB68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92501-77F8-47AF-9300-142BB8159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B75F7-0B43-4D8F-9DD3-704CABBE4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3AF98-D1D7-4CA4-A60F-527275FD4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CB6B6-A8C5-4A13-A36F-7C52D8B2A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4CD73-B8B7-430E-88EF-737258A3F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3A71-D849-47E9-A5B4-23AED5CF1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05F4B-B639-4A94-BD8A-87D2204B0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41599-68FB-4987-999C-FD8762C55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9F784-A1E8-4EBE-B9C5-B87027B9D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C99E4-3868-4184-AFE1-7977D8BB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BE340-655A-49CD-87E7-9FE925EC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58488-ACEE-44AD-B523-7EA4683C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78AE6-EE95-43E4-A5E7-4500AC40B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F9424-58F1-41E6-9180-CA9BAD407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F1455-A874-4C70-850D-7AE6434E2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93C2E-BD1A-4D59-9FE7-BFEBD78F7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35DE-2A8F-4811-B092-112581B4D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10F25-EB6D-4E59-976D-D7DDCD377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AC0A1-1FFD-47F6-A55C-61DECA05A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9A531-98D4-4576-A76B-5F0E228F1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7E47D-856D-4239-83B7-684E69541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AF487-3DB7-4E84-9EB7-9AB18328B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1E0B6-295A-4F28-B19A-E179A0CA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E8560-AAA6-4731-A423-30DC51B3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B9F0A-533E-40FA-8155-B0EE37F0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D8A6C-7995-4667-B041-D8182584F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B2012-498E-48F4-BFD6-38623B110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BABD-EC84-47A1-8390-3BA7743BD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9FE80-2955-4A4E-A456-8B6684DF5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27525-A421-4776-8F78-132A770FA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1145F-2AA8-43E9-ADDA-2E4716944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5625D-7FB6-408D-BDCD-8B9B678F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CB4E7-9F0B-4FC7-9FB1-0614E8D63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42066C-6718-48E0-B9FE-AD155E467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2462B0-A978-4566-89E5-AA4F6EC6B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AA413-6EF3-4F74-95C1-A78E7DD1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D4E7E2-2E1F-4398-AC25-9DB8A7E4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1B3971-24E7-4D5A-B763-BE5B6C78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6C85-8606-4894-B170-1DC6D3A85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56AF9-D08C-43FF-9F2F-E69CAF15B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B20D1-821B-493F-86B1-7C3956849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72D68-9F8E-4026-9F53-9EF3F13B1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83B6-DBE0-4ED9-B199-55CAE035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4751-EE68-46EF-A4CF-26F31A0C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CECBF-73EF-44FB-A70F-946BD9A2EB22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37C72-8490-46C0-A464-75DA83340B70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25556-261E-4582-9397-C32659BE821C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6B6FD-72CA-4FCE-8C4B-747B6B7926A6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0AD17-D3A1-494E-8278-FAD6D8015066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3D55D-A750-4E6F-9EC8-1FEB47CA7FE6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5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A/ třetí ročn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 / 2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2354400" y="33336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920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Put in the correct ending: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899640" y="2781360"/>
            <a:ext cx="74883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drive                .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………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dance              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…........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polite              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………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distribute             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………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..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Šipka doprava 4"/>
          <p:cNvSpPr/>
          <p:nvPr/>
        </p:nvSpPr>
        <p:spPr>
          <a:xfrm>
            <a:off x="3780000" y="29973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Šipka doprava 5"/>
          <p:cNvSpPr/>
          <p:nvPr/>
        </p:nvSpPr>
        <p:spPr>
          <a:xfrm>
            <a:off x="3780000" y="37893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Šipka doprava 6"/>
          <p:cNvSpPr/>
          <p:nvPr/>
        </p:nvSpPr>
        <p:spPr>
          <a:xfrm>
            <a:off x="3780000" y="4508640"/>
            <a:ext cx="977760" cy="485640"/>
          </a:xfrm>
          <a:prstGeom prst="rightArrow">
            <a:avLst>
              <a:gd name="adj1" fmla="val 50000"/>
              <a:gd name="adj2" fmla="val 49867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Šipka doprava 7"/>
          <p:cNvSpPr/>
          <p:nvPr/>
        </p:nvSpPr>
        <p:spPr>
          <a:xfrm>
            <a:off x="3780000" y="5391000"/>
            <a:ext cx="977760" cy="486000"/>
          </a:xfrm>
          <a:prstGeom prst="rightArrow">
            <a:avLst>
              <a:gd name="adj1" fmla="val 50000"/>
              <a:gd name="adj2" fmla="val 49831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258920" y="1700280"/>
          <a:ext cx="7416720" cy="4667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á gramat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Koncovky podstatných jm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 k zopakování znalostí a procvičení gramatiky. Prezentace podává přehled tvoření koncovek podstatných jmen včetně příkladů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Koncovky podstatných jm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6" name="Picture 3" descr=""/>
          <p:cNvPicPr/>
          <p:nvPr/>
        </p:nvPicPr>
        <p:blipFill>
          <a:blip r:embed="rId1"/>
          <a:stretch/>
        </p:blipFill>
        <p:spPr>
          <a:xfrm>
            <a:off x="2325600" y="18900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258920"/>
            <a:ext cx="7772400" cy="21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ffff00"/>
                </a:solidFill>
                <a:latin typeface="Times New Roman"/>
              </a:rPr>
              <a:t>PODSTATNÁ JMÉNA</a:t>
            </a: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971640" y="3886200"/>
            <a:ext cx="7416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Koncovky podstatných jm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00"/>
                </a:solidFill>
                <a:latin typeface="Times New Roman"/>
              </a:rPr>
              <a:t>KONCOVKY PODSTATNÝCH JME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30" name="Zástupný symbol pro obsah 5" descr=""/>
          <p:cNvPicPr/>
          <p:nvPr/>
        </p:nvPicPr>
        <p:blipFill>
          <a:blip r:embed="rId1"/>
          <a:stretch/>
        </p:blipFill>
        <p:spPr>
          <a:xfrm>
            <a:off x="469800" y="1981080"/>
            <a:ext cx="8004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-ment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899640" y="2781360"/>
            <a:ext cx="74883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entertain            entertain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employ            employ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excite              excite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..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Šipka doprava 4"/>
          <p:cNvSpPr/>
          <p:nvPr/>
        </p:nvSpPr>
        <p:spPr>
          <a:xfrm>
            <a:off x="3780000" y="29973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Šipka doprava 5"/>
          <p:cNvSpPr/>
          <p:nvPr/>
        </p:nvSpPr>
        <p:spPr>
          <a:xfrm>
            <a:off x="3780000" y="37893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Šipka doprava 6"/>
          <p:cNvSpPr/>
          <p:nvPr/>
        </p:nvSpPr>
        <p:spPr>
          <a:xfrm>
            <a:off x="3780000" y="4508640"/>
            <a:ext cx="977760" cy="485640"/>
          </a:xfrm>
          <a:prstGeom prst="rightArrow">
            <a:avLst>
              <a:gd name="adj1" fmla="val 50000"/>
              <a:gd name="adj2" fmla="val 49867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-ion / -ation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899640" y="2781360"/>
            <a:ext cx="74883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inform              informat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suggest              suggest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organise              organisat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..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Šipka doprava 4"/>
          <p:cNvSpPr/>
          <p:nvPr/>
        </p:nvSpPr>
        <p:spPr>
          <a:xfrm>
            <a:off x="3780000" y="29973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Šipka doprava 5"/>
          <p:cNvSpPr/>
          <p:nvPr/>
        </p:nvSpPr>
        <p:spPr>
          <a:xfrm>
            <a:off x="3780000" y="37893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Šipka doprava 6"/>
          <p:cNvSpPr/>
          <p:nvPr/>
        </p:nvSpPr>
        <p:spPr>
          <a:xfrm>
            <a:off x="3780000" y="4508640"/>
            <a:ext cx="977760" cy="485640"/>
          </a:xfrm>
          <a:prstGeom prst="rightArrow">
            <a:avLst>
              <a:gd name="adj1" fmla="val 50000"/>
              <a:gd name="adj2" fmla="val 49867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-er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899640" y="2781360"/>
            <a:ext cx="74883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work                 work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play                  play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teach                teach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..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Šipka doprava 4"/>
          <p:cNvSpPr/>
          <p:nvPr/>
        </p:nvSpPr>
        <p:spPr>
          <a:xfrm>
            <a:off x="3780000" y="29973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Šipka doprava 5"/>
          <p:cNvSpPr/>
          <p:nvPr/>
        </p:nvSpPr>
        <p:spPr>
          <a:xfrm>
            <a:off x="3780000" y="37893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Šipka doprava 6"/>
          <p:cNvSpPr/>
          <p:nvPr/>
        </p:nvSpPr>
        <p:spPr>
          <a:xfrm>
            <a:off x="3780000" y="4508640"/>
            <a:ext cx="977760" cy="485640"/>
          </a:xfrm>
          <a:prstGeom prst="rightArrow">
            <a:avLst>
              <a:gd name="adj1" fmla="val 50000"/>
              <a:gd name="adj2" fmla="val 49867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-nes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899640" y="2781360"/>
            <a:ext cx="74883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tired                 tired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ne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homeless               homeless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ne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lazy                lazi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ne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..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Šipka doprava 4"/>
          <p:cNvSpPr/>
          <p:nvPr/>
        </p:nvSpPr>
        <p:spPr>
          <a:xfrm>
            <a:off x="3780000" y="29973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Šipka doprava 5"/>
          <p:cNvSpPr/>
          <p:nvPr/>
        </p:nvSpPr>
        <p:spPr>
          <a:xfrm>
            <a:off x="3780000" y="37893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Šipka doprava 6"/>
          <p:cNvSpPr/>
          <p:nvPr/>
        </p:nvSpPr>
        <p:spPr>
          <a:xfrm>
            <a:off x="3780000" y="4508640"/>
            <a:ext cx="977760" cy="485640"/>
          </a:xfrm>
          <a:prstGeom prst="rightArrow">
            <a:avLst>
              <a:gd name="adj1" fmla="val 50000"/>
              <a:gd name="adj2" fmla="val 49867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00"/>
                </a:solidFill>
                <a:latin typeface="Times New Roman"/>
              </a:rPr>
              <a:t>-ing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899640" y="2781360"/>
            <a:ext cx="74883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feel                 feel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read                read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swim              swimm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..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Šipka doprava 4"/>
          <p:cNvSpPr/>
          <p:nvPr/>
        </p:nvSpPr>
        <p:spPr>
          <a:xfrm>
            <a:off x="3780000" y="29973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Šipka doprava 5"/>
          <p:cNvSpPr/>
          <p:nvPr/>
        </p:nvSpPr>
        <p:spPr>
          <a:xfrm>
            <a:off x="3780000" y="37893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Šipka doprava 6"/>
          <p:cNvSpPr/>
          <p:nvPr/>
        </p:nvSpPr>
        <p:spPr>
          <a:xfrm>
            <a:off x="3780000" y="4508640"/>
            <a:ext cx="977760" cy="485640"/>
          </a:xfrm>
          <a:prstGeom prst="rightArrow">
            <a:avLst>
              <a:gd name="adj1" fmla="val 50000"/>
              <a:gd name="adj2" fmla="val 49867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18:42:49Z</dcterms:created>
  <dc:creator>Martin</dc:creator>
  <dc:description/>
  <dc:language>en-US</dc:language>
  <cp:lastModifiedBy>Igor</cp:lastModifiedBy>
  <dcterms:modified xsi:type="dcterms:W3CDTF">2013-12-28T12:31:07Z</dcterms:modified>
  <cp:revision>34</cp:revision>
  <dc:subject/>
  <dc:title>PRESENT  CONTINUOUS</dc:title>
</cp:coreProperties>
</file>