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6797-8D68-4925-BB00-AB88F73D84B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4950-3F35-462A-84A6-54C1B6E6AE0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02D2-A435-40A6-88F8-7FE38D44290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AD17-E8DE-4010-BF98-8419875BF8A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D86E-860B-44EC-AEF0-EF355158F5D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7CDB-EBF0-4F70-B227-69457A19929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C68A-E720-4DF2-A85E-7FA06317FAF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1CB-54E8-4EC2-AD19-46C6EB2F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298-BCCA-45D2-982E-1BAE1C1C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D28-0206-4C79-A8E3-5076DDA7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279-DF49-4873-B7A0-5876F463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DEA5-54E8-4EFB-A870-DAE55039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4652-98F1-48C9-8888-85FBA30F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3B71-9849-4918-A7BA-DD7FECEF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2B64-F8E5-4E24-8CDD-9F373954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4B09-7493-4641-B8E9-96B1CECF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4500-85EA-448D-B27B-40460BE0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CB4F-61DD-4F8B-85F3-01F19DA9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CD7-7E04-4611-8A4A-AB35BCAA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F52D-42C7-4F60-8386-50D33B90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CB5C-B079-45D6-9A0B-57E4C770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689B-6A90-4527-B000-D1880C11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1F4D-86DB-424F-98FA-8EFEF7AF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25BB-D0A0-44ED-A3AE-3880F83F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8DF00-86DA-4C95-AA8D-04A8C6F3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8EB48-E283-4921-9140-E3347AE4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65399-27E7-4900-89BE-91CF7E54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A61E4-D109-41AB-A614-FB46AE1F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D992F-39A9-4F22-B221-9AC81760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CD2-CE6D-443B-8E43-CFA4031C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A544-AA04-4EE3-B1EF-4FEDB501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2ED2A-71A0-40FA-908B-11B5E312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F9663-67FA-4956-98DE-32C7D278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221C7-FB05-4894-8E6A-6304AAA6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CE03F-3828-429B-B985-4073D4EE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881D8-3C81-4939-BEE1-A8DF3117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4E8E2-916F-4ADF-A843-4FB19AE5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50DE9-52B8-4AD2-8E14-13AB145D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872DF-E659-4600-9FDA-0CE7DB3E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12A5D-6F31-46E8-A001-E50EDEB8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A8A-5237-4ED9-858B-DC74919A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63861-CC89-401F-A214-52609D2A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000F3-97A0-4721-AF84-D04FAB0F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97B12-48BC-45B7-8E8F-568F4A4C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A22FD-4058-4B75-B2EB-9E23CE56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503B2-CDC1-4E9A-9754-0D22F545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47A8E-1FD4-4BB6-B22C-53D353ED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9B6DF-7B1F-4338-A828-B6247D5F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9C426-3BEA-46EC-9B21-757F3ABD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AE80E-2BA8-46BD-A8C9-6A84060A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7FC88-3BE7-4D73-92A4-87ED6F97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1E5-A202-493D-B764-AB9B6AC7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A2E8E-3A44-4ED2-9802-8A2771AC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CC55C-E223-48B8-A46B-B1219B86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0AFD0-6D64-465C-8F09-79DA54BA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57D62-EADD-4FA6-AB2B-F9B86910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6CA18-52C4-4C94-A686-336C435D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14019-BB0E-48D2-8CF4-0E56CEA4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4D51B-5221-4001-9B82-C3607E9E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D7BD9-E8F2-4E96-872C-7E97A47E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0B441-F72D-4729-A860-A13805EA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E92FD-4A45-4026-A154-D6098382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8FC-5E43-4C0D-81EC-68372436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50F5C-625B-4BAB-B44F-8638B08D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FA332-5F3E-4ECC-935E-8C311757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1D1CA-9DB7-45B3-92F0-58A873A5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45A0C-693C-43AB-86A4-2F187419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E18B9-4FD9-441B-BCCD-2820425A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C6E09-F9C1-4FB9-84B3-6421239C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40606-B6EB-4B9A-8547-2B8F2FDF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E1021-1452-4327-A7E3-A42D8257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307CA-75B8-427E-A6F1-216FE36C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D5F8B-8B4B-4CA0-9700-2A07D12A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BF6-8994-4077-80DA-58B62607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18949-B42E-4339-82D4-9D3C3FB6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2D133-2391-44F9-9770-B69252D5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64607-25F5-4A8A-8F01-AE561A38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AF9-67D1-4A61-92FF-619D52ED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6837-532C-4EB3-851D-0337EDAA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FF6B-4FF9-4477-ACC4-A30BF7721A29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9A4F-6456-4706-8B2B-D64060C39FD6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1197-4D83-4536-99BF-190ACCC5581B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5712-D3FD-49C8-A831-5A1D515D57C0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8718-4BA7-43A3-8648-B2D4C6C6D83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FA8A-D618-4603-BBD4-8FC9F9D68E82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/ 201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NEPOČITATELNÁ PODSTATNÁ JMÉ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ccommodatio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nfor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luggag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raffic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rus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cenery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entertainment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842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MUCH, MANY, A BIT OF, A F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68000" y="2492280"/>
            <a:ext cx="3816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ff"/>
                </a:solidFill>
                <a:latin typeface="Times New Roman"/>
              </a:rPr>
              <a:t>POČITATELNÁ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 FE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E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1640" y="2491920"/>
            <a:ext cx="4321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fff00"/>
                </a:solidFill>
                <a:latin typeface="Times New Roman"/>
              </a:rPr>
              <a:t>NEPOČITATELNÁ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MU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A BI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LITT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MANY   x   MUC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920" y="1981080"/>
            <a:ext cx="295272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gir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childr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ab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292360" y="1980720"/>
            <a:ext cx="31654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MU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n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im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FEW   x   A BIT O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920" y="1981080"/>
            <a:ext cx="295272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 FE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tato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gazin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trai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292360" y="1980720"/>
            <a:ext cx="31654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A BIT O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me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al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snow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chee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CORRECT  OR  WRONG 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11280" y="3573000"/>
            <a:ext cx="792144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lion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col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policeme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lugga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information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any hotel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Veselý obličej 1"/>
          <p:cNvSpPr/>
          <p:nvPr/>
        </p:nvSpPr>
        <p:spPr>
          <a:xfrm>
            <a:off x="4572000" y="1916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CORRECT  OR  WRONG ?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11280" y="3573000"/>
            <a:ext cx="792144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teachers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coff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money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pollu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pape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uch gam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Veselý obličej 1"/>
          <p:cNvSpPr/>
          <p:nvPr/>
        </p:nvSpPr>
        <p:spPr>
          <a:xfrm>
            <a:off x="4572000" y="1916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667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čitatelnost podstatných j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ravidla pro počitatelnost podstatných jmen včetně příkladů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čitatelná podstatná jména, nepočitatelná podstatná jména, much, many, few, little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 few, a bit o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32560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00"/>
                </a:solidFill>
                <a:latin typeface="Times New Roman"/>
              </a:rPr>
              <a:t>PODSTATNÁ JMÉNA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očitatelno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DSTATNÁ  JMÉ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0" name="Zástupný symbol pro obsah 3" descr=""/>
          <p:cNvPicPr/>
          <p:nvPr/>
        </p:nvPicPr>
        <p:blipFill>
          <a:blip r:embed="rId1"/>
          <a:stretch/>
        </p:blipFill>
        <p:spPr>
          <a:xfrm>
            <a:off x="676440" y="2425680"/>
            <a:ext cx="78879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0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ČITATELNÁ 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DSTATNÁ  JMÉ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42560" y="3573000"/>
            <a:ext cx="748980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ůžeme počítat po jedn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voří množné čís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ůže před nimi stát neurčitý čl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ČITATELNÁ 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DSTATNÁ  JMÉ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042920" y="3573000"/>
            <a:ext cx="763272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oy             two boys            three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ook             two books            three bo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ed             two beds            three b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Šipka doprava se zářezem 1"/>
          <p:cNvSpPr/>
          <p:nvPr/>
        </p:nvSpPr>
        <p:spPr>
          <a:xfrm>
            <a:off x="2411280" y="3681360"/>
            <a:ext cx="720720" cy="366840"/>
          </a:xfrm>
          <a:custGeom>
            <a:avLst/>
            <a:gdLst>
              <a:gd name="textAreaLeft" fmla="*/ 91440 w 720720"/>
              <a:gd name="textAreaRight" fmla="*/ 629280 w 720720"/>
              <a:gd name="textAreaTop" fmla="*/ 91800 h 366840"/>
              <a:gd name="textAreaBottom" fmla="*/ 2754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Šipka doprava se zářezem 4"/>
          <p:cNvSpPr/>
          <p:nvPr/>
        </p:nvSpPr>
        <p:spPr>
          <a:xfrm>
            <a:off x="5211720" y="3732120"/>
            <a:ext cx="719280" cy="366840"/>
          </a:xfrm>
          <a:custGeom>
            <a:avLst/>
            <a:gdLst>
              <a:gd name="textAreaLeft" fmla="*/ 91080 w 719280"/>
              <a:gd name="textAreaRight" fmla="*/ 628200 w 719280"/>
              <a:gd name="textAreaTop" fmla="*/ 91800 h 366840"/>
              <a:gd name="textAreaBottom" fmla="*/ 275400 h 366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Šipka doprava se zářezem 5"/>
          <p:cNvSpPr/>
          <p:nvPr/>
        </p:nvSpPr>
        <p:spPr>
          <a:xfrm>
            <a:off x="5637240" y="4535640"/>
            <a:ext cx="719280" cy="365040"/>
          </a:xfrm>
          <a:custGeom>
            <a:avLst/>
            <a:gdLst>
              <a:gd name="textAreaLeft" fmla="*/ 91080 w 719280"/>
              <a:gd name="textAreaRight" fmla="*/ 628200 w 719280"/>
              <a:gd name="textAreaTop" fmla="*/ 91080 h 365040"/>
              <a:gd name="textAreaBottom" fmla="*/ 273960 h 365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Šipka doprava se zářezem 6"/>
          <p:cNvSpPr/>
          <p:nvPr/>
        </p:nvSpPr>
        <p:spPr>
          <a:xfrm>
            <a:off x="2627280" y="4535640"/>
            <a:ext cx="720720" cy="365040"/>
          </a:xfrm>
          <a:custGeom>
            <a:avLst/>
            <a:gdLst>
              <a:gd name="textAreaLeft" fmla="*/ 91440 w 720720"/>
              <a:gd name="textAreaRight" fmla="*/ 629280 w 720720"/>
              <a:gd name="textAreaTop" fmla="*/ 91080 h 365040"/>
              <a:gd name="textAreaBottom" fmla="*/ 273960 h 365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Šipka doprava se zářezem 7"/>
          <p:cNvSpPr/>
          <p:nvPr/>
        </p:nvSpPr>
        <p:spPr>
          <a:xfrm>
            <a:off x="2379600" y="5235480"/>
            <a:ext cx="719280" cy="365400"/>
          </a:xfrm>
          <a:custGeom>
            <a:avLst/>
            <a:gdLst>
              <a:gd name="textAreaLeft" fmla="*/ 91080 w 719280"/>
              <a:gd name="textAreaRight" fmla="*/ 628200 w 719280"/>
              <a:gd name="textAreaTop" fmla="*/ 91440 h 365400"/>
              <a:gd name="textAreaBottom" fmla="*/ 274320 h 365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Šipka doprava se zářezem 8"/>
          <p:cNvSpPr/>
          <p:nvPr/>
        </p:nvSpPr>
        <p:spPr>
          <a:xfrm>
            <a:off x="5211720" y="5235480"/>
            <a:ext cx="719280" cy="365400"/>
          </a:xfrm>
          <a:custGeom>
            <a:avLst/>
            <a:gdLst>
              <a:gd name="textAreaLeft" fmla="*/ 91080 w 719280"/>
              <a:gd name="textAreaRight" fmla="*/ 628200 w 719280"/>
              <a:gd name="textAreaTop" fmla="*/ 91440 h 365400"/>
              <a:gd name="textAreaBottom" fmla="*/ 274320 h 365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13" y="5400"/>
                </a:lnTo>
                <a:lnTo>
                  <a:pt x="16113" y="0"/>
                </a:lnTo>
                <a:lnTo>
                  <a:pt x="21600" y="10800"/>
                </a:lnTo>
                <a:lnTo>
                  <a:pt x="16113" y="21600"/>
                </a:lnTo>
                <a:lnTo>
                  <a:pt x="16113" y="16200"/>
                </a:lnTo>
                <a:lnTo>
                  <a:pt x="0" y="16200"/>
                </a:lnTo>
                <a:lnTo>
                  <a:pt x="274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353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NEPOČITATELNÁ 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ODSTATNÁ  JMÉN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87240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můžeme počítat po jedn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tvoří množné čís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může před nimi stát neurčitý čl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NEPOČITATELNÁ PODSTATNÁ JMÉ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a water ??      one water ??    two waters 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a snow ??       one snow ??   two snows 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OME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NOW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OME SN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Veselý obličej 2"/>
          <p:cNvSpPr/>
          <p:nvPr/>
        </p:nvSpPr>
        <p:spPr>
          <a:xfrm>
            <a:off x="3944880" y="5103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NEPOČITATELNÁ PODSTATNÁ JMÉN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7632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ai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snow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c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chees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e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cola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coffe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lemona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iron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milk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juice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30:32Z</dcterms:modified>
  <cp:revision>36</cp:revision>
  <dc:subject/>
  <dc:title>PRESENT  CONTINUOUS</dc:title>
</cp:coreProperties>
</file>