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5999-BF6D-469D-849A-5C195078689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815B-D1E4-4098-B524-730A3D80766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AB1-2138-4BDB-A725-763AABADFD2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2E4-5E58-46E2-86F7-2C079E7C7C9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A30-85E9-43C1-89B6-5258484F9EB5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90FE-DDF9-4933-8BDA-A01D89AF331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98E2-7B24-470D-A139-5BAAB721659B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1A9-7C8A-426C-96F4-69D1F01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D66-46BF-476E-AB06-D3854E0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37D-24EB-4DDD-839E-F1C8D3FF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2F4-C28C-43AD-A21E-A29DFE2D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9FC5-4F5C-472B-AB22-3C2C53EB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2478-7783-4ABA-99B9-C097D8A1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C5B-0BD2-4A2F-91DE-86AF2F71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E14-3B1F-4F68-A732-DFE2D9E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9B2F-65A5-48BF-B56C-7ACA3A79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FB33-D2CF-4022-8F01-C24679C6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D10-9028-47A6-97D6-29C56BCF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A7B-6E5F-4FCF-A900-6853B71A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DB49-4B6B-43A6-8E59-6C43AE6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6FF1-7968-4D17-8D9E-CB2AF4A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4E2-71DF-4153-8F6C-AF1225C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67DE-5A99-4C58-BF93-911F7616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C55-D578-463F-91AA-D4E726D7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2272-D869-400F-B242-F435921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0FE0-69B3-4749-AC8A-C805643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44F3F-5868-40C5-85E4-5C77F95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491F-24C5-4264-8A90-49D1AE1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A571-D998-49EC-9382-C3491726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7850-8106-43C3-B279-C84A62F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CE46-7F99-4EEF-809F-62AEA261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A0DBF-8C05-405F-81D3-4E85509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BEB4-2B3B-4A43-8DAD-132B62EC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2E42-04F0-4960-9B02-45F9406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7DE5-AB34-472F-A1F8-FA8600B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0B08-B923-4FF6-B1ED-C2462039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5319-FBC3-4698-805A-6816C2DF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FFE1-3B48-4963-AA15-CA4B095B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0BDF3-B211-40EE-A484-2387F779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163CF-C8F8-4052-9CBA-B8D3658C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39F-7BC2-48C1-B2E2-B6455FF1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5980-A9CF-4D52-85F3-55062002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3DA52-A96A-4306-A673-989E8D49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A851-659E-49AD-88F0-A10FDDF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89FE-EC2C-4436-B59E-EB56B65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A70A-FEE7-4510-A839-B30B348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FBA3-F1A1-4BD1-9EB4-C0CB695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0131A-5C9B-4DB0-8205-8F346A01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5F2A-6D73-4B5D-B58F-794F26FB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D7DE-3427-4591-B130-28B0BC0F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59073-4110-42F3-A6BD-2186E72C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CE4-4203-414B-9AED-739C4681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CD979-8D75-4D18-9FC6-366B63C3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B1BF-0151-45D7-9473-EFA6EFE8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B6BFB-D787-4968-A671-3830DE01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DA888-590C-4063-A3C0-1B2F05A8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AF885-23DF-4136-861C-7EEF06F8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1E036-8AA7-40D5-8BE0-A807255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51970-AF92-45FC-A061-6D9F629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96B3-1EAE-41AD-84AA-67CF83E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3A73F-6747-4C89-9530-A17B62E9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E1BB-8B68-401E-B460-4547232F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6DB-01C1-4635-87D2-D4C250CF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0FA54-8757-4C0D-85F2-629ECAE1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44AED-E59A-4993-A46E-87F9E5B0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C326-2F4B-4C95-90AD-999B585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2E8EE-F055-4045-9A5A-0920F451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A7A4B-1629-4A85-A018-4CC6219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0EC01-E24F-4965-B285-0C7DD223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2AF1-4491-482E-9C8D-EB3BE222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8542E-651B-4A21-A982-C15970DB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3908E-049C-4171-97D5-963976CC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951F-C435-4A22-A30B-E739AA85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019-8A6F-4EB4-B12D-BBA8924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A67C-3ABF-4BD8-A9DC-41801639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DD1C-6F09-427C-8685-EEF99B4E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7D5FE-B34C-49BA-92CE-2C3141D1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91D-B777-47FA-B995-BC2B7CF1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2B48-8112-4C15-AD0C-93B4B7A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5E3-1BF8-4238-B211-98D54AB0B1CC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935-C2F6-4E29-A268-005E83EA1D3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C28-3EE6-4806-978D-205296409B6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4E0C-18AC-4ADE-8D7C-22715F38FE2C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D12-CEFE-4552-B535-2DC5EF4F26FD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BAEE-AC6E-4D3E-A434-9974E11C0175}" type="slidenum">
              <a:rPr b="1" lang="en-CA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A/ třetí roční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/ 2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354400" y="33336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1700280"/>
          <a:ext cx="7416720" cy="48355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á gramat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 pomocí „to be going to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 k zopakování znalostí a procvičení gramatiky. Prezentace podává přehled základních pravidel pro tvoření budoucího času s použitím vazby „to be going to“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udoucí č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Future te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057400"/>
            <a:ext cx="8569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, který stoprocentně proběhne v budoucnu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děj naplánovaný do budoucna (hodlám, mám v úmyslu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94920" y="3499920"/>
            <a:ext cx="820908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Klad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84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Záporné vě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NOT 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23640" y="357336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Otázk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TO BE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podmět + 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GOING TO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+ sloveso + ...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ffff00"/>
                </a:solidFill>
                <a:uFillTx/>
                <a:latin typeface="Times New Roman"/>
              </a:rPr>
              <a:t>Děj, který stoprocentně nastane a již teď je to zřejm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t is so dark outside! It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is going to ra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ook at the boy, 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fal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ff his b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is going to hav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bab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FUTURE TENSE – VAZBA </a:t>
            </a:r>
            <a:br>
              <a:rPr sz="4800"/>
            </a:br>
            <a:r>
              <a:rPr b="0" lang="cs-CZ" sz="4800" spc="-1" strike="noStrike">
                <a:solidFill>
                  <a:srgbClr val="ffff00"/>
                </a:solidFill>
                <a:latin typeface="Times New Roman"/>
              </a:rPr>
              <a:t>„TO BE GOING TO“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Děj naplánovaný do budoucn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are going to move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 Prague next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 am going to stay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he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is not going to sell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her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42:49Z</dcterms:created>
  <dc:creator>Martin</dc:creator>
  <dc:description/>
  <dc:language>en-US</dc:language>
  <cp:lastModifiedBy>Igor</cp:lastModifiedBy>
  <dcterms:modified xsi:type="dcterms:W3CDTF">2013-12-28T12:26:08Z</dcterms:modified>
  <cp:revision>12</cp:revision>
  <dc:subject/>
  <dc:title>PRESENT  CONTINUOUS</dc:title>
</cp:coreProperties>
</file>