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28BB1-9806-44F4-A7BE-278D02F955B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909D8-E8AC-4D42-9946-E4A32470F992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9DC02-A7C0-4241-8F1F-CCA73C2E0D24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24CAD-2B4D-432D-9D1F-51A60D407AEC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61DD5-27A6-4433-BDC3-98A8BEBA8294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14DFD-7B53-46FD-8087-E3B6B36E52B2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6BBA2-A09E-4FAF-82E8-FF2B8D749518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1981-BF3E-490F-84F4-4D5A10568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7748-A70C-4DF0-B9C2-38FFDC61D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6EA0-92E5-4EF4-8910-CAC1AE33F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AEC9-C724-4853-940E-CB1AE929E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7C78E-B630-4EBD-A436-D360E6FF8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BD452-8DA0-4177-BB46-B876F05F8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E6395-FF5B-45A9-B5CD-A58636EBA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0889D-1069-46D9-9D2A-06D23E740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A5C8B-6477-4EF3-93A0-B6D43FADC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1E372-E295-485B-939C-C1D10610D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855F4-6E66-4966-9697-C55A8E6E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CCCD-A3EA-4191-9CBD-5C3609D28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EAD63-8271-480F-8BE2-3498136A8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640B5-D2F3-459C-9D58-06015E03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AB3B9-1BC5-490A-84DD-67CC2EBDB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C0A99-0D83-40E9-99F7-3BC8E1EDB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50D31-FE01-4C04-B478-579D3D634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AE929-6666-4755-BEF4-A2423A0F9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DCA17-B68A-47DA-A632-2EBD736AB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F199D-003B-4266-AE45-A50E32435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D8A23-7A49-42E0-8D7D-300AE8ACA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F7955-E48F-4B86-ABFD-A8DF16B35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5F47-4A59-463E-BE09-A863618E9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86AE1-00EA-4DBB-B76C-492E2AD23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4ECFC-1CC0-4F83-BF45-C1B3018C3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3C8EE-6699-493E-A933-8EB5CCD0D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3BFFC-4B02-4B98-A038-FB2144329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3C61B-5858-4E4F-931F-A4A7CF086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44CEA-FC40-4240-8B20-DC0CF17F8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13E60-B415-48CD-8CA0-06F29B097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E165F-9082-421C-B659-21A4168AB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C433D-2FCD-4FBC-BFCE-3C74C5D1E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E509E-AFB1-40CE-BE69-4A54ED5B2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CB6C-1F7B-4B6C-99B9-FB3484A5F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1BE2A-76BE-4DA2-8340-488B7F9C7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BAA2B-1E42-4E28-AD66-4FEFA4599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97009-3AAF-46FE-A293-51531B705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5E2DC-D3AC-4AC9-9E6C-AC8508F6A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5DD34-229A-49BB-9B79-37BCA15E5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9CB32-5B6E-4EFD-B537-53680081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2F760-A4F8-4E7B-B7F4-3858F3F93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53CE6-E61B-4F24-8F00-8FD80C20B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0CE28-9202-481D-86B1-C2A00B5A6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423785-8E16-43C7-9E44-01C456108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89A6-8A3A-4705-B124-EE7C406D3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46DA67-EDF7-4270-89C1-616D136CC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F6FAE7-EF50-485B-9879-230530C11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48F690-E3AA-4371-8373-40B2BA3B8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6BA695-A4DE-4B0C-B241-E68EE0708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661EAF-3DC2-49DE-98B9-77A71FA02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998FB-67B6-4607-9311-03BC5248A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E2C9C-19C7-4F53-97CD-B16E20829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23F16-1F9E-4647-A937-1A10FF5DC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8FE182-6C7E-4B65-BE0B-C1F95F8E7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9601C-BC7D-43AC-9789-3030B6A53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6D27-2D70-41A4-9F8B-66E9A37CB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2E2B68-0BF6-482E-84A1-2BD9A755F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9897F3-1D0C-493A-9EF0-E729C8648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FDD956-66A3-43A7-839D-45402D58E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5C288F-BA51-476D-8C59-A2DA37221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BB1FDB-FF20-4467-A634-9CDAA5FF3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E0855E-FE05-4589-BE1D-AB3D10657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29B884-8538-4BE6-AF79-EBAB7533D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26F811-73CD-48A6-9CB4-F039796BD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C5C013-A443-471B-9A3D-4A48584C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28C566-015C-45FB-9CD6-5DB9F012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9453-596D-45C0-B4D6-AB106C167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4B8BAD-78EA-4CA8-BF11-C69364A75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CE1931-E690-444A-AB64-349D851A8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8788CE-EC65-4B7B-8FF8-7C5137EA7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D833-053D-4547-82F2-12BAFC531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EE39-DB25-4AD9-873C-FF95CB8CC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B7E52-E0EE-46A2-BD77-D02DCC837DD9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5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5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1025A-53A9-49DE-9510-98BF2141437F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17065-4C27-4F1B-8700-E7906CF42A2A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B19A5-77C2-42FA-BBB3-1B24C8E3DEB7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7E492-4AC7-4EF8-ADE2-A991FE10E9FD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1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1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F51E6-1A0A-4501-A16E-73AC59C92739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A/ třetí ročn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 / 20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4" name="Picture 3" descr=""/>
          <p:cNvPicPr/>
          <p:nvPr/>
        </p:nvPicPr>
        <p:blipFill>
          <a:blip r:embed="rId1"/>
          <a:stretch/>
        </p:blipFill>
        <p:spPr>
          <a:xfrm>
            <a:off x="2354400" y="33336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FUTURE TENSE – „WILL“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Tvrzení o budoucím děj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here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will be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7 billion people in 2030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here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will be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more countries in the European Union in the futur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FUTURE TENSE – „WILL“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Slib, nabídka pomoc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Wait a minute, I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will help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you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Don´t worry, we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will call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you every day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Will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 you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open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 the window, please?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FUTURE TENSE – „WILL“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Opisy způsobových slov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You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will have to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wait much long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will not be able to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play squash tonigh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They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will not be allowed to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leave the camp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FUTURE TENSE – „WILL“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95280" y="19810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U časových a podmínkových vě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If you come round, we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will watch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V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If I win in a lottery, I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will buy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a new car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When I get to Paris, I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will call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you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258920" y="1700280"/>
          <a:ext cx="7416720" cy="46670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á gramat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Budoucí čas pomocí „will“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 k zopakování znalostí a procvičení gramatiky. Prezentace podává přehled základních pravidel pro tvoření budoucího času s použitím „will“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Budoucí č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Future ten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6" name="Picture 3" descr=""/>
          <p:cNvPicPr/>
          <p:nvPr/>
        </p:nvPicPr>
        <p:blipFill>
          <a:blip r:embed="rId1"/>
          <a:stretch/>
        </p:blipFill>
        <p:spPr>
          <a:xfrm>
            <a:off x="2354400" y="260280"/>
            <a:ext cx="5297400" cy="129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94920" y="1844640"/>
            <a:ext cx="8497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ff00"/>
                </a:solidFill>
                <a:latin typeface="Times New Roman"/>
              </a:rPr>
              <a:t>FUTURE TENSE – „WILL“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FUTURE TENSE – „WILL“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ěj, který pravděpodobně proběhne v budoucn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kamžité rozhodnutí o budoucím děj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vrzení o budoucím děj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lib, nabídka pomoc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i opisu způsobových slo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u časových a podmínkových vě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FUTURE TENSE – „WILL“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684360" y="3645000"/>
            <a:ext cx="7775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Kladné vě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podmět +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WILL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+ sloveso + .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FUTURE TENSE – „WILL“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39640" y="3500280"/>
            <a:ext cx="79200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Záporné vě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Podmět +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WILL NOT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+ sloveso +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FUTURE TENSE – „WILL“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610920" y="3573000"/>
            <a:ext cx="7848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Otázk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WILL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+ podmět + sloveso + ... 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FUTURE TENSE – „WILL“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 u="sng">
                <a:solidFill>
                  <a:srgbClr val="ffff00"/>
                </a:solidFill>
                <a:uFillTx/>
                <a:latin typeface="Times New Roman"/>
              </a:rPr>
              <a:t>Děj, který pravděpodobně nastan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She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will come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late, I think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He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will pass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he exam, I suppos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will not have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much time at the weekend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FUTURE TENSE – „WILL“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 u="sng">
                <a:solidFill>
                  <a:srgbClr val="ffff00"/>
                </a:solidFill>
                <a:uFillTx/>
                <a:latin typeface="Times New Roman"/>
              </a:rPr>
              <a:t>Okamžité rozhodnutí o budoucím děj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She´s ill? I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will come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and see her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I´ll have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a chicken steak with potatoes, pleas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1T18:42:49Z</dcterms:created>
  <dc:creator>Martin</dc:creator>
  <dc:description/>
  <dc:language>en-US</dc:language>
  <cp:lastModifiedBy>Igor</cp:lastModifiedBy>
  <dcterms:modified xsi:type="dcterms:W3CDTF">2013-12-28T12:25:23Z</dcterms:modified>
  <cp:revision>11</cp:revision>
  <dc:subject/>
  <dc:title>PRESENT  CONTINUOUS</dc:title>
</cp:coreProperties>
</file>