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882C-CA4F-4C2D-A1C6-1B6B40B3204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6BC-8570-47E6-9494-4E6B3740AF9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4649-A073-42D8-BB34-EBEB341101D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420B-7C65-4E0C-9B83-CE7DE754212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9FC9-0D3C-4CF7-9E81-DFF3A0B2FB5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641-CA77-4FA4-ABB5-3F248C64978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597F-A1E0-41D5-95AC-D6E1EC5C6A5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E50-7D6D-4F21-B3F4-61E5D1E9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3AC-4DD7-4C7B-9EA3-F20CFFE7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28E-38E7-4338-9EE2-EAD80CFF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0432-BA9B-4F09-A838-88D49716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4CCA-CD3A-4AED-911F-CE676B21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CB61-72A5-447D-8ECD-7B0F0686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1E5C-E20D-4483-9FE1-1CDE1D69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C11C-F8F2-4907-A360-B26060B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1FF9-B15A-43E4-A52C-DA014761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FF3F-8784-417A-A0D8-DDA84C6C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AC58-6631-469A-87A3-12CEF343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79C-ABB1-42F7-89DE-B1F3D5B7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3AC3-5654-4A37-B437-38754EE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DAF-D84D-472C-A449-006CEFF9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96BF-5A7F-49BB-B0A1-A77150AC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6176-EA8D-4DC7-B005-28722E92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95A6-C786-4091-9B0B-64A2D127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8F84-4CE5-46FD-A1B8-5A5EF728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1B1C-BD5B-4CE6-BB96-85794FDA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483F-351A-4E4B-B7FB-3B3BC84A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2FDF-F2ED-4AF9-9685-134C95E5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437D-4B8B-446E-BA2F-BD8CD8FF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6D0-34D2-4150-8CDD-2A72A344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2200-6161-417D-B87D-AFDAC77B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5251-B51F-481E-9D85-5102712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34500-5BB0-46A3-B85E-118BCA9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00202-8DCB-4811-A33D-BCE9E34B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5C38-4CCB-45F4-9A78-FC1892DD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BAC1-43C6-425F-9855-86201C49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4D753-9DDB-4A5B-8078-C7E6992D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4A21F-A458-49D1-82B1-E214EBC2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4B94C-29A6-47E5-A49E-7ECBAFD3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BFFE-7261-4503-B70D-5C9F563E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2DF-D3E9-4070-A4FD-0CF7384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C1A8-9B7B-4159-8391-10D88BD3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B684-6E50-47BA-90D0-9C3468FE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4D46F-9984-491D-B0EF-6386C231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7FA3-0480-4BFA-AC39-08370BD4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C39D7-F90E-492F-ADDE-A1AF66CB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442A-249A-4BA8-A9FA-13A425C8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4C23-0456-42A8-9F03-D7F34A04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29B19-E7B2-425A-88A8-D2032735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C5D6-8BE7-4E3A-9489-BC7C4DA4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881EC-C5F2-43E8-ABE3-EF8F35AE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C19-1E41-4DCC-AB48-F49D9228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2AB0-D9F7-4EF5-ABCB-00FCACA6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71AA-5739-4E7E-AFFD-4074EA5D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CA11-62C0-4F53-BAD7-3650103C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49864-D898-4EFC-BA39-33DA59F6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CB13-43DD-42E3-90DE-ACBF43B4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1A4E5-83AC-4A75-94EF-30B53EA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3ECDE-F5FB-459D-A759-84CDDEB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FBCE6-637E-4135-A4D9-5E41599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91493-ED94-48A1-BB2A-D56119A8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DC7C7-FECA-47EA-B406-5410D11D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F01-4400-4A49-A1CA-366F7FA9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F701-9AFC-46FE-94A6-1C1AB556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0DFF0-8F37-4354-8F44-CE659A04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126B8-F55A-482E-9D24-BE8C648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1318-0919-40B4-8AA5-7882F301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F716-9ED1-44CF-9E3A-C7990B2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7250-158F-4CB9-A83A-DF7EF71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606B-CA0A-432C-9FA5-64F7ADA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41B1-7748-4513-B122-9530032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C186B-7832-4EC5-ADD9-5F29FE5D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FAD81-04F7-40FD-9235-9A47364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489-B8F9-430C-90F3-2C6C0408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D283D-0AAF-4A49-A393-EA5B41A9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57810-4655-4E79-8F42-CB642691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07898-C2BE-46DF-9626-C744A23C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4BF-7BF7-493C-94D8-1571DF44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3DE-53E7-4DBE-9D3A-A35089E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AB1-281D-4DFA-9AFA-D35C32306FB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ED0C-424F-408D-8E05-23DA366A77C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893-89E2-4E8E-B116-BFF596A1538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401F-2720-445A-859E-2FB81E4A6CA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1F44-2DC0-4E6A-AAB8-F81332F3D9C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6625-EF1C-429E-82AA-DD6600789C3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minulého času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minul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perfe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497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d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645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d + podmět + příčestí minulé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1360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před jiným dějem v minulosti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efore she ca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called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read the magazine 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bough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ast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train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d already lef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we arrived at the s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4:30Z</dcterms:modified>
  <cp:revision>15</cp:revision>
  <dc:subject/>
  <dc:title>PRESENT  CONTINUOUS</dc:title>
</cp:coreProperties>
</file>