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360D-58C1-4B97-954C-5AD3F7662C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D06-3DC6-4E86-A6EA-CA06B71917E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788-C5C5-48CD-A2BA-6A90E5422A7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3DB-D64D-4E7F-9091-A41B404A33F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F84A-6A1F-44FB-9E56-0ACE6DA68C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A588-5328-4E0A-A885-B0A0DF03643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1839-D720-4CA5-BE50-CD70EF4B867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8E5-3C96-47A7-B366-9F377DEE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48A-F8C9-4FBB-91C2-D7E953F1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A96-E20F-40AA-A22E-8F454D01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C7F8-084A-4C95-B7D9-C5FE0625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389C-DBFF-4F60-AEA9-50840055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EFBA-AE98-4319-9416-1A68752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7AA-729B-45B2-AE57-AC8D7712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C8DF-CC1D-4893-9082-18D6D97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604-890D-4638-A27D-C4E8FFF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3240-F40E-42AB-A3BD-590D44F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5D26-C0A7-4153-9B44-5BD9131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859-DEF1-41B5-A6BF-1AE610BE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87C9-6A19-4C6E-AB99-D2EA2FA8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D2FB-C4B3-4DBB-B1FE-1C0BE7CA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E63E-CE2D-4740-9A2C-DCD66F0B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D6CB-B854-48AF-A093-C31D0B57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D816-E3FF-4865-BD73-B2A06CA6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CCAD-7254-4FA7-B450-A904A541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2EC1-1EEF-44A6-8582-68FAAB52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811E6-2E44-4F19-89A9-97038957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653E-0457-4D2C-8074-141895B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C407-7CCF-46B9-9D1E-592F3D7C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2C24-F9AF-430E-B1CF-562B768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CB26-652B-4570-9754-258B542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223B7-59AC-40F7-90C3-A0BA4275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D8BC-76AB-451E-92A9-3994E75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8B00-ECF5-4EF6-8F28-79DC53F8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96E2-7461-4C61-BC39-3E94D2CF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7F80-8045-4EF1-9C68-433845DE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5862-2971-48C2-A4F6-884CB36E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AE175-1237-4603-B6D6-06394C92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0BBD-DE6E-41ED-BEA6-666785DA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F0CEF-B906-4D5A-9A4B-D297B2ED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B22-A84C-4963-AB7B-6372E9DF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28C10-2A13-4F9D-9A3F-03FA6F10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5C01-5142-4784-AEAF-6E461AAE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CE24-CBE2-41EB-872F-FAE1CB99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CB9C-B189-466C-9C3C-20631B48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804E-85D3-4192-BC0C-2F41352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1A6A-81EE-4E9C-A11D-B7CD59A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C64B6-0001-4DCF-869B-7F51B0F6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F187-5F28-4D1D-A8B2-2412832E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C3EA-0486-456B-A15B-C782B4EB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D45B-9861-4C20-AC32-BD3F549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68D-B901-46D0-A00C-C75FFF82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05F5-C3D2-41B6-A0FD-5705E4D6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1CDB-A328-4BD3-8A61-9F24C6D5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50EF-CCE4-4D81-8B96-14A39DE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7F4D-41B2-4F35-9959-01EDAD8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96DE-55C7-4445-BAB1-F38AC076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AB09-FECA-4981-A623-60C660B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5FF26-6E33-4156-982B-45615A66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08CC-29BB-469B-A075-6000DE2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1A77-196E-4C43-AAC0-CA71A063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9BEA-8AA8-4810-A951-BDB60B2D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F11-0F17-4F4A-8451-E0A76367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3E3C-89B9-48ED-A4D5-39AE12F7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3E47A-F7B4-4321-BF40-C297E46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22677-5BF8-4248-B310-69408C4F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CD735-85B5-4945-9915-51509B94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75E9-7FEF-45E9-97E6-4B2F20FE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6022-17D8-4D98-8D38-B4BB2643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302A-BA83-451F-B97B-6F6CF38C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731FE-CC5C-4261-9965-C1FD504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B6D94-B8DB-46CE-8726-652B8FC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1F18-F3DA-4888-B167-8A9DD99E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C82-6400-473B-A20F-9FE3BD8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E1DD0-1BCB-4EBA-B99E-AD294A1B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AEAAA-4D8B-440D-BD72-8CE1D2B6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1E03-DDD3-429A-B9F1-68A5CE64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EDF-A216-4873-8319-DEAD1018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671-CF2E-4B50-A187-BCC36B2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C32-518F-4B47-87AB-5FE21FF3378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BB0-EFB4-4B06-A265-47F00EA4EFC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0E2-9EE2-4C50-827D-5FD95C48C9C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6379-15A3-482C-B797-64D65BDFA07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0A4-26B0-4555-B5FE-68C14CDB2A4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DA6D-B7A1-4828-A1A2-1C8BDBF8AA5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42480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books </a:t>
            </a:r>
            <a:r>
              <a:rPr b="0" lang="cs-CZ" sz="4000" spc="-1" strike="noStrike">
                <a:solidFill>
                  <a:srgbClr val="ffc000"/>
                </a:solidFill>
                <a:latin typeface="Times New Roman"/>
              </a:rPr>
              <a:t>have you re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 f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1640" y="2349000"/>
            <a:ext cx="4032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ntinuo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you 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?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716280"/>
            <a:ext cx="8497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have / has + been + sloveso (-ing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733560"/>
            <a:ext cx="849780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been + sloveso (-ing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been + sloveso (-ing)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been study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glish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swimm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been wait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long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been reading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boo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ůsledek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2920" y="227664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důrazňuje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průběh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děj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e spojení 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ow 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3:41Z</dcterms:modified>
  <cp:revision>17</cp:revision>
  <dc:subject/>
  <dc:title>PRESENT  CONTINUOUS</dc:title>
</cp:coreProperties>
</file>