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D13-191B-4181-951B-10E7D5173C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461-D3E7-49FB-93D3-8324182F2CA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2EBF-E5EE-4F79-9EB1-BF8C5349B9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386-2091-4791-B2B4-9FDBA6B107D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ED1-17D1-41EA-8B09-AB582C0D530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DCB0-282D-4EBD-A345-091F30DBEDD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E53A-152E-4866-93EB-34D83CDEF9F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B02-DA83-4C2F-8667-FD5D8687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40D-2F8B-45A1-BA05-F8747EA0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FB1-6A35-4C3F-BD44-A4161AFF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F5E-8634-4525-B97B-25465C3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B00A-AB27-4E7F-90BF-A06C19BD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6C6D-6CE0-4E67-A616-E524808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BF89-5CC2-4E67-97AA-F43D3A45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BF50-49A9-4396-A776-A31903F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DA8E-41CE-43D3-B566-668C356C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7044-8A71-40AD-8AF5-52198E87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C304-46E4-4855-8AB8-54292F35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95B9-78E0-4742-9A4C-8BB768E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1A9A-4CD6-43CD-AD4F-EB59EF1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5F4-849D-4ABB-ADED-ADB4983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4749-75CB-4585-95A2-6C0E651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4419-C211-41D4-A299-D1B05761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4F4-7CE8-47B1-A35D-4E728E61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FCC52-403F-4F85-90DB-D4EA6B41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C053-D724-4A6B-AFF7-E856579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7247-BBE0-49E6-9902-FCE64F6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917F-2E48-4F71-A17C-6CE76EE6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31F6-5F9D-457F-8DB9-FE2DFD97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8F7-3504-429F-AC01-C056C255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FB25-9E24-4870-8ACF-968ADC7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1890-DE4F-4E18-86B7-83B56DC6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DAF3-F905-4ECB-8B18-481CBD1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CF81-8812-487D-B3BD-0AFEFB3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E010-98E1-410F-827A-96E83F90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B290-6AB5-45AB-BA74-EE9E45D9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1FBC-0AF8-482D-A940-E3BFD6BA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96DE6-8600-424C-AC7D-FA9DC03F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F059F-3EC3-4C97-857B-A9C6C09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B5BC-B0CA-4C8F-98E8-16CD0A1C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797-7B03-4BCB-B079-9CEF3646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616E-4AA8-489F-9EC4-A588DF46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7A26-14A4-4990-875C-295152BD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E9DE0-A882-4755-B90A-8D253984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EA53-CEE3-465C-A4DB-A1C70059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3E0F5-1171-433F-B23A-71138C5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5E6E-E26D-4BA6-B04D-73474316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C6AD2-2CA9-4B32-9114-F99C167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A81F4-0A09-4AE0-AE05-8078CEA0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4DE85-5A92-4B0F-83F8-6DF4E80D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E1B5A-0631-4FBE-92D1-73B11EA7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931-68A0-4FEF-BFAC-87077B7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8C5EA-96BA-4877-AB6E-DB9AB12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CFF8-397E-41B2-89DF-BCF1300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591AB-1A3C-4B07-8A2C-2C1E71A2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D30E-80A1-42C5-B1A2-FB806CE1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AC06E-78D5-4F86-8D35-EAEB2D5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3130-7513-4420-8C20-FB5C17E8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2F459-5C53-46FE-B78C-E5257C01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0834E-6898-464E-9A4C-C43FB30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0F430-F44E-4919-A798-7A763D4A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DCA6-9F1B-44CB-8490-64A9E588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12C-4EDB-4642-9E34-0D532E9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F5A6-A1E2-46B8-A488-BCB1882C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F5238-930C-4E12-8591-646E08B8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263AB-3B2B-4785-A667-A7213045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0295-E72D-4D16-BE83-C9A5ABA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B5EA-1EE2-4C62-B1C8-E7CF1C3F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0137-41CE-47C5-8ED8-ED02910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D471E-3CDC-4B2F-B627-B8803EDF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3BFDE-B5CB-4C8F-B25E-0B48F9E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89D3A-FE85-4325-89D4-DC833983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B4892-883A-4B14-AF3E-3F432B4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9D8-849B-4380-9CB9-6EB795AF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506CB-498C-4080-85D2-ACA5D30E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1FDF-699C-4635-B094-47521593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EBA5E-1286-40C2-BC06-CA7B9500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ED5-7DDB-4266-9B1A-D03CBBBC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CD5-81E5-4EAF-8277-3B2AF98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6333-C539-426B-978D-83BFC930AF7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EAAE-8848-4DA4-888B-4F87B1676A3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C3CF-2219-4FEC-B869-7E93CCB2AC8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8481-5E4D-40D1-A114-53FAC042469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2825-ED26-43CA-BBC3-3C539047C69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F9A-4B81-45D4-9C0F-5996BB3E8F0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riv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alled</a:t>
            </a:r>
            <a:r>
              <a:rPr b="0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edložkami since a 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 mor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this street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y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ever, never, already, so far, yet, just a sti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</a:t>
            </a: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ever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o Lond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never hear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bout u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already sent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spojený s příslovci času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ever, never, already, so far, yet, just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st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writt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o f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n´t pai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r her dinne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y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till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answere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96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nemá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 a teď již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pokrač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95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proběhl a skončil, al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á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začal v minulosti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80880"/>
            <a:ext cx="849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ast simple  x  Present perfect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431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Past si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brok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y hand last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not broken now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pen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he wind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broken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y h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broken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ve cook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o here it is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as opene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it is still op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9900"/>
                </a:solidFill>
                <a:uFillTx/>
                <a:latin typeface="Times New Roman"/>
              </a:rPr>
              <a:t>BE CAREFUL 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RONG!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t home since the mo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CORRECT! </a:t>
            </a:r>
            <a:r>
              <a:rPr b="0" lang="cs-CZ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ed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perfec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499920"/>
            <a:ext cx="8136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 / has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357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haven´t / hasn´t + příčestí minulé (-ed / 3.tvar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4360" y="3429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ave / has + podmět + příčestí minulé (-ed / 3.tvar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začal v minulosti a stále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liv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 London for five yea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re for an hou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n´t se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im since the las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 many Spielberg´s film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e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PERFEC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l v minulost, ale do současnosti má násled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s broken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r ar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ve close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doo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53Z</dcterms:modified>
  <cp:revision>18</cp:revision>
  <dc:subject/>
  <dc:title>PRESENT  CONTINUOUS</dc:title>
</cp:coreProperties>
</file>