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CB12-4BD9-4896-A01A-3B951B539DB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BF2B-5E19-4598-A0F4-562385BD178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0666-BA14-4CCA-9C7D-B7C1CD075FF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9E54-2CB9-4D79-B605-B3F48F7D675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5CA0-A3D2-4FA9-86FF-96BF56B5FFE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EF44-35EA-4FC9-8639-47EE6E36959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092A-1863-4919-B672-032C54D82B6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993-DF8F-4E51-AA6B-66B2E2FC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D1E0-8FF3-4E4F-86E1-F94F2D06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9A7-0649-4147-B5D9-9FDEBED6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5A1C-8C05-4371-B523-3534B687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1D17-33C8-418E-9D29-3A5F1CBE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CB39-7D31-4413-ACBA-F20D3557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55F5-8BCA-4EEE-A70B-7A38BA34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DFF1-D4F4-4F76-9A0B-63223CA8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8F9F-897D-469E-9636-775B4227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5C45-12A5-4E1E-9E03-6960E04F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BBE4-566A-4943-818A-401B6D34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BFC-D5AC-4D9C-8979-D4823132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7C4A-4B4F-42C0-A6ED-CBFEB009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5196-28F0-4077-A587-6DE4A6B9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92F9-81FE-443D-8ECD-FD1F06BF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AC97-9750-425F-9CFA-7084CC1C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DDFB-9598-40E6-9FBF-63A7C3C4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AFEC-D985-45EC-A9B6-563C117A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088C-97A2-45C2-9EF5-B58F6A84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E821-4BF7-45FE-B52E-DBC832A2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354DA-12B7-4179-B35A-1F32B713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7AFB-76AC-40A6-8026-5A7660CF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BD1-E9C1-4106-A7AA-0D34E754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AE65-564A-4C56-8A90-8D24DC8B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28A2-6ADE-4574-9BEF-2A25A3DA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C053B-9E4F-492C-8D8B-8A1D28F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ABBAE-E45D-439A-A125-3337C5CF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BD8F-64DA-41D3-AAC5-3BAC792C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6D8D-7087-45A7-BF1E-B9879E7D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9F43-4821-40E8-8C9B-142AF995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C5F60-6A93-4EA2-9E90-3C22E5AC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1FD62-84A3-41CA-8E1C-0FFC8085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5DCC4-C908-4006-BFA7-2ADB310D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C43-5B70-4023-8DC5-796E7C26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4D96-AC47-42EA-851C-C426D921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42803-0CE0-42D2-B9B3-F4F179CB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505C-4A4A-4DCC-A924-0D8D6F40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C221-99C7-4B38-9D43-DB21667D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320B4-88F4-42C7-A405-A602FC0A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B5371-6B05-480E-AAC3-CB8BD06B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B5680-0318-46A7-92EE-10BAA91E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6320-7A53-47AF-BAE9-7F31C7C5C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CC790-62F9-4238-9630-33878641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C78A3-8C38-470E-A5C0-3286FBCF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BC4-CF07-4E7C-9BFE-B016405E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6777E-3E00-4327-90D2-B90A0D5C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52B39-F536-4D65-BDC7-534C8CDC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B07DA-142F-4A56-B4A7-27F17A8A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846E3-18BA-461A-ADB4-93CFD392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2BEE7-DE19-43D2-B325-4659142C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C5C02-C27B-4558-8F0D-9D3E234A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84DC8-B2B9-426E-A093-EECA2A8B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57C0-24B0-4D15-9CF8-B213F94C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B0BA4-C69C-4349-923B-BA0735C0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CA157-8B0D-479E-B952-7109261E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B9C-8446-4CF3-9412-1CF2D6A4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17CF3-D1E6-43C7-B975-9C544DB7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08329-82E4-4C41-9271-41AD6C99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654DF-925A-408F-AD9A-202A3A65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860A4-9804-4FB9-91C6-BB4A0BE3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4D6C5-E3DD-414F-B2C0-22736CA5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AC06B-1DDF-446D-8FEC-04BE8941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0B935-7F65-4E04-952F-B18B36B3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26FE8-28D9-45FB-91CC-DC062755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7843-0A9C-49C0-897C-2A4B2714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367FA-E6E2-47BF-B6E3-D7D4A40E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F2D-5F99-484E-9217-01C2C37B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3B91-5AE9-4CFB-B093-40E7529D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64663-FD64-4DA8-AF69-0787AB78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AB402-64D2-474C-907C-D409003A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79F-725F-4C4A-ABCE-77BC81BE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7B6-482C-4F61-82CF-8D3325EF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7407-B67F-44DB-BD29-5D8AD74D311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DC4D-D5BC-4C51-AB64-D536A1B6C5D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D20B-94A3-4DDE-ABDE-CE3FE485F0D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0374-028F-4774-977D-D4B3ADF01004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66D5-F9E4-4AB4-81EE-EFD7BC8A8DF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4B60-04A1-47D7-B6FE-0E08F1D4E10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58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Simple  x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ěj proběhl a skonč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ětšinou je dána doba, kdy děj proběh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ěj probíhal po určitou dob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odbarvení jiného děje v minulost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Simple  x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388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l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 sch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ooke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rot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let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id not read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boo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id you d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ere walking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cook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nn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writ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as not reading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he book when she c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were you doing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 + past simp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got up and went to the bath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came home and cooked my lun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shouted and ran aw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simple + past continu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ile I was waiting at the traffic lights, someone shouted at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 sitting in the armchair when he c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was working in the garden when we arri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Times New Roman"/>
              </a:rPr>
              <a:t>PAST TENSE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st continuous + past continu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 playing the piano and she was dan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were shopping and she was waiting for 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minul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íhal po určitou dobu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barvení jiného děje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vyjadřuje nedokonav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23640" y="3499920"/>
            <a:ext cx="835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was / were + sloveso (-ing) +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920" y="3500280"/>
            <a:ext cx="86421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ět + wasn´t / weren´t + sloveso (-ing) +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3499920"/>
            <a:ext cx="8424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s / were + podmět + sloveso (-ing) 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íhal po určitou dobu v minu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were reading magazi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was listening to the ra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asn´t waiting for 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were you doing at five o´cloc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odbarvení jiného děje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I came home, 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cook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un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I saw him, 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cross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 watch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V when the telephone ra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2:10Z</dcterms:modified>
  <cp:revision>11</cp:revision>
  <dc:subject/>
  <dc:title>PRESENT  CONTINUOUS</dc:title>
</cp:coreProperties>
</file>