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F72F-DF1F-4BDB-BE25-C3545F8B6B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0F38-A4C8-4D19-8A51-D00CEA62419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5EA3-EB0D-43D6-9231-6A19C2AC226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0D8C-D05D-4A39-AF9E-1079CDA8A13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6B6C-3890-4AF5-A199-DF6171D6367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7ABB-7F85-4D56-9A06-58B284F2EBB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45E4-0A0C-46D7-A316-2B6C4FB1EA6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1C5-9F54-452D-9865-340E28E5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F8F-B510-44DB-BFDB-C43EC72F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266-A4FC-4B13-A76A-B6917436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263B-651D-4653-A4CD-48CCFE48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1CC7-F9BF-428F-B665-61119DC3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B64F-C016-4C79-83A3-2F43783B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50BC-3718-46C5-9F5E-A74F28C3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C99F-121C-4F76-B98C-E417FBF2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D2B9-A1A8-4431-86E0-B2128369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24CB-E2A7-4B69-B13B-83A67516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D5BB-10A0-45C6-9996-E0FAFC4C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24D6-18D2-4081-8FAB-E571C27E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9C52-E177-416D-B11E-2C3F1A05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6938-6EBB-4CDC-9B65-ADEB8AAF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4BA5-DBBE-41CF-8CE6-410C9555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4A74-2E71-4BD5-B615-04CD469B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0FF9-F2B0-42A3-8178-FC266573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EB1CF-A327-42C0-8DDD-040F2B2F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6BF4-2335-4D63-8F06-CC15875A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C7CE-DAF7-4688-AA24-33559975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BC2F-76E0-4555-8642-B923912A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CD31-F93D-4477-8A97-92079676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325-783E-4CDB-AEB6-2E293009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9717F-C5F0-4577-B647-180A9941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9EF3-8450-47D3-B11B-06EB83CA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F6EF0-CFD4-497E-A890-D9098CF0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44CB-1298-4D48-8500-8DF43481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31E75-33E2-44BC-8BEF-B80D4BC2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B8C06-A187-4C96-B970-083D12F8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E6CA8-782C-45CA-A994-0A5232E0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70BC5-5475-4041-AB23-1923C87E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D990B-85BB-4329-BA9D-DA2E2E74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9BF38-7EB6-4475-AC53-D2D4A979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D04-DEEE-4F8F-A995-3368C08C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DA656-A3D9-4DF7-A4CE-78B5FDEC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688E7-F0BC-4164-B2B2-C3A9C332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79E06-B21E-4952-BAE9-1C705E23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8CD19-6EAE-4DCF-BF14-7F599E72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44E61-DFAA-4C52-B958-7366A06A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BA21B-DC38-48A2-A843-A60785A9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7D420-038B-46B1-A7E6-C6A5E9FD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6486E-AF42-494C-A14B-5BB48568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A69C0-0155-4B4B-A0BA-5F53646D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113E4-E5E2-401B-8AEF-A41C8113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FF5-FB2D-4ADC-A7F3-C4A870C5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6766E-1B69-40C0-AC1A-6ED1CDDD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66857-D7CF-4B72-A5E7-67F608B8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D704B-79B8-43B4-90F8-AB0BF913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F4527-6529-4761-821B-6AC060AB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17E40-2DD0-4C28-A3E4-329A4B86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5BC45-3C80-4071-89A3-0CD81724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949AE-50FA-4EFC-8E69-E50085A1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F3A9F-8CD5-4A5D-97C0-3A1862A2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CB2E2-AEC0-4CE8-AE6A-2D7E6DAA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C9A72-67CF-440A-B386-5F1E8D7A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C8B-B4A2-4ED9-B3B0-3CC618EF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A7368-DF60-46A8-BB73-670777A0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AF9AB-6403-49E0-B088-42E6797D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483D6-DA2F-4B49-BEE3-5C104CA6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B3F05-8D5F-47B9-AF7E-7BE1C3FB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1A1AC-71CC-402E-87CB-E13518BF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1767A-1DAA-4770-BCA2-776B1F22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A369F-8460-4F18-ACE8-F9DB4EEE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0E425-7220-41BC-B059-61AF92CC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ABFB5-4CCF-4C39-A10B-DFB26955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E6B55-C5C5-443E-AF90-6E00239A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5DF-7150-464B-B417-8A0E9096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18F04-0EE9-47C9-95F2-6878C369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454E3-B8B6-437D-811A-056530FC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B6615-DA66-4467-9B7E-271A73AE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4C1-56DD-402E-9DBA-D4E7067B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B0C6-3C28-42BE-A639-89B7857C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6FBB-8CEE-49B0-B37A-E06CA78C61F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89F2-2DF3-4D75-BB39-FD58BA75745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B614-ABD2-403A-8A82-E5648B483CC1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922A-1F79-41BE-8970-2DAE3404440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BECB-797F-42F5-8A10-17C2C94A09C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74FB-D78D-45B1-8304-3BB5773242C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24912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říklady vět – sloveso „to be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t home at the weeke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er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in Italy last summ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asn´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t school yester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er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hey in the cinema, to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inul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minulého času prost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inul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as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24768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a skončil v minulosti a do současnosti nemá následe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pravidla je udána doba, kdy děj proběh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84000" y="3357360"/>
            <a:ext cx="7848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minulý infinitiv (2.tvar slovesa nebo koncovka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-ed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) +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26560" y="3428640"/>
            <a:ext cx="7417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didn´t + sloveso + 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55280" y="3573000"/>
            <a:ext cx="7488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id + podmět + sloveso + ...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říklady vět – pravidelná slov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open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he door and enter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pla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e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ennis last Satur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didn´t like the fil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en did you arri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říklady vět – nepravidelná slove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o the cinema an hour ag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aw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s in front of the ho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didn´t  bu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t yester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di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a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1:29Z</dcterms:modified>
  <cp:revision>10</cp:revision>
  <dc:subject/>
  <dc:title>PRESENT  CONTINUOUS</dc:title>
</cp:coreProperties>
</file>