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F08-99F1-477A-805F-6D4D503A58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927-ED72-4B01-A59D-7A1487F681C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137-2274-4F6B-A01D-E16E83813FA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821-40EC-491D-8EDC-9DDB70E6C23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1770-0DC6-4F21-9E5D-60E640BC084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6CB-8B77-4F4C-94A7-2CC445FD15D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B646-3EE8-418B-BC3C-3701737CF36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979-2B81-421F-91AB-38F9236C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B99-09B7-4BB1-92A3-179F39CA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D5A-8293-491F-A782-7F25BF64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C73-EDDE-4364-AD66-5A01EB25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327-DBDF-445E-B19C-8B1D8834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58E8-E49B-4568-AF6F-F1054834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3998-F1A9-43E4-B17F-9DC4A6FE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77AF-3E32-4AC4-9311-60563799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8E17-50F4-4DB3-96C0-23DF2E9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9D9-BB3C-48FA-83A3-8DDDE63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1ABE-C206-4C53-A282-0AE521E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938-B495-40F5-8491-9B2D907B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497B-59B0-45F1-97AD-74309B52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C912-9CD4-4DFB-B88C-FB64008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3762-5389-4C6C-8396-DA721D1A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0B3A-333E-4DDC-88F1-5861F614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245A-6D68-47A2-9C5E-2F505287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33F8-6ED4-4370-AC52-ADC815A0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F4536-6F85-49EE-8AA1-F30F9265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C5FC-23C6-4AF1-AADE-D9A68A9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B34C-3C74-408D-A0A7-5E8165FE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DBC1-D863-4961-B640-59096E2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4E89-E7F6-47BB-880C-81E5721C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E230-6ACF-47BB-A05D-2E5D086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612B-67EA-4CEA-85BF-F62747E5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1034-2D69-48F7-85BE-AEF8488C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21F2-DC84-4141-96F4-24124509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B062-74B5-4339-85DA-B98B628D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9247-681A-4ED1-9D99-28241390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C90D-C1B7-40A2-B489-E37660C9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3EF6-E18B-49B6-9877-5133410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F8F93-DA34-4121-9F29-631F42FA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EFED-CC55-4A89-9ADA-6844989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09D-5CF5-4F47-8162-EF64C70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152DD-7B4A-42A8-A2CA-B084FC47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7D67-1A38-4EE2-A989-66B2AE25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EB0A-E87D-4695-9F57-46A80014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B7FA9-6C43-4873-9D30-126FD25E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D7BE-6BC5-4C0F-AA0C-DDF0061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357E-0E89-4260-9F36-4816FA4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D3526-CB29-4435-AB62-37DD78CA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DBA86-4C3A-417C-9B98-70719D17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A0C9-3EF4-465F-B18D-F6044770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B7DCF-8F0D-4570-95C8-CC212EE6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0DD-8579-4647-9D13-72E30D4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A5528-A169-411E-A6AA-D2D546F2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8E022-A12D-48FA-B634-14D8E11B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25F7-1B10-4ABB-AF3F-A55140F1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658F0-0086-42E6-A9E8-D6F8BE39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D3B1-2C35-4C55-9604-48FAC17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424C7-762B-467B-BAAC-3AD837C7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1BE0F-5F9B-48C2-9884-8564DD4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245B-6724-44F2-8C53-8B70854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42678-F6FF-4486-8572-8AE4F6C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F8F9-E1E3-403A-85DB-AAB54F4A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580-9D7B-49F5-A3BA-87A4551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B4186-8EF2-4705-84DC-9EC832BB3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506D-24FF-46ED-91D9-9E8C91BB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27946-E1E7-4DC3-AA8E-52E3E79F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DE89E-BB79-4616-898E-04870061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FAA19-C144-4F70-8160-65BFB5A4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B3B4-72BF-40A0-A360-715E765C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464DF-378D-458E-93DC-9EB5482C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DF96-D17C-472C-B58B-6EB6BE1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0274-274F-472A-9F16-5927E42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E1A0-7F86-42EC-951A-66A90399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3C0-C5DD-4746-8B38-AA84964D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A5E2-9D62-4ABE-877C-0EDBAA83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009D-C7B2-47B4-8CD8-8533D1A3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470E6-AB53-4AD6-A522-E8462113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87F-141C-43D0-9C4F-43570D2C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B13-2FCE-48FB-91E1-290BECE4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0741-2ABA-4E76-97F1-82E80EF3253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2BD9-DC26-41F3-BE3E-37C262A57A0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FBC0-1BDF-4189-AA76-F41AAE31995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626-8C42-4768-85E1-8F8B2BBA989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697B-2B14-4157-9F9A-2DB72C66F12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69D0-4A0F-4ED2-8500-688B86E9541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404640"/>
            <a:ext cx="5297400" cy="12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oběhne v blízké budoucno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leaving tonigh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going to the cinema this even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´re moving next wee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lánování v diář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am having a meeting on Tues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e are going to the theatre on Sun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hat are you doing on Frida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is writing homework no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just going to the c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 at the momen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opakova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stá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probíhající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trvá pouze přechodnou dob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lway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ometi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very da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s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imple  x 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go to school every 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live in Karviná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plays footb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do not read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do you d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going to the supermark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living in Spa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is playing squa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am not reading 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ůběhov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ůběhov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116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000" y="1915920"/>
            <a:ext cx="8280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CONTINU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632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to be + sloveso (-ing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8000" y="3733560"/>
            <a:ext cx="8351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mět + to be not + sloveso (-ing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4920" y="357300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 be + podmět + sloveso (-ing) +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právě probí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working in the gar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watching TV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am not writing to hi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 are you do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očasný nebo přechodn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is living in London.  (only this month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aren´t staying at the Hilton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are having a part time job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0:44Z</dcterms:modified>
  <cp:revision>9</cp:revision>
  <dc:subject/>
  <dc:title>PRESENT  CONTINUOUS</dc:title>
</cp:coreProperties>
</file>