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7827-57FB-41A8-ADE3-72B5B62D30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677E-A65E-45C7-9D26-054A13B64B1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160E-0A9B-44D0-8946-650870C9367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7019-7741-43ED-B221-E0BBE2E1109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9D70-DFB2-4140-8ACA-A563B833163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E3B9-0673-42AA-9F48-52D3796A288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9F14-F1B5-4418-8575-DE5BBC5CFFA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57A-AB91-497D-B85F-E8A7B941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393-4D2E-484F-A281-374A9B7D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DFC-C52D-4887-9DFB-1D7FD848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9E9-C688-4F39-A7D6-7D929859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3679-362A-481E-94DF-267B1890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9ECE-CD7E-4F69-8467-625299E3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CA9A-36F5-4A7E-A937-34746DED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F012-BEFA-4B6C-A20F-76170672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CAA4-F15F-4C48-99BB-C764EEEB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F132-B9ED-42BA-A229-34A03D4C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38A5-C994-4FBE-B242-54646337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2F9-422F-46BB-8C3D-C8289141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CFFF-5EE6-4304-A700-2DEBC0C8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07A2-50C0-4274-8CEC-E51FB186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F3EE-0E60-463B-BA0C-DA918942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9CC8-2FC3-4E4B-ABE9-D3BE66C2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86CE-6E05-43E4-8387-5088A031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F6A79-2509-43A7-BC48-37946216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A18C-69C7-4562-B864-5C179388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6B61-4CFE-4E83-B296-069B3CC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791C-152A-4FBC-8724-43CAE1E3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7143-AF3E-4177-A706-96C6C766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EAF4-2D34-4A5A-9773-ED0017FB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7373-1AB3-4B83-9478-6BFDE86D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824BC-7E08-4DE0-908B-15B24717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4414-0B36-4196-BF78-08B9D5B3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5D2F-9661-44B5-990B-FFE05F0A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1A66D-E03C-4953-8144-D4D3AF55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35DED-DBED-45FA-B97A-5DA4DD8F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6C01-233E-4376-8E18-CAF51634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D699-0D26-4F34-B824-B676FF9E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6B9E-09D0-4936-A07E-F5ADF8A3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354BA-7B8E-4F2E-86D7-E77F314B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E10-1F02-4F62-810D-28129096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501A-4C89-4914-9B9E-6FCBFC6D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42834-3956-4E19-8EAE-2BCFB60C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2DF26-683B-4C48-B55B-EE74910C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688D4-8C7F-4806-9507-22AF0DA7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E872-B53A-4D5E-8402-251860F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05945-2125-488F-8632-F5951D7A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114AC-24CD-47CC-B5A1-7DABFBA6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20BC-2F96-4DAF-B6AF-90124F96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2FAE-D27A-41EE-BB85-644C0FD8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31D54-85E8-4AE7-865E-2833C34F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1BA-AC2D-404A-8F4D-242D5EC7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AD948-E8A2-45FE-8779-3E66D207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F68DE-99C9-4D15-94BC-ABFCF005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B564-6C1F-4883-91F6-2E357D8A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FF8C-C478-4FB0-B9A8-5D61986C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65903-1F57-4E3E-A0C6-9D5BF883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8462-1DC3-40E7-8448-F091FB8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1D92A-58BB-4686-B06A-8F905BB8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739F-73C3-4750-9AC3-7DA74864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A4394-6CB8-4EE7-A92F-5CB5B595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D2DA6-229C-4D26-8065-6F7CBA18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8A2-3B27-449C-8C4D-20F40D9C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FDD54-2112-41DB-85A2-D27FA006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9A906-FCFB-4F65-AC3D-73D2AB14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CBE23-FD20-4472-A83F-219DEF47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EFDA5-214D-4506-90F8-ADF5306A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83489-44BD-4320-96D4-09BD748E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41DC4-E718-4EFF-AC90-4798002E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18A72-729A-42F7-B2E1-DCB12529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AD172-D5E7-45BF-9F10-4A8B38C0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3DA14-C2AD-4D2B-B7C2-EDE0C7FC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BE4E6-2731-4403-8904-7D6AF572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E64-A06D-42C4-B475-84A52569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4BC6B-D7A7-41E3-AD5D-94C17C6A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C05A6-D2BB-4F1F-996B-9B7E4EB4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DD72E-FBFD-432A-8FF4-C42DC3C8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9370-2930-42C5-B2FC-49C1F11B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6FF-178D-4A97-A191-DE4632B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C947-14AB-4197-95E2-DE59238CE22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105D-4122-4AE3-AB25-F083B752818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4157-69E3-44B8-8885-55AFBE31F17E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44B4-6C82-43E2-8B9B-9061781D6DB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1E22-3303-45A3-A1E1-2C00949F52D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8906-B1FD-47F4-8872-28390DA31E4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tav osob nebo věc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live in Lond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works as a nur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Spojení s příslovci času often, sometimes, usually, every day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y travel to the sea every summe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e usually stay in this hote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often go to bed lat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 prost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přítomného času prostéh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ff00"/>
                </a:solidFill>
                <a:latin typeface="Times New Roman"/>
              </a:rPr>
              <a:t>PRESENT 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děj, který se opakuj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obecně platná pravidl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stav osob nebo věc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684360" y="3885840"/>
            <a:ext cx="79200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sloveso (3.os.č.j  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-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)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10920" y="3733560"/>
            <a:ext cx="8064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don´t (doesn´t) + sloveso +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10920" y="3885840"/>
            <a:ext cx="799308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 (does) + podmět + sloveso + ...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se opaku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he goes to school every da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e sometimes plays footbal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 don´ t watch horrors very oft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en do you usually get u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becně platná pravid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our and five make ni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e sun rises in the ea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19:47Z</dcterms:modified>
  <cp:revision>11</cp:revision>
  <dc:subject/>
  <dc:title>PRESENT  CONTINUOUS</dc:title>
</cp:coreProperties>
</file>