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DF85-7A9E-4939-8A14-29C7190FFC5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B64D-328D-4563-B1A5-B9DD2499C38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2A4D-EB1C-46C0-9EB4-91FAC2C6D44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B995-533C-497F-91CE-B5944954997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E847-4D4D-4786-8F71-2A0F53AE4C0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B93D-10FA-4BA7-87C3-B3227C19460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3EAF-581D-47D6-9BD3-F7B968EC53E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A0D-9DEF-4F16-B6A1-71892166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0BAC-1837-4D76-8A3E-54BFDD34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DE8-CB27-4AE5-B752-ED0E73BE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7CD-7516-4FF8-B1C6-8FB2BED9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54E9-E5AA-44D8-907A-D1CDC262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3FB8-79D1-4017-A04B-8ABA23EA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3CBC-45BE-4157-9055-09FE804D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3DBA-1B63-416E-A255-73A8D3DD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3E6F-E71C-41D2-8D85-746C7B6B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C3D5-04E7-433F-8106-C0B24A78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093B-A0C1-4A4F-BA6B-89DCE2E5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D89C-67C5-4A1C-A30C-EC808FF7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0E9C-84BC-4409-B337-967E0A38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A7C0-99DE-4537-8F8A-0C01B5B9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608D-D10F-4883-A5EA-FF684239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BCDF-E0FB-4BFB-91A4-57CB66CA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1FB5-E244-4B61-BB62-4D0368DC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4C5C6-8022-4E59-9D1C-694F4C07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F514C-D55B-4409-9983-CFC6F7B4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A33E9-04E7-4B7E-A526-C7B13CE3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64D1C-EB26-4947-8EB0-3F473DBE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78E55-6508-4BDB-BB0D-0651E023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CABE-6014-44BE-AC6B-6E641E00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DF1AB-1D03-4EB8-B36C-D07DEC45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D0065-9462-444B-B17C-62D14007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FECB9-8191-4A60-9AD7-76454D4E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FFB2-C277-4D94-866F-DBD6C683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46A02-D8B3-47D5-984A-A10C75E1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191D4-5EF0-470B-871E-DF7D1607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93724-B8A2-4349-B36D-840E6AAB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F2CFD-DFA1-4B18-907D-672C5845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756BA-02BB-4AAF-9834-B547D4D2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B5D3A-08FB-4A5E-9880-7CFC9796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6C1-A66C-45C5-BD82-8752A1E0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53A33-05B7-40DF-B63B-80BF4316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73779-ABEC-4642-9FCF-5DE6F672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6C7EB-E3E2-403B-A3CC-1F82CEE1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4025E-A533-4357-B51C-21D6762A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A2AD4-3204-4A1E-BF73-2B0478F9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4AD36-4C85-47BC-A5A9-BB190FDB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AA0DC-B81F-4BA5-AAC9-9516CC99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8F884-EC90-4B3D-84BB-A26BB377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20B37-5719-45DE-A5FA-C7DC57F9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F30C5-E6FB-4659-AA93-16971042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578-5FAD-42B1-AECD-72CC8B65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3CBD5-1B3F-4136-9724-7E54F8BB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57A8D-4D24-4FB6-8BF3-0366A6A0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795BF-9DF2-4CED-B47E-587D976C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03C8F-A3EE-46BF-BBCE-0B233653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512DA-D98F-4319-92C5-807304AC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6E35D-DDC3-4D94-90A3-61FD6661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530A0-F642-4B89-AE0E-792D61B3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31FEE-F235-4C9A-A227-CA9D9C79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A0752-036A-46B0-8DDD-71255181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2E911-B189-44BA-B73F-506C772F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604-C03A-4922-BB93-6A588CA4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5B9F8-EF2F-499F-8610-66058BF6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1DAA9-C90E-4491-9F3E-F8C2DC25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1E560-3D74-4AFB-B3BF-67D07230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F5161-04AE-4BCF-A38D-6D243F5C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E2D42-75E2-4A12-B433-418B8298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84EB5-7B54-4C82-91EA-B021507F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77027-8D2B-4AA4-87CF-ECDE4DC4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66F21-96A4-42C3-BCF3-A20CE96E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107C0-275B-41FE-B3E6-5B09B86B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EBC49-2C7F-460F-86F8-8E18BB98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28DD-E625-46F2-8ED5-4C3E837F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2E846-73BF-413C-9126-62ADAA44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F60F9-261C-4DF0-985B-9400EE34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71A6F-3013-43CA-B9FE-35197A22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51CC-B38E-40B6-A897-6DDDA6B0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2EA9-667E-4F7F-8210-B34BE0FC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196C-BDAC-4950-94BC-DDD012254569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B3E1-ECDB-4EB5-94C8-63D3A29C5C11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F85B-6232-46A7-B882-C303901FF85D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B434-3D66-4FB1-AD36-6F867B6C819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4330-8DA0-45CA-8353-272C29D87B20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0822-65EA-4AF6-8CF5-88B3387F1685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6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AST PERFECT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předminulý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l před jiným dějem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l před určitým časovým bodem v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zpravidla se při vyprávění vracíme v ča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WILL“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budoucí čas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avděpodobně proběhne v budoucn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okamžité rozhodnutí o budoucím děj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vrzení o budoucím děj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lib, nabídka pomoc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„GOING TO“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budoucí čas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stoprocentně proběhne v budoucnu a již teď je to zřejm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 naplánovaný do budoucna (hodlám, mám v úmyslu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8355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hled časů v angličtin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časů používaných v anglickém jazyce (upraveno pro studenty středních ško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tomný čas, minulý čas, předpřítomný čas, předminulý čas, budoucí čas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ostý čas, průběhový č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544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ČASY  -  PŘEHLED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Times New Roman"/>
              </a:rPr>
              <a:t>Přehled časů v angličtině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PRESENT SIMPLE</a:t>
            </a:r>
            <a:br>
              <a:rPr sz="5400"/>
            </a:b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(přítomný prostý)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ěj, který se opakuj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obecně platná pravid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stav osob nebo věc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CONTINUOU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přítomný průběhový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ávě probíh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očasný nebo přechodný děj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proběhne v blízké budoucnosti, plánování v diář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pojení s příslovci now, just, at the mo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AST SIMPLE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minulý prostý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ěj, který proběhl a skončil v minulosti a do současnosti nemá následe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zpravidla je udána doba, kdy děj proběh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AST CONTINUOU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minulý průběhový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ěj, který probíhal po určitou dobu v minulos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dbarvení jiného děje v minulost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vyjadřuje nedokonavý děj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380880"/>
            <a:ext cx="8353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PRESENT PERFECT SIMPLE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(předpřítomný prostý)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začal v minulosti a dodnes tr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proběhl v minulosti, ale do současnosti má násled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, který právě proběh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spojený s předložkami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sin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 spojený s příslovci času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ever, never, already, so far, yet, just a st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380880"/>
            <a:ext cx="8207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RESENT PERFECT CONTINUOUS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(předpřítomný průběhový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začal v minulosti a dodnes trv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 spojený s předložkam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inc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 spojený s otázkou, jak dlouho něco probíhá (</a:t>
            </a: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how long?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18:16Z</dcterms:modified>
  <cp:revision>12</cp:revision>
  <dc:subject/>
  <dc:title>PRESENT  CONTINUOUS</dc:title>
</cp:coreProperties>
</file>