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FAAD-D734-4193-B120-0EFE0FA1532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0B38-5243-48EB-9584-6AA65F09E2C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66DF-F7FF-46A9-BC07-7BEE0FA90D1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28F6-74CC-4CC7-B3F0-C93184077B7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6E8E-E2CB-4022-8FF1-014EDFE2638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F27A-C099-4FF3-AA1E-4584AC5BB04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CCC1-0162-4E21-9AD6-3F2B1F1032B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D97D-586C-4EC4-A5D1-3DCE87610F5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B7E2-2D10-450A-8156-5EB701D7ABB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5C8-3CD8-4C71-9CAC-775D2049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7BCC-2F78-4B43-BBA3-E4CD2DAD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21E8-D475-4305-9514-200E29F7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35D2-7031-4F38-A45C-9E354B01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A09C-7458-44E3-A850-40D1AC03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AE64-E0CC-4C21-8437-47855C95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7B9B-FE4F-4EEE-B70E-344756AA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D8D6-C119-41A0-B252-EA830591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7111-35C7-48D2-9DB2-753C6717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2FCA-505A-4C4A-9F1F-2179DE1C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8120-7F96-4B7A-B177-E5875925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3DE-A4F6-4BE5-8D9C-BE640F38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9E81-F72B-4000-9555-01AD511E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A532-C79A-4067-A816-F2090291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9F2B-1DDA-44C7-9792-890F683E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821B-EFD1-41A5-B034-B439118C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5402-F100-4A2F-A683-219D8B10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6F14F-F29A-461E-A39C-DF3FE601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5755C-86D0-467E-85FF-2DE261ED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2C4FC-5B44-4C3A-9DC1-74127FF6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4F2C9-E2DC-44C2-B754-2EF7ED81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DC777-DE80-4A00-AF1A-D506A70F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829-42EF-4B22-8DD6-7015AD62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D3895-FCAD-411E-9E9C-67792F4C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11F24-D2CE-4F73-BF00-6FEA759B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5BFF8-0B68-4865-A2B5-6B6EE52D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177F5-6AD8-4B67-BE4E-6981B2E8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2B5F1-3811-477E-8444-3142B244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863DF-A3E6-4847-A45D-56FADD0B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FACDE-4688-4299-AA82-C09CE83A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4D96A-39D2-4AA1-8CB8-B01ACF43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E34FC-8864-4E02-9E37-8803DB85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C36E1-B7AA-43A7-9F1F-4C4F1F27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767-B0EF-4F9B-A651-1D05E620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7AB76-F88B-404A-B08D-3818B5FB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8F0BD-B5C0-441C-AAB1-A2E7A61E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D2610-3349-490A-8955-2647DA99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EA721-D559-44D0-8DEC-FFBF00DB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B76AC-FC82-44E1-9EBD-DDDCB3D4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7AD06-CC0D-4DB5-BE20-1FB8AF1F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6FA97-6857-4149-A2C4-CF5E47D2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71DBD-6D45-4DA8-B56A-67983B64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4B147-B31A-46F6-946F-3B512BA5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3B28-5AD9-4B47-B609-FC8ADA24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993-DA95-4074-958F-0C2E1F12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DDB1-2926-433D-950E-18EE2197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2F3-A7A6-48E1-85A4-3443319F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5E3-A570-47C7-BDF1-30B320D3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E6F0-C845-454F-B640-69322CDDD6C2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8EA4-3D0D-42C6-9276-FCDC062BE35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EC45-AC46-4D28-8634-7B8F57CFC5E0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0484-B8AD-4725-B170-DE058E94E80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4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roles of the Counc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pass European la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oordinate economic policies in member st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onclude international agreements between the EU and other countries and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roles of the Counc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approve the EU´s budget together with the Parlia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develop common foreign affairs and security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oordinate cooperation between the national courts and police forc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nfigurations in the Counc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eneral affairs and external rel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conomic and financial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ustice and home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mployment, social policy, health and consumer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mpetit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nfigurations in the Counci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ansport, telecommunications and ener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griculture and fishe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ducation, youth and cul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UROPEAN COMMI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ependent on national governments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presents the interests of EU as a who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xecutive EU´s bo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mplements the decision of Parliament and the Counc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UROPEAN COMMI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adquarters in Bruss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ices in Luxembou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ppointed for 5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osé Manuel Barroso –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Štefan Füle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Czech commission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Picture 13" descr="fule"/>
          <p:cNvPicPr/>
          <p:nvPr/>
        </p:nvPicPr>
        <p:blipFill>
          <a:blip r:embed="rId1"/>
          <a:stretch/>
        </p:blipFill>
        <p:spPr>
          <a:xfrm>
            <a:off x="5076720" y="2781360"/>
            <a:ext cx="34815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role of the Commiss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propose legislation to the Parlia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manage and implement EU policies and the budg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enforce European la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represent the EU on the international st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JUST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 judge for each member st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7 judges and 8 general attorney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make sure that EU legislation is interpreted and applied in the same way in all EU member coun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JUST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assilios Skouris – the chairm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iří Malenovský – the Czech ju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AUDI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t up in 1975, has its seat in Luxembou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heck that EU funds are properly collected and spent legally, economically and for the intended purp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800 staff including translators and administrators and audi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eálie anglicky mluvících zemí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rganizace Evropské Uni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jak funguje Evropská Unie, jaké má organizace a jaká je jejich role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uropean Union, organisation, Parliament, council, committee, law, budg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AUDI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auditors are divided into audit gro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epare draft reports, the Court takes deci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auditors go on tours of inspections to the other EU institutions, the member states and any country receiving EU ai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RT OF AUDITO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Vitor Manuel da Silva Caldeira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Jan Kinšt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the Czech audi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CHANGES AFTER LISBON TREAT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Lisbon Treaty established two new important position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e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e Minister of Foreign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ESIDENT OF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187280" y="371628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Herman van Rompu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1" name="Picture 9" descr="rompuy 2"/>
          <p:cNvPicPr/>
          <p:nvPr/>
        </p:nvPicPr>
        <p:blipFill>
          <a:blip r:embed="rId1"/>
          <a:stretch/>
        </p:blipFill>
        <p:spPr>
          <a:xfrm>
            <a:off x="5508720" y="2708280"/>
            <a:ext cx="2736720" cy="2373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INISTER OF FOREIGN AFFAI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187280" y="371628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atherine ASH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5" name="Picture 6" descr="ashton"/>
          <p:cNvPicPr/>
          <p:nvPr/>
        </p:nvPicPr>
        <p:blipFill>
          <a:blip r:embed="rId1"/>
          <a:stretch/>
        </p:blipFill>
        <p:spPr>
          <a:xfrm>
            <a:off x="5508720" y="3095640"/>
            <a:ext cx="2808360" cy="2133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4. ORGANISING THE </a:t>
            </a:r>
            <a:br>
              <a:rPr sz="3600"/>
            </a:b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THE END OF 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3357360"/>
            <a:ext cx="401328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ORGANISING T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EUROPEAN U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4" descr="eu vlajka"/>
          <p:cNvPicPr/>
          <p:nvPr/>
        </p:nvPicPr>
        <p:blipFill>
          <a:blip r:embed="rId1"/>
          <a:stretch/>
        </p:blipFill>
        <p:spPr>
          <a:xfrm>
            <a:off x="755640" y="4005360"/>
            <a:ext cx="237636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ganising the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09" name="Organization Chart 7"/>
          <p:cNvGrpSpPr/>
          <p:nvPr/>
        </p:nvGrpSpPr>
        <p:grpSpPr>
          <a:xfrm>
            <a:off x="833400" y="2637000"/>
            <a:ext cx="7632360" cy="3376800"/>
            <a:chOff x="833400" y="2637000"/>
            <a:chExt cx="7632360" cy="3376800"/>
          </a:xfrm>
        </p:grpSpPr>
        <p:cxnSp>
          <p:nvCxnSpPr>
            <p:cNvPr id="210" name="_s1028"/>
            <p:cNvCxnSpPr>
              <a:stCxn id="211" idx="0"/>
              <a:endCxn id="212" idx="2"/>
            </p:cNvCxnSpPr>
            <p:nvPr/>
          </p:nvCxnSpPr>
          <p:spPr>
            <a:xfrm flipH="1" flipV="1" rot="5400000">
              <a:off x="3525480" y="3539160"/>
              <a:ext cx="676080" cy="1572120"/>
            </a:xfrm>
            <a:prstGeom prst="bentConnector3">
              <a:avLst>
                <a:gd name="adj1" fmla="val 1550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13" name="_s1029"/>
            <p:cNvCxnSpPr>
              <a:stCxn id="214" idx="0"/>
              <a:endCxn id="212" idx="2"/>
            </p:cNvCxnSpPr>
            <p:nvPr/>
          </p:nvCxnSpPr>
          <p:spPr>
            <a:xfrm flipV="1">
              <a:off x="4649760" y="3987360"/>
              <a:ext cx="2160" cy="67608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15" name="_s1030"/>
            <p:cNvCxnSpPr>
              <a:stCxn id="216" idx="0"/>
              <a:endCxn id="212" idx="2"/>
            </p:cNvCxnSpPr>
            <p:nvPr/>
          </p:nvCxnSpPr>
          <p:spPr>
            <a:xfrm flipV="1" rot="16200000">
              <a:off x="5883120" y="2753280"/>
              <a:ext cx="676080" cy="3143520"/>
            </a:xfrm>
            <a:prstGeom prst="bentConnector3">
              <a:avLst>
                <a:gd name="adj1" fmla="val 1550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17" name="_s1031"/>
            <p:cNvCxnSpPr>
              <a:stCxn id="218" idx="0"/>
              <a:endCxn id="212" idx="2"/>
            </p:cNvCxnSpPr>
            <p:nvPr/>
          </p:nvCxnSpPr>
          <p:spPr>
            <a:xfrm flipV="1" rot="16200000">
              <a:off x="5097240" y="3539160"/>
              <a:ext cx="676080" cy="1572120"/>
            </a:xfrm>
            <a:prstGeom prst="bentConnector3">
              <a:avLst>
                <a:gd name="adj1" fmla="val 1550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19" name="_s1032"/>
            <p:cNvCxnSpPr>
              <a:stCxn id="220" idx="0"/>
              <a:endCxn id="212" idx="2"/>
            </p:cNvCxnSpPr>
            <p:nvPr/>
          </p:nvCxnSpPr>
          <p:spPr>
            <a:xfrm flipH="1" flipV="1" rot="5400000">
              <a:off x="2739960" y="2753640"/>
              <a:ext cx="676080" cy="3143520"/>
            </a:xfrm>
            <a:prstGeom prst="bentConnector3">
              <a:avLst>
                <a:gd name="adj1" fmla="val 15503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212" name="_s1033"/>
            <p:cNvSpPr/>
            <p:nvPr/>
          </p:nvSpPr>
          <p:spPr>
            <a:xfrm>
              <a:off x="3976200" y="263700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EUROPEAN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TITUTIONS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_s1034"/>
            <p:cNvSpPr/>
            <p:nvPr/>
          </p:nvSpPr>
          <p:spPr>
            <a:xfrm>
              <a:off x="8334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EUROPEAN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ARLIAME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_s1035"/>
            <p:cNvSpPr/>
            <p:nvPr/>
          </p:nvSpPr>
          <p:spPr>
            <a:xfrm>
              <a:off x="55476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THE COURT OF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_s1036"/>
            <p:cNvSpPr/>
            <p:nvPr/>
          </p:nvSpPr>
          <p:spPr>
            <a:xfrm>
              <a:off x="71190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Arial"/>
                </a:rPr>
                <a:t>THE COURT OF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Arial"/>
                </a:rPr>
                <a:t>AUDITORS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_s1037"/>
            <p:cNvSpPr/>
            <p:nvPr/>
          </p:nvSpPr>
          <p:spPr>
            <a:xfrm>
              <a:off x="39762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Arial"/>
                </a:rPr>
                <a:t>THE EUROPEAN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3366"/>
                  </a:solidFill>
                  <a:latin typeface="Arial"/>
                </a:rPr>
                <a:t>COMMISSION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_s1038"/>
            <p:cNvSpPr/>
            <p:nvPr/>
          </p:nvSpPr>
          <p:spPr>
            <a:xfrm>
              <a:off x="2404800" y="4663080"/>
              <a:ext cx="1346760" cy="135072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350720"/>
                <a:gd name="textAreaBottom" fmla="*/ 1285200 h 1350720"/>
              </a:gdLst>
              <a:ahLst/>
              <a:rect l="textAreaLeft" t="textAreaTop" r="textAreaRight" b="textAreaBottom"/>
              <a:pathLst>
                <a:path w="21600" h="21663">
                  <a:moveTo>
                    <a:pt x="3600" y="0"/>
                  </a:moveTo>
                  <a:arcTo wR="3600" hR="3600" stAng="16200000" swAng="-5400000"/>
                  <a:lnTo>
                    <a:pt x="0" y="18063"/>
                  </a:lnTo>
                  <a:arcTo wR="3600" hR="3600" stAng="10800000" swAng="-5400000"/>
                  <a:lnTo>
                    <a:pt x="18000" y="216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THE COUNCIL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OF EU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UROPEAN PARLIA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nce 1979 the members are elected directly for five-year ter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54 members from 27 coun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2 Czech memb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numbers was slightly changed according to the Lisbon Trea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t national but political bl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UROPEAN PARLIA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Luxembourg (administrative offices - the General Secretariat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russels and Strasbourg (meeting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Jerzy Buzek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– the Presid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roles of the Parlia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ssing European la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mocratic supervision over the EU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nancial power (shares together with the Council the authority over the budge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NCIL OF THE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main decision-making bo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presents member st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eetings are attended by one minister from each EU national gover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UNCIL OF THE E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ermanent national teams in Bruss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ZE has 12 votes out of 34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ower of veto / qualified majo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residency rotates every 6 mont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orbjørn Jagland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(Secretary-General of the Counci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9:59Z</dcterms:modified>
  <cp:revision>20</cp:revision>
  <dc:subject/>
  <dc:title>EUROPEAN UNION</dc:title>
</cp:coreProperties>
</file>