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AC5C-2836-42BC-876E-66F14E67235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19C4-D2AA-432B-96BB-B01B75D2D6B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B7E3-3716-4AA1-9E2D-48B0D753BFF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B120-DEE6-4CEA-9A2C-67C12702D04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0AD5-C972-43B6-BFE1-5067000CEBA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D29E-DF00-47BC-B69D-3312CA03CB3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78B3-DA99-4409-94C9-4CFA0E5F445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35CA-D431-4BD2-A536-A043C11932F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D260-6B3D-4452-A3C5-FCB1FB87944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B18-2D91-4668-8F38-D7C6A459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8B6-1055-45FC-AD9E-0235330A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7BE-608C-4F80-8680-4FC7F743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F7C-13F9-4A5D-BFEA-5D9F63F7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2D8A-2675-4922-8BC3-0451E893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CD54-362B-46DB-8CD4-06B9C44C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EC99-567C-4989-8EF5-B57014B3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8889-573E-494C-B0B1-00D4F087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FF88-2479-4FBB-BFD3-F63BADAF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805F-34F4-47D9-907A-D6F060E5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CDD5-EDB5-467F-8648-081D214A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694-D105-4E56-ACA3-750BC7E3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4C0A-AC71-4136-8C68-5AF0887D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F6AF-B294-4436-951A-4030E0AF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74F3-BF12-454E-859A-2F5FDF95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559C-6DB5-4D69-8CF3-E8998291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3B07-8BDD-4A8E-A6A7-10637D4A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3F29-6B5D-4BAD-B47C-826812EE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2F6B-52C8-47EE-97A3-AB60D403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43F8-4061-4AAC-BD05-85486DD2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4E3A-1CA6-4CF0-ABF2-57FA7099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F4EE-77CF-423E-9F23-2F38FF4E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229-DBD4-4124-BB4F-9121CDFA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EF1BF-6F00-4640-9895-CE6F438A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ADE0-2F00-46C0-BB9E-47896546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7883-864F-42AD-A434-4C3BFAD8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757B2-669B-41F0-AAFD-B4EB06F0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F7204-8B41-43F0-8CC3-50372D82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B6C87-B73A-4C2C-A38E-05DEF7CB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7078-ECB5-48F0-8DD4-BDAE0F23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7D63-A73C-4CA0-A1F8-B8D3C378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4F6AD-D742-4E75-991D-ECCD1379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E4CA8-2F0F-4BB7-B9DA-3E822176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415-9B7F-4AA3-80A7-5DEF97D8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2F051-A5EF-4802-B298-EE2B956D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0860C-2E69-4742-94E8-402A9F93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21FC7-49D3-4C0B-A3C9-B2525082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28F5F-9F1E-4C2B-B72D-35C84830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61EC6-61C1-4597-904B-45CFCFE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0E63E-133E-4926-955B-71B79584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83CF9-A6A8-4C87-A040-6FC653DB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11D9B-7914-43E5-B6E8-AAE54487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83AF7-F1FD-42D3-BB9F-96517CE6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D66-B866-4611-8DA5-B5DC12FE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7AC-C116-4E8F-AAE7-E8A2E4D2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22E-1D42-46E6-8ECC-7F421C98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4C9-2495-42EA-98EE-3CF04209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C67-834E-4E0A-B013-88D7E0D2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4A25-97B3-4B17-A7F9-674717EF1F2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0F2F-A3AC-43E7-A494-7AEC30B0AD1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0CE8-30C5-4FAB-BD0A-9823BDCFDEA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FABF-BA3B-43BA-8206-3921FC2963D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Amsterd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Union shall respect fundamental rights, as guaranteed by the European Convention for the Protection of Human Rights and Fundamental Freedoms signed in Rome on 4 November 1950 and as they result from the constitutional traditions common to the Member States, as general principles of Community law…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Nice - 200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reform institutions of EU to be able to accept 10 new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anging the way of vo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roducing the principle of double majo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me into force on February 1, 200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- 200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CH REPUBLIC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LOVAKI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UNG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LOVENI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Picture 7" descr="ceska_republika"/>
          <p:cNvPicPr/>
          <p:nvPr/>
        </p:nvPicPr>
        <p:blipFill>
          <a:blip r:embed="rId1"/>
          <a:stretch/>
        </p:blipFill>
        <p:spPr>
          <a:xfrm>
            <a:off x="5508720" y="2924280"/>
            <a:ext cx="57132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0" name="Picture 8" descr="polsko"/>
          <p:cNvPicPr/>
          <p:nvPr/>
        </p:nvPicPr>
        <p:blipFill>
          <a:blip r:embed="rId2"/>
          <a:stretch/>
        </p:blipFill>
        <p:spPr>
          <a:xfrm>
            <a:off x="5508720" y="3429000"/>
            <a:ext cx="57600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Picture 9" descr="slovensko"/>
          <p:cNvPicPr/>
          <p:nvPr/>
        </p:nvPicPr>
        <p:blipFill>
          <a:blip r:embed="rId3"/>
          <a:stretch/>
        </p:blipFill>
        <p:spPr>
          <a:xfrm>
            <a:off x="5508720" y="3933720"/>
            <a:ext cx="57132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Picture 10" descr="madarsko"/>
          <p:cNvPicPr/>
          <p:nvPr/>
        </p:nvPicPr>
        <p:blipFill>
          <a:blip r:embed="rId4"/>
          <a:stretch/>
        </p:blipFill>
        <p:spPr>
          <a:xfrm>
            <a:off x="5508720" y="4437000"/>
            <a:ext cx="57600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11" descr="slovinsko"/>
          <p:cNvPicPr/>
          <p:nvPr/>
        </p:nvPicPr>
        <p:blipFill>
          <a:blip r:embed="rId5"/>
          <a:stretch/>
        </p:blipFill>
        <p:spPr>
          <a:xfrm>
            <a:off x="5508720" y="4941720"/>
            <a:ext cx="57600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- 200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ONIA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THUANIA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TVIA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YPRUS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LTA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Picture 7" descr="estonsko"/>
          <p:cNvPicPr/>
          <p:nvPr/>
        </p:nvPicPr>
        <p:blipFill>
          <a:blip r:embed="rId1"/>
          <a:stretch/>
        </p:blipFill>
        <p:spPr>
          <a:xfrm>
            <a:off x="5580000" y="2924280"/>
            <a:ext cx="5907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7" name="Picture 8" descr="litva"/>
          <p:cNvPicPr/>
          <p:nvPr/>
        </p:nvPicPr>
        <p:blipFill>
          <a:blip r:embed="rId2"/>
          <a:stretch/>
        </p:blipFill>
        <p:spPr>
          <a:xfrm>
            <a:off x="5580000" y="3429000"/>
            <a:ext cx="5745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9" descr="lotyssko"/>
          <p:cNvPicPr/>
          <p:nvPr/>
        </p:nvPicPr>
        <p:blipFill>
          <a:blip r:embed="rId3"/>
          <a:stretch/>
        </p:blipFill>
        <p:spPr>
          <a:xfrm>
            <a:off x="5580000" y="3933720"/>
            <a:ext cx="5745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Picture 10" descr="kypr"/>
          <p:cNvPicPr/>
          <p:nvPr/>
        </p:nvPicPr>
        <p:blipFill>
          <a:blip r:embed="rId4"/>
          <a:stretch/>
        </p:blipFill>
        <p:spPr>
          <a:xfrm>
            <a:off x="5580000" y="4437000"/>
            <a:ext cx="5745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11" descr="malta"/>
          <p:cNvPicPr/>
          <p:nvPr/>
        </p:nvPicPr>
        <p:blipFill>
          <a:blip r:embed="rId5"/>
          <a:stretch/>
        </p:blipFill>
        <p:spPr>
          <a:xfrm>
            <a:off x="5580000" y="4941720"/>
            <a:ext cx="57168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uropean Constit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31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in April 20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ed democratic decision-ma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eated a post of a European Foreign Mini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Picture 7" descr="Single act"/>
          <p:cNvPicPr/>
          <p:nvPr/>
        </p:nvPicPr>
        <p:blipFill>
          <a:blip r:embed="rId1"/>
          <a:stretch/>
        </p:blipFill>
        <p:spPr>
          <a:xfrm>
            <a:off x="5867280" y="3141720"/>
            <a:ext cx="2087640" cy="135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uropean Constit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52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ance and the Netherlands voted „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 leaders declared a period of ref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Picture 9" descr="book"/>
          <p:cNvPicPr/>
          <p:nvPr/>
        </p:nvPicPr>
        <p:blipFill>
          <a:blip r:embed="rId1"/>
          <a:stretch/>
        </p:blipFill>
        <p:spPr>
          <a:xfrm>
            <a:off x="5600880" y="3546360"/>
            <a:ext cx="2090520" cy="13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– 2007-2013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MANIA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LGA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OATIA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Picture 4" descr="rumunsko"/>
          <p:cNvPicPr/>
          <p:nvPr/>
        </p:nvPicPr>
        <p:blipFill>
          <a:blip r:embed="rId1"/>
          <a:stretch/>
        </p:blipFill>
        <p:spPr>
          <a:xfrm>
            <a:off x="5148360" y="2924280"/>
            <a:ext cx="57132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Picture 5" descr="bulharsko"/>
          <p:cNvPicPr/>
          <p:nvPr/>
        </p:nvPicPr>
        <p:blipFill>
          <a:blip r:embed="rId2"/>
          <a:stretch/>
        </p:blipFill>
        <p:spPr>
          <a:xfrm>
            <a:off x="5148360" y="3429000"/>
            <a:ext cx="57132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Obrázek 1" descr=""/>
          <p:cNvPicPr/>
          <p:nvPr/>
        </p:nvPicPr>
        <p:blipFill>
          <a:blip r:embed="rId3"/>
          <a:stretch/>
        </p:blipFill>
        <p:spPr>
          <a:xfrm>
            <a:off x="5148360" y="3941640"/>
            <a:ext cx="573120" cy="38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sbon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anges previous treaties adopted so f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on December 13, 2007 in Lisb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s recently come into for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All 27 countries ratified the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reland voted „NO“ in the first referend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zech republic was the last to 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álie anglicky mluvících zemí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Historie Evropské Unie po roce 19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dějiny Evropské Unie po roce 1993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uropean Union, Euro, trea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HISTORY OF EU AFTER MAASTRIC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eu vlajka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4 freedoms of „Single Market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o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rvic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one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90s – important da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3 Maastricht Trea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5 Schengen agreement (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 countri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7 The treaty of Amsterda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7 Agenda 2000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999 introdution of Euro for commercial and financial transac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 countries in 199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USTRIA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INLAND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WEDEN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15" descr="rakousko"/>
          <p:cNvPicPr/>
          <p:nvPr/>
        </p:nvPicPr>
        <p:blipFill>
          <a:blip r:embed="rId1"/>
          <a:stretch/>
        </p:blipFill>
        <p:spPr>
          <a:xfrm>
            <a:off x="4716360" y="299736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Picture 16" descr="2"/>
          <p:cNvPicPr/>
          <p:nvPr/>
        </p:nvPicPr>
        <p:blipFill>
          <a:blip r:embed="rId2"/>
          <a:stretch/>
        </p:blipFill>
        <p:spPr>
          <a:xfrm>
            <a:off x="4716360" y="3573360"/>
            <a:ext cx="5763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6" name="Picture 17" descr="svedsko"/>
          <p:cNvPicPr/>
          <p:nvPr/>
        </p:nvPicPr>
        <p:blipFill>
          <a:blip r:embed="rId3"/>
          <a:stretch/>
        </p:blipFill>
        <p:spPr>
          <a:xfrm>
            <a:off x="4716360" y="4149720"/>
            <a:ext cx="60984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chengen agreement - 1995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ed people to travel without having their passports check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ed people to study in other countries with EU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ok effect in 7 countries (GER, FRA, SPA, POR, BEL, LUX, N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Amsterd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9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reform EU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ke Europe more power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oncentrate more resources on employment and the rights of citiz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y of Amsterd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Union is founded on the principles of liberty, democracy, respect for human rights and fundamental freedoms, and the rule of law, principles which are common to the member states“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45Z</dcterms:modified>
  <cp:revision>15</cp:revision>
  <dc:subject/>
  <dc:title>EUROPEAN UNION</dc:title>
</cp:coreProperties>
</file>