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7D56-2A6D-4E5D-8C8F-770D7FEBC6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79B0-82FE-4C66-9B93-EEAEF92C825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8B3-7F1A-448B-82D9-062E2BDA21E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0E4-FB81-4614-A4B6-B5E15FC852A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11BB-71FE-49C0-99F7-6C72DCA9A4C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84CF-A3FC-4B91-81C2-F9425FF02EC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A222-52D0-40F3-9252-992D88871B7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7C9C-D7C3-4FBA-A0D5-5FF809970BD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2337-AA45-4A5B-A996-6B563234A5A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EB2-D0BC-4E64-B051-392FE2DD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CE3-B83A-4A64-BC20-A1FFC962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401-7D9F-4FC6-A085-AB69A086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8A09-4542-49B9-ADFD-B4C93509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7E06-6F3A-4D88-AF49-6BD3A9D7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E29D-8831-42C3-B300-C51AD2DC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8804-4130-48F9-B0C9-37775EAF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D104-A03D-45B4-A069-23E1567D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A1BB-184E-4B70-A6A5-755AF2E0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AB70-354B-4297-BDC2-2522627C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9581-3FF6-4911-8B72-9C51F04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8CD-BA58-4A16-BB7B-B84C127B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B8D3-60A9-4AB0-95E9-641A986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E6E0-3207-45A1-9CCC-5E604D92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22EC-2DA6-47E9-A1E7-1BFFB611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8DAC-70AC-476F-B6A2-932288E1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DF5A-6F87-46D2-A903-574D5073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79AE-83FC-4CCB-8566-29C7FE1D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7791-AFE3-4AB5-9AFB-572CE7DB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F3E9-F633-42FC-A09F-BBA3EF0B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D9F22-CAC0-451B-B819-C0D3ED57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01DAF-5FE8-4FD0-9F6E-5ADDD389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E0A-72CE-4E1D-A986-D6262467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EA68-722B-43A0-A905-335BB984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FAF30-472F-4F50-9C0E-B93530CA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3AAF-9FCF-44A8-8EC7-182983B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0084-EA83-4A36-A9DE-6FAA3A7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1F02-ACF2-45E0-91FE-D06FDDDA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FD20A-D10C-4A5A-B690-51122B17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F50D4-BD66-44CE-A070-4EBEF55D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A154-3027-4771-87F6-4CDDD79B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29C6-5468-454D-A735-778FA79B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3C452-D3A9-48F5-938F-7D644E8A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49E-8073-4454-A5B7-87DD3BE2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995F-0741-459D-982A-AD1C4319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316E4-6B6E-487D-8ECC-6950EB6D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15971-ED9A-4F8D-8174-11296154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D5173-EB7E-41A3-80B1-5AF2C350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FD5E-AD89-4989-A22C-A2342D5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74179-EB1D-4906-B184-4C32E55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699A-8532-4D51-B952-2D40AD23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E1BC5-F9E5-4D4C-B3B8-3A2F2C02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78F1-8DFC-4A84-9029-D4318497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B8E-CB43-463E-9691-6125B9FB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B1E3-181E-4A4A-8E56-9A2256C7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292-21B7-4689-AA79-58587979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2EC-8772-4EC1-B3CB-9087B272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82F-AB7A-40EF-9A5A-F76E099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FBF5-75A7-465F-B1C5-D12A7C2635E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0DAC-0FC4-4D4E-ADDB-A4E6EECE24F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217D-1D81-41AA-8EA7-7AFAF5FDEBA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32E-4ABC-4ACB-ADF1-3E643A6404B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ies of Ro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goals of the EEC Treaty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eliminate trade barri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develop a common tariff for im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create a common policy for managing and supporting agri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Establishing European Community</a:t>
            </a:r>
            <a:br>
              <a:rPr sz="3200"/>
            </a:b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196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32" name="Organization Chart 7"/>
          <p:cNvGrpSpPr/>
          <p:nvPr/>
        </p:nvGrpSpPr>
        <p:grpSpPr>
          <a:xfrm>
            <a:off x="833400" y="2343240"/>
            <a:ext cx="7632000" cy="3670560"/>
            <a:chOff x="833400" y="2343240"/>
            <a:chExt cx="7632000" cy="3670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617440" y="28418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V="1">
              <a:off x="4649400" y="38106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38" name="_s1030"/>
            <p:cNvCxnSpPr>
              <a:stCxn id="239" idx="0"/>
              <a:endCxn id="235" idx="2"/>
            </p:cNvCxnSpPr>
            <p:nvPr/>
          </p:nvCxnSpPr>
          <p:spPr>
            <a:xfrm flipH="1" flipV="1" rot="5400000">
              <a:off x="2946600" y="28422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35" name="_s1031"/>
            <p:cNvSpPr/>
            <p:nvPr/>
          </p:nvSpPr>
          <p:spPr>
            <a:xfrm>
              <a:off x="3504600" y="234324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_s1032"/>
            <p:cNvSpPr/>
            <p:nvPr/>
          </p:nvSpPr>
          <p:spPr>
            <a:xfrm>
              <a:off x="8334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conomic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E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_s1033"/>
            <p:cNvSpPr/>
            <p:nvPr/>
          </p:nvSpPr>
          <p:spPr>
            <a:xfrm>
              <a:off x="35046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al and Steel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CSC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_s1034"/>
            <p:cNvSpPr/>
            <p:nvPr/>
          </p:nvSpPr>
          <p:spPr>
            <a:xfrm>
              <a:off x="61758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European 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Atomic Energ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3366"/>
                  </a:solidFill>
                  <a:latin typeface="Arial"/>
                </a:rPr>
                <a:t>Communi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Arial"/>
                </a:rPr>
                <a:t>(Euratom)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 - 197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nmark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eland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nited Kingdom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2" name="Picture 4" descr="dansko"/>
          <p:cNvPicPr/>
          <p:nvPr/>
        </p:nvPicPr>
        <p:blipFill>
          <a:blip r:embed="rId1"/>
          <a:stretch/>
        </p:blipFill>
        <p:spPr>
          <a:xfrm>
            <a:off x="4716360" y="292428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5" descr="irsko"/>
          <p:cNvPicPr/>
          <p:nvPr/>
        </p:nvPicPr>
        <p:blipFill>
          <a:blip r:embed="rId2"/>
          <a:stretch/>
        </p:blipFill>
        <p:spPr>
          <a:xfrm>
            <a:off x="4716360" y="342900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6" descr="spojene_kralovstvi"/>
          <p:cNvPicPr/>
          <p:nvPr/>
        </p:nvPicPr>
        <p:blipFill>
          <a:blip r:embed="rId3"/>
          <a:stretch/>
        </p:blipFill>
        <p:spPr>
          <a:xfrm>
            <a:off x="4716360" y="393372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New memb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reece   (1981)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ain     (1986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rtugal (1986)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Picture 4" descr="recko"/>
          <p:cNvPicPr/>
          <p:nvPr/>
        </p:nvPicPr>
        <p:blipFill>
          <a:blip r:embed="rId1"/>
          <a:stretch/>
        </p:blipFill>
        <p:spPr>
          <a:xfrm>
            <a:off x="4643280" y="292428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8" name="Picture 5" descr="spanelsko"/>
          <p:cNvPicPr/>
          <p:nvPr/>
        </p:nvPicPr>
        <p:blipFill>
          <a:blip r:embed="rId2"/>
          <a:stretch/>
        </p:blipFill>
        <p:spPr>
          <a:xfrm>
            <a:off x="4643280" y="3429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9" name="Picture 6" descr="portugalsko"/>
          <p:cNvPicPr/>
          <p:nvPr/>
        </p:nvPicPr>
        <p:blipFill>
          <a:blip r:embed="rId3"/>
          <a:stretch/>
        </p:blipFill>
        <p:spPr>
          <a:xfrm>
            <a:off x="4643280" y="393372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ngle European A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in 198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t 1st January 1993 as the date of establishing a full internal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Picture 7" descr="Single act"/>
          <p:cNvPicPr/>
          <p:nvPr/>
        </p:nvPicPr>
        <p:blipFill>
          <a:blip r:embed="rId1"/>
          <a:stretch/>
        </p:blipFill>
        <p:spPr>
          <a:xfrm>
            <a:off x="5580000" y="3141720"/>
            <a:ext cx="208764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 - 199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54" name="Organization Chart 7"/>
          <p:cNvGrpSpPr/>
          <p:nvPr/>
        </p:nvGrpSpPr>
        <p:grpSpPr>
          <a:xfrm>
            <a:off x="833400" y="2343240"/>
            <a:ext cx="7632000" cy="3670560"/>
            <a:chOff x="833400" y="2343240"/>
            <a:chExt cx="7632000" cy="3670560"/>
          </a:xfrm>
        </p:grpSpPr>
        <p:cxnSp>
          <p:nvCxnSpPr>
            <p:cNvPr id="255" name="_s205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617440" y="284184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58" name="_s2053"/>
            <p:cNvCxnSpPr>
              <a:stCxn id="259" idx="0"/>
              <a:endCxn id="257" idx="2"/>
            </p:cNvCxnSpPr>
            <p:nvPr/>
          </p:nvCxnSpPr>
          <p:spPr>
            <a:xfrm flipV="1">
              <a:off x="4649400" y="3810600"/>
              <a:ext cx="360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260" name="_s2054"/>
            <p:cNvCxnSpPr>
              <a:stCxn id="261" idx="0"/>
              <a:endCxn id="257" idx="2"/>
            </p:cNvCxnSpPr>
            <p:nvPr/>
          </p:nvCxnSpPr>
          <p:spPr>
            <a:xfrm flipH="1" flipV="1" rot="5400000">
              <a:off x="2946600" y="2842200"/>
              <a:ext cx="734760" cy="2671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257" name="_s2055"/>
            <p:cNvSpPr/>
            <p:nvPr/>
          </p:nvSpPr>
          <p:spPr>
            <a:xfrm>
              <a:off x="3504600" y="234324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MAASTRICH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_s2056"/>
            <p:cNvSpPr/>
            <p:nvPr/>
          </p:nvSpPr>
          <p:spPr>
            <a:xfrm>
              <a:off x="8334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PARI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_s2057"/>
            <p:cNvSpPr/>
            <p:nvPr/>
          </p:nvSpPr>
          <p:spPr>
            <a:xfrm>
              <a:off x="35046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REATIES OF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ROM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_s2058"/>
            <p:cNvSpPr/>
            <p:nvPr/>
          </p:nvSpPr>
          <p:spPr>
            <a:xfrm>
              <a:off x="6175800" y="4545720"/>
              <a:ext cx="228960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SINGL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UROPEAN AC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2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ed 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th February 199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anges EC into EUROPEAN UNION       since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st January,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Picture 7" descr="eu vlajka"/>
          <p:cNvPicPr/>
          <p:nvPr/>
        </p:nvPicPr>
        <p:blipFill>
          <a:blip r:embed="rId1"/>
          <a:stretch/>
        </p:blipFill>
        <p:spPr>
          <a:xfrm>
            <a:off x="6300720" y="3500280"/>
            <a:ext cx="1625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astricht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ed rules f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reign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curit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-operation in just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-operation in home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ME INTO EXISTENCE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st JANUARY,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6" descr="eu vlajka"/>
          <p:cNvPicPr/>
          <p:nvPr/>
        </p:nvPicPr>
        <p:blipFill>
          <a:blip r:embed="rId1"/>
          <a:stretch/>
        </p:blipFill>
        <p:spPr>
          <a:xfrm>
            <a:off x="5796000" y="4149720"/>
            <a:ext cx="1625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MBER COUNTRIES - 199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38080" y="2362320"/>
          <a:ext cx="7693200" cy="393048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113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TAL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RMA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ELGI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E NETHERLA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UXEMBOUR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AT BRIT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NMAR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Dějiny Evropské Unie do roku 199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ějiny Evropské Unie do roku 1993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uropean Coal and Steel Community, Euratom, European Union, foundation, trea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ST YOUR KNOWLED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6 countries that founded ECS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other common organis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n did UK enter the European Communi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do you know about Maastricht Trea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12 member countries of 19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1. ESTABLISHING </a:t>
            </a:r>
            <a:br>
              <a:rPr sz="3600"/>
            </a:b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EUROPEAN UN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EXPLAINING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FOUND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4" descr="eu vlajka"/>
          <p:cNvPicPr/>
          <p:nvPr/>
        </p:nvPicPr>
        <p:blipFill>
          <a:blip r:embed="rId1"/>
          <a:stretch/>
        </p:blipFill>
        <p:spPr>
          <a:xfrm>
            <a:off x="755640" y="400536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Reasons for European integration after the World War I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economy was destroy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 lost its leading ro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cessity to avoid any other figh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desire to create free and more prosperous Eur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deas of found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46 Winston Churchil at the Zurich Universit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Idea of a European family living i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E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FREED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7" descr="Churchil"/>
          <p:cNvPicPr/>
          <p:nvPr/>
        </p:nvPicPr>
        <p:blipFill>
          <a:blip r:embed="rId1"/>
          <a:stretch/>
        </p:blipFill>
        <p:spPr>
          <a:xfrm>
            <a:off x="5688000" y="2565360"/>
            <a:ext cx="27432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deas of found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an Mon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bert Schum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ay 9, 195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Schuman´s plan of creation of a common authority in coal and steel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10" descr="schuman"/>
          <p:cNvPicPr/>
          <p:nvPr/>
        </p:nvPicPr>
        <p:blipFill>
          <a:blip r:embed="rId1"/>
          <a:stretch/>
        </p:blipFill>
        <p:spPr>
          <a:xfrm>
            <a:off x="6054840" y="2441520"/>
            <a:ext cx="1181160" cy="1625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ECSC"/>
          <p:cNvPicPr/>
          <p:nvPr/>
        </p:nvPicPr>
        <p:blipFill>
          <a:blip r:embed="rId2"/>
          <a:stretch/>
        </p:blipFill>
        <p:spPr>
          <a:xfrm>
            <a:off x="6012000" y="4762440"/>
            <a:ext cx="122400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is Trea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pril 19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ing European Coal and Steel Community (ECS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52 – the Treaty entered into fo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ean Monnet appointed President of the High Autho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SC levy - the first European tax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CSC – member count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ST GERMAN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TA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LGIU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ETHERLAND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UXEMBOUR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Picture 9" descr="francie"/>
          <p:cNvPicPr/>
          <p:nvPr/>
        </p:nvPicPr>
        <p:blipFill>
          <a:blip r:embed="rId1"/>
          <a:stretch/>
        </p:blipFill>
        <p:spPr>
          <a:xfrm>
            <a:off x="5076720" y="2421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Picture 10" descr="nemecko"/>
          <p:cNvPicPr/>
          <p:nvPr/>
        </p:nvPicPr>
        <p:blipFill>
          <a:blip r:embed="rId2"/>
          <a:stretch/>
        </p:blipFill>
        <p:spPr>
          <a:xfrm>
            <a:off x="5076720" y="2924280"/>
            <a:ext cx="57636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Picture 11" descr="italie"/>
          <p:cNvPicPr/>
          <p:nvPr/>
        </p:nvPicPr>
        <p:blipFill>
          <a:blip r:embed="rId3"/>
          <a:stretch/>
        </p:blipFill>
        <p:spPr>
          <a:xfrm>
            <a:off x="5076720" y="3429000"/>
            <a:ext cx="571680" cy="38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12" descr="belgie"/>
          <p:cNvPicPr/>
          <p:nvPr/>
        </p:nvPicPr>
        <p:blipFill>
          <a:blip r:embed="rId4"/>
          <a:stretch/>
        </p:blipFill>
        <p:spPr>
          <a:xfrm>
            <a:off x="5076720" y="3933720"/>
            <a:ext cx="57636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5" name="Picture 13" descr="nizozemsko"/>
          <p:cNvPicPr/>
          <p:nvPr/>
        </p:nvPicPr>
        <p:blipFill>
          <a:blip r:embed="rId5"/>
          <a:stretch/>
        </p:blipFill>
        <p:spPr>
          <a:xfrm>
            <a:off x="5076720" y="4437000"/>
            <a:ext cx="57168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Picture 14" descr="lucembursko"/>
          <p:cNvPicPr/>
          <p:nvPr/>
        </p:nvPicPr>
        <p:blipFill>
          <a:blip r:embed="rId6"/>
          <a:stretch/>
        </p:blipFill>
        <p:spPr>
          <a:xfrm>
            <a:off x="5076720" y="4941720"/>
            <a:ext cx="574920" cy="3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Treaties of Ro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5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x member countries signed treaties establish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Economic Community (EEC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uropean Atomic Energy Commun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Eurato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33Z</dcterms:modified>
  <cp:revision>13</cp:revision>
  <dc:subject/>
  <dc:title>EUROPEAN UNION</dc:title>
</cp:coreProperties>
</file>