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AC2F-3F94-4678-8545-2B929AF9F2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1801-C17E-453B-92E9-1B87E21A4A1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4988-EB38-4722-B52E-269F022BFD8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1E45-37F8-4EC6-9390-2E95AAF4D9B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EE7A-77BB-432E-A7FC-3FD6CC3AE15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4C97-4B44-4E9F-900F-24566D59997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7C92-0B31-430D-BE83-82DFEC91A2B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BBEF-2844-4C4E-BBF9-67BE224B2DA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577-2E7D-4FB8-A1B3-9377E626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F89-E766-4CC2-B655-103C92CA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CA8B-6D1A-4F3B-8BCE-B3A21DE0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21B-2ACB-46A0-ADD3-2F98F64E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97D4-7764-4CBA-A5A0-66FFC3E6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8C42-E836-4AF2-9B2B-2A00ACFF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9FF5-3AD1-43D1-99B8-74E42215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F245-FB59-4036-817F-23C4122C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4C2A-860B-4687-952A-C3783A05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F46A-837B-4D22-B730-3756B66C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900A-9018-470F-8334-1A68A237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823-E7B9-4CAC-8AC9-B759962E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F3B2-3597-44EE-BD58-16B19680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67B0-8D2A-4566-811E-DF4C4F85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BF3A-27D5-4AC0-A1BA-FEBF81FE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79FA-E223-466C-9370-B67876E2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091F-1B53-4036-8973-71AE6E57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8B63-A131-425E-BF74-699495EA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74B9-1F94-40E4-83F2-768D3A00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FC93-6BB9-4ABE-B440-A3A8552F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6F69-BB2A-4B6C-AF7E-57D01F81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3D89-D26A-4B04-92D6-92CE0D8E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8B1-EE97-4A2F-83EB-A8C9C2C8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CAD4-B087-4A85-8773-F3159E8A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CD3D-C8C3-4225-9F06-D7B29B8A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89A8-92A3-475A-87F6-AD85B99F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BD563-C7C4-41EC-8A66-40222BA1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3506-80FA-44E1-A318-FE1750A1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D60F-13E0-4E4D-A2CA-A9D47A86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63694-DA1B-4EEB-80ED-8B676883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1B07-8224-4BC5-9601-9FBCAF63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490B-9FE0-48EC-8D91-4ACCC0EF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1C4CA-9166-4ED7-AB46-E7FB6D72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69D-012C-4D7F-B4C9-4CD04AAB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49E70-56D8-4894-A0CB-A46D5EAA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8E57A-7FCE-4656-885E-A3E1211D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182D2-BBED-4FB0-BB07-C1C1F8AA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20A33-20BA-4CF3-9A0D-36CF79D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8F9F-7434-4B02-926B-9EAC2D7E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F62A-E20F-4922-9653-419070B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5C63-290E-4040-A490-615BF31C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2CB53-512D-4A6C-941B-3378EC9A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0574C-1810-47A3-8771-618C2BC8E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710-EA8C-46CC-B923-8442C831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5BF-1AB0-47C3-B634-CE1E4F10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DB7-D3D5-450C-831B-C3E6DF6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57C-8913-40D6-829A-6A2D7462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EF8-935F-493F-8994-A69BE68A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F8A1-AA01-43E7-840B-DA1D6D7BA74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CEF2-FDAE-4392-BA4B-C2DE637BC37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02D3-1C23-405F-9796-F26EB6A5D9B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87D4-661D-4CDA-B893-D3DE7AB82A2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7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Nixon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- Watergate Affai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(Nixon had to resig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rald F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immy Car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(in 2002 awar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obel Prize for Peace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2" descr=""/>
          <p:cNvPicPr/>
          <p:nvPr/>
        </p:nvPicPr>
        <p:blipFill>
          <a:blip r:embed="rId1"/>
          <a:stretch/>
        </p:blipFill>
        <p:spPr>
          <a:xfrm>
            <a:off x="5468760" y="2781360"/>
            <a:ext cx="234792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8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Ronald Reag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ld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oviet Union proclaimed the Empire of Ev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nce 1989 G.Bu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3" descr=""/>
          <p:cNvPicPr/>
          <p:nvPr/>
        </p:nvPicPr>
        <p:blipFill>
          <a:blip r:embed="rId1"/>
          <a:stretch/>
        </p:blipFill>
        <p:spPr>
          <a:xfrm>
            <a:off x="5435640" y="2712960"/>
            <a:ext cx="2449440" cy="3057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9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Bush S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anama Inva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Gulf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end of Cold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ill Clin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ATO operations in Yugoslav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435640" y="2712960"/>
            <a:ext cx="2449440" cy="3057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00 - n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238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264d"/>
                </a:solidFill>
                <a:latin typeface="Arial"/>
              </a:rPr>
              <a:t>What do you know about the US history in the last 15 years?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5375160" y="2637000"/>
            <a:ext cx="2421000" cy="3024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Nevis A., Steele Commaner H. 1994. Dějiny Spojených Států. AMLYN Klato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Tindall G.B., Shi D.E., 2008. Dějiny Spojených Států Amerických, Nakladatelství Lidové Novi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jiny_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rican history – 20th centu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Spojených států 20.století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history, presi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AMERICAN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LD WAR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oodrow Wilson proclaimed neutr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nce 1917 USA involved in the World War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son helped to establish Czechoslovak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510160" y="2708280"/>
            <a:ext cx="2301840" cy="3073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TWEEN THE WA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fter the war prohib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29 – Black Thursday (started on October 24 at the Stock Exchange, big economic crises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ew Deal – economic plan 1933-193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5251320" y="3141720"/>
            <a:ext cx="296712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LD WAR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41 – Japanese attacked Pearl Harb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USA involved in the World War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orma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iroshima, Nagasa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iberation of Plze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113440" y="2997360"/>
            <a:ext cx="3147840" cy="251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RSHALL 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670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48 – European Recovery Program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nnounced by the minister of foreign affairs Marshall in 194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48-1952 (13 bil.dolla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oslovakia refus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665680" y="3062160"/>
            <a:ext cx="196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5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50 – 1953 Korean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33,000 American soldiers d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General MacArth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5" descr=""/>
          <p:cNvPicPr/>
          <p:nvPr/>
        </p:nvPicPr>
        <p:blipFill>
          <a:blip r:embed="rId1"/>
          <a:stretch/>
        </p:blipFill>
        <p:spPr>
          <a:xfrm>
            <a:off x="4986360" y="2997360"/>
            <a:ext cx="3116160" cy="2303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60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67064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Fitzgerald Kenne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61 – Cuba (an attempt to capture Castr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962 – Cuba cri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rtin Luther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ietnam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3" descr=""/>
          <p:cNvPicPr/>
          <p:nvPr/>
        </p:nvPicPr>
        <p:blipFill>
          <a:blip r:embed="rId1"/>
          <a:stretch/>
        </p:blipFill>
        <p:spPr>
          <a:xfrm>
            <a:off x="5627520" y="2924280"/>
            <a:ext cx="2184480" cy="2789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9:20Z</dcterms:modified>
  <cp:revision>57</cp:revision>
  <dc:subject/>
  <dc:title>EUROPEAN UNION</dc:title>
</cp:coreProperties>
</file>