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773B5-F330-4688-B3D4-7C36D1651DB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1C167-98FF-424C-8839-31F8975A8173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06A3C-8B72-4639-8386-8A509F6BBFB9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DC0F3-FE47-42C6-9D1C-9194214FA3B1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0A6B6-409A-4096-ABBF-B0C3DCC7FABC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8A9EB-BDB7-4A2F-BBA5-E6ECEE56D4AC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3249C-84DF-4B89-83D1-694ADAB69BC5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2B157-F383-43BB-B609-AE84CA2951AF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EB6F-1D92-4111-B7EE-3A47A42FE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2D56-A883-4128-9F1B-CAA4131A4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8CE1-56DD-4203-ACA3-918009834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ADCF-A3C9-4E3D-8E1B-13E3DB52C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8DEA7-95EB-459D-9CC0-8939DABA4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AA44C-185D-4B7D-B753-83921F948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3C556-495A-41EC-977A-D3F47CDB0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64769-B6E8-4824-8426-B33804914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4474E-8BAC-493C-B49B-E3E5B363A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8AA69-3664-4492-9C47-B77E4913A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332AC-DE63-46A8-B9A7-E058DAC1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E4EC-B190-4094-8F48-FE655EED5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90EFB-B1AC-48A1-921B-09AA4DDD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82AD1-0A9B-4704-8708-21918F08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FE31C-20FD-4E73-86D2-19B6C4F4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D1892-5072-4E83-B79F-6C2545042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5728A-C27B-427E-B196-5DB774FC4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F4417-AD5C-472C-BD06-03C6DF38E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7020C-4389-462B-806F-B7C21CDE4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462CF-A09E-4EB7-A3F8-B1A10E4E7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BF03F-7F17-4553-8D17-957B2F3B5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8330B-E9E2-456A-AEAF-4AA02B206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D156-4ADC-4BE8-9E2E-9CD31F180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72738-01BA-4469-A287-B0AB82642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6D91B-3621-45DE-96CA-1C1C7424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E1D06-3D17-463F-9130-B1FA4BF7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EBB1B-BC08-4039-A294-64B2F3E2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69826-D449-4A5B-A761-5179CC4E2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14DB5-860A-4737-9865-3F8B8994B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21AB8-78F1-44BE-8D88-8F8601CE1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5C01C-1B03-485A-839F-087900612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A2316-8CE1-4F7D-A55C-701DB24AE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319A1-CBF1-454A-871E-AE76C0585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A9E2-2640-4657-93BE-495FD78DC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AADA0-55C0-45BF-BF06-1F8C593AE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0ED5C-879A-4BDC-ACA2-86DBD7533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74D26-F19E-49DC-B0BE-240ED04E7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D07F4-9AF3-4780-BF37-2B38B1D2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CB5B1-38E8-46A0-95D8-4634BDFC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EAB40-10CD-471D-B21B-7F79B225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E1265-7408-49F5-A453-45F46FD93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C946F-50F4-4476-A730-294D4B7AC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03F65-9970-46CE-887C-D97945685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FC97-6FBF-4B34-8B3B-C5D5CA07B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5197-1A43-4EAA-B949-040BC76BF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9E3E-B534-476D-8D9E-1B8E8CE4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7A3B-10A0-48A0-A961-E8543348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7A98-FB21-42E2-BD82-25DA2083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5109B-518B-4F9E-96D3-790F59BD29C5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17375-2E25-48D5-A2E0-CBD79D614C70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9C03D-349E-421D-B535-4FE21B61F266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4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4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4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07D4B-5762-428B-BA8E-EB0B362A341F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3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čtvrtý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3 / 2014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23526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OSTON TEA PART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31028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773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– Americans dressed as Indians emptied chests of British tea to the oce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otest against big taxes on te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 England George II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7" name="Zástupný symbol pro obsah 3" descr=""/>
          <p:cNvPicPr/>
          <p:nvPr/>
        </p:nvPicPr>
        <p:blipFill>
          <a:blip r:embed="rId1"/>
          <a:stretch/>
        </p:blipFill>
        <p:spPr>
          <a:xfrm>
            <a:off x="5268960" y="3395520"/>
            <a:ext cx="3046320" cy="18338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AR OF INDEPENDE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31028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775 - 1783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– war of independence on England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775 – The battle of Lexington, Concor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June 1775 – the battle of 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Bunker Hi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0" name="Zástupný symbol pro obsah 2" descr=""/>
          <p:cNvPicPr/>
          <p:nvPr/>
        </p:nvPicPr>
        <p:blipFill>
          <a:blip r:embed="rId1"/>
          <a:stretch/>
        </p:blipFill>
        <p:spPr>
          <a:xfrm>
            <a:off x="5011560" y="3141720"/>
            <a:ext cx="325944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DECLARATION OF INDEPENDE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31028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July 4th, 1776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– the Declaration of Independ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hiladelph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stablishing the US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3" name="Zástupný symbol pro obsah 5" descr=""/>
          <p:cNvPicPr/>
          <p:nvPr/>
        </p:nvPicPr>
        <p:blipFill>
          <a:blip r:embed="rId1"/>
          <a:stretch/>
        </p:blipFill>
        <p:spPr>
          <a:xfrm>
            <a:off x="4761000" y="2968560"/>
            <a:ext cx="3770280" cy="251136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DECLARATION OF INDEPENDE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35" name="Zástupný symbol pro obsah 5" descr=""/>
          <p:cNvPicPr/>
          <p:nvPr/>
        </p:nvPicPr>
        <p:blipFill>
          <a:blip r:embed="rId1"/>
          <a:stretch/>
        </p:blipFill>
        <p:spPr>
          <a:xfrm>
            <a:off x="1890720" y="2362320"/>
            <a:ext cx="5587920" cy="37242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END OF THE WAR OF INDEPENDE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31028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783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– Paris Trea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USA recognised as a free and independent count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nglish King and his heirs gave up any deman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8" name="Zástupný symbol pro obsah 2" descr=""/>
          <p:cNvPicPr/>
          <p:nvPr/>
        </p:nvPicPr>
        <p:blipFill>
          <a:blip r:embed="rId1"/>
          <a:stretch/>
        </p:blipFill>
        <p:spPr>
          <a:xfrm>
            <a:off x="5018040" y="3141720"/>
            <a:ext cx="346248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GEORGE WASHINGT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31028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789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– George Washington elected the 1</a:t>
            </a:r>
            <a:r>
              <a:rPr b="0" lang="cs-CZ" sz="2800" spc="-1" strike="noStrike" baseline="30000">
                <a:solidFill>
                  <a:srgbClr val="003366"/>
                </a:solidFill>
                <a:latin typeface="Arial"/>
              </a:rPr>
              <a:t>st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presid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793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– re-elected aga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esident until 1797, then returned to Virginia. Died in 1799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1" name="Zástupný symbol pro obsah 3" descr=""/>
          <p:cNvPicPr/>
          <p:nvPr/>
        </p:nvPicPr>
        <p:blipFill>
          <a:blip r:embed="rId1"/>
          <a:stretch/>
        </p:blipFill>
        <p:spPr>
          <a:xfrm>
            <a:off x="5464080" y="2781360"/>
            <a:ext cx="2421000" cy="295596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OTHER IMPORTANT LEAD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16556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John Adams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– 2nd presid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Thomas Jefferson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– 3rd presid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Benjamin Frankli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4" name="Zástupný symbol pro obsah 2" descr=""/>
          <p:cNvPicPr/>
          <p:nvPr/>
        </p:nvPicPr>
        <p:blipFill>
          <a:blip r:embed="rId1"/>
          <a:stretch/>
        </p:blipFill>
        <p:spPr>
          <a:xfrm>
            <a:off x="5052960" y="3141720"/>
            <a:ext cx="3282840" cy="22320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LOUISIANA PURCHAS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16556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803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– USA bought from France the territory of 2,140,000 km</a:t>
            </a:r>
            <a:r>
              <a:rPr b="0" lang="cs-CZ" sz="2800" spc="-1" strike="noStrike" baseline="30000">
                <a:solidFill>
                  <a:srgbClr val="003366"/>
                </a:solidFill>
                <a:latin typeface="Arial"/>
              </a:rPr>
              <a:t>2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for 15 million dolla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Lousiana </a:t>
            </a: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included 15 today´s US and 2 Canadian stat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7" name="Zástupný symbol pro obsah 3" descr=""/>
          <p:cNvPicPr/>
          <p:nvPr/>
        </p:nvPicPr>
        <p:blipFill>
          <a:blip r:embed="rId1"/>
          <a:stretch/>
        </p:blipFill>
        <p:spPr>
          <a:xfrm>
            <a:off x="4879800" y="3141720"/>
            <a:ext cx="375768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IVIL WA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16556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861 - 1865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– Civil War between North and South (Union x Confederatio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lavery in the Sou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dustry in the Nor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0" name="Zástupný symbol pro obsah 2" descr=""/>
          <p:cNvPicPr/>
          <p:nvPr/>
        </p:nvPicPr>
        <p:blipFill>
          <a:blip r:embed="rId1"/>
          <a:stretch/>
        </p:blipFill>
        <p:spPr>
          <a:xfrm>
            <a:off x="5114880" y="3284640"/>
            <a:ext cx="298620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IVIL WA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16556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859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– John Brown´s upris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860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– Abraham Lincoln elected Presid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860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– South Carolina left Un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3" name="Zástupný symbol pro obsah 3" descr=""/>
          <p:cNvPicPr/>
          <p:nvPr/>
        </p:nvPicPr>
        <p:blipFill>
          <a:blip r:embed="rId1"/>
          <a:stretch/>
        </p:blipFill>
        <p:spPr>
          <a:xfrm>
            <a:off x="5086440" y="3213000"/>
            <a:ext cx="3219480" cy="20876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Reálie anglicky mluvících zemí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Konverzace z anglického jazyk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merican histor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 základní data z historie Spojených států až do 20.století. Prezentace slouží jako podpůrný materiál při výkladu vyučujícího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USA, history, battle, presiden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23544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IVIL WA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16556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Confederation establish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President Jefferson Dav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The capital Montgomery, then Richmo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6" name="Zástupný symbol pro obsah 2" descr=""/>
          <p:cNvPicPr/>
          <p:nvPr/>
        </p:nvPicPr>
        <p:blipFill>
          <a:blip r:embed="rId1"/>
          <a:stretch/>
        </p:blipFill>
        <p:spPr>
          <a:xfrm>
            <a:off x="5297400" y="3376440"/>
            <a:ext cx="2695680" cy="16956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IVIL WA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16556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861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– Confederation troops attacked Fort Sum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863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– the Battle of Gettysburg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865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– end of the war, the North w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9" name="Zástupný symbol pro obsah 3" descr=""/>
          <p:cNvPicPr/>
          <p:nvPr/>
        </p:nvPicPr>
        <p:blipFill>
          <a:blip r:embed="rId1"/>
          <a:stretch/>
        </p:blipFill>
        <p:spPr>
          <a:xfrm>
            <a:off x="5086440" y="3213000"/>
            <a:ext cx="3219480" cy="20876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ABRAHAM LINCOL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16556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16</a:t>
            </a:r>
            <a:r>
              <a:rPr b="0" lang="cs-CZ" sz="2800" spc="-1" strike="noStrike" baseline="30000">
                <a:solidFill>
                  <a:srgbClr val="00264d"/>
                </a:solidFill>
                <a:latin typeface="Arial"/>
              </a:rPr>
              <a:t>th</a:t>
            </a: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 President of the US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Leader of the Nor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Abolished slave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Assasinated in 1865 in the Ford theat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62" name="Zástupný symbol pro obsah 3" descr=""/>
          <p:cNvPicPr/>
          <p:nvPr/>
        </p:nvPicPr>
        <p:blipFill>
          <a:blip r:embed="rId1"/>
          <a:stretch/>
        </p:blipFill>
        <p:spPr>
          <a:xfrm>
            <a:off x="5508720" y="2820960"/>
            <a:ext cx="2361960" cy="29116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  <a:ea typeface="Arial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1258920" y="1557360"/>
            <a:ext cx="77007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Nevis A., Steele Commaner H. 1994. Dějiny Spojených Států. AMLYN Klatov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Tindall G.B., Shi D.E., 2008. Dějiny Spojených Států Amerických, Nakladatelství Lidové Novin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Dějiny_US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search.creativecommons.org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Arial"/>
              </a:rPr>
              <a:t>AMERICAN HISTO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BASIC FAC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IMPORTANT EV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FIRST EUROPEA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4094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irst Europeans came to North America from Green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Eric the Red Head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ounded a settlement in 98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 1001 his son 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Leif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9" name="Zástupný symbol pro obsah 2" descr=""/>
          <p:cNvPicPr/>
          <p:nvPr/>
        </p:nvPicPr>
        <p:blipFill>
          <a:blip r:embed="rId1"/>
          <a:stretch/>
        </p:blipFill>
        <p:spPr>
          <a:xfrm>
            <a:off x="5435640" y="2514600"/>
            <a:ext cx="2305080" cy="32558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FIRST EUROPEA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4094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492 – 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Christopher Columb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sailor from Ven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e thought he had landed in India and called native people the India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2" name="Zástupný symbol pro obsah 3" descr=""/>
          <p:cNvPicPr/>
          <p:nvPr/>
        </p:nvPicPr>
        <p:blipFill>
          <a:blip r:embed="rId1"/>
          <a:stretch/>
        </p:blipFill>
        <p:spPr>
          <a:xfrm>
            <a:off x="5464080" y="2708280"/>
            <a:ext cx="2276640" cy="29192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FIRST EUROPEA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4094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John Cabot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(Giovanni Cabotto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 1497 he landed in today´s Newfound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e spent a few weeks sailing along the coas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5" name="Zástupný symbol pro obsah 2" descr=""/>
          <p:cNvPicPr/>
          <p:nvPr/>
        </p:nvPicPr>
        <p:blipFill>
          <a:blip r:embed="rId1"/>
          <a:stretch/>
        </p:blipFill>
        <p:spPr>
          <a:xfrm>
            <a:off x="5510160" y="2781360"/>
            <a:ext cx="2301840" cy="292572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FIRST COLON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238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Jamestown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– the first English colony (in Virginia) - 160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aptain John Smi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John Rolfe - tobacc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ocahontas, Powhat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8" name="Zástupný symbol pro obsah 3" descr=""/>
          <p:cNvPicPr/>
          <p:nvPr/>
        </p:nvPicPr>
        <p:blipFill>
          <a:blip r:embed="rId1"/>
          <a:stretch/>
        </p:blipFill>
        <p:spPr>
          <a:xfrm>
            <a:off x="5295960" y="3213000"/>
            <a:ext cx="3076560" cy="23036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ILGRIM FATH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31028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620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– a group of 102 people landed in Plymou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ayflow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nly half of them survived (</a:t>
            </a:r>
            <a:r>
              <a:rPr b="0" i="1" lang="cs-CZ" sz="2800" spc="-1" strike="noStrike">
                <a:solidFill>
                  <a:srgbClr val="003366"/>
                </a:solidFill>
                <a:latin typeface="Arial"/>
              </a:rPr>
              <a:t>Thanksgiving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ew Eng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1" name="Zástupný symbol pro obsah 4" descr=""/>
          <p:cNvPicPr/>
          <p:nvPr/>
        </p:nvPicPr>
        <p:blipFill>
          <a:blip r:embed="rId1"/>
          <a:stretch/>
        </p:blipFill>
        <p:spPr>
          <a:xfrm>
            <a:off x="5246640" y="3068640"/>
            <a:ext cx="2878200" cy="237636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8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31028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3 colonies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along the Atlantic coast under the British ru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rench territories to the we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outh-north from Louisiana to Cana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4" name="Zástupný symbol pro obsah 2" descr=""/>
          <p:cNvPicPr/>
          <p:nvPr/>
        </p:nvPicPr>
        <p:blipFill>
          <a:blip r:embed="rId1"/>
          <a:stretch/>
        </p:blipFill>
        <p:spPr>
          <a:xfrm>
            <a:off x="5378400" y="3324240"/>
            <a:ext cx="2884680" cy="20494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20:36:03Z</dcterms:created>
  <dc:creator>Mgr.Martin Frolík</dc:creator>
  <dc:description/>
  <dc:language>en-US</dc:language>
  <cp:lastModifiedBy>Igor</cp:lastModifiedBy>
  <dcterms:modified xsi:type="dcterms:W3CDTF">2014-09-13T14:18:17Z</dcterms:modified>
  <cp:revision>58</cp:revision>
  <dc:subject/>
  <dc:title>EUROPEAN UNION</dc:title>
</cp:coreProperties>
</file>