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A055-E4E4-420D-8879-DAEFD19A64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2B7E-0B35-4A63-9896-2597A79D228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EFDA-6712-423C-B435-1AD2F2D25BE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112E-D7D1-4892-9FEA-63E309D9B11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AC7D-9C63-4B20-883B-D2A577E4F117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A919-F5E5-49F9-8F8D-F82682A460E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B4E2-CF7F-4BB3-9330-FB96286BF69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9121-84B7-408C-BB8E-E7CEC84B5212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6EC9-C722-4E41-A545-5D252FD4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258-85AF-4681-8719-21E14847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F86-02D2-4C9F-8321-F733D59A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294-0C2D-4749-BB6D-52269387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FEAB-E7A1-4EA2-9709-68F8E491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602A-AAF8-4041-912A-882A7210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BC4A-B53B-4104-809D-0DC765CC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2FF1-35F6-4CAF-8756-9722D0DE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E56F-38DF-48CB-BD7E-59F2A70B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010B-98FB-4C51-B339-8A02CDC6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F8EC-1582-4C6B-8E2D-E228CA5A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32D-C481-45B7-A3ED-D9EA345C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1FF3-4944-4B80-9169-373A060B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1411-AFCE-47FB-9749-B1BF2491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C914-3880-484C-BB49-5E24CC56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E5C6-0D0B-4AF1-BEED-5BBA5178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35E0-60F4-4974-970B-E52AB8C9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AFD3E-8F5D-4A8F-84FD-021BA2EC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FC18-0DE0-4D54-AABD-B66F5D37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2F2BB-77E3-40A8-9D75-341AA7CA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48140-F910-427C-BCA2-E330A567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C6507-638E-4031-8889-DF93270F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9BC-52E3-4602-A430-A8485C96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A8358-74E4-45AD-9374-705F9C6E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F969D-9D96-4002-AAAB-001AB002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2E0D0-DA97-4545-8AD4-474B9DA3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0370D-3467-4DCD-B669-304AC4D6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6AEE7-6A49-43D3-873F-5D46FF6D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9743D-7525-4562-AB6B-8EE90EBF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B7DDA-269A-4332-8C0B-C4AB7025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3EDB6-D945-45AA-9403-F92907C2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16BFE-015D-4BAA-B0DE-00B36EAD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1D35C-0565-40C3-9E96-A5DBFD79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DFC-8537-4D52-A4A4-E9244EA5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F9DA4-487C-4E03-9276-15130F9F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9E06E-D5FD-4C43-AE8E-72D7E8EF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92C8-AE68-4551-BFE6-31794263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E1C81-E5EE-4BD7-886B-86D77BBB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2137-1364-4298-A515-BCF83B55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91AC6-7EA7-48B6-9C25-5CE395B3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CA574-1A57-4F7E-BE40-48552DA8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3F93F-A348-41C2-8050-621AABEA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B488B-204E-457A-B1AA-95944E25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749-4373-44AF-B9E9-D2C5B595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4BE-D73E-4D2A-9962-616586D3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64C-9E8B-47AD-AB46-9D94AF1C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A82-1ABE-47CF-99F1-A0BB5A2B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FF0-A9EA-4A6E-AAE3-9D4FC028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A731-0815-46EF-B846-46133759C1E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286B-92BE-4D07-BBA7-D3386DC8F11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6337-C604-4583-8573-CAFD4C6E802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E0A7-199F-48AD-96FC-44F5A558C66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3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86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hn Lackland (1199-121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n 1204 he lost control of Norman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Mocking name „soft sword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Magna Carta (king´s rights were limit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Zástupný symbol pro obsah 3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2928960" cy="1947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3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86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III (1216-127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enry III became king at the age of 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 lot of uprising and civil wars during his re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Zástupný symbol pro obsah 2" descr=""/>
          <p:cNvPicPr/>
          <p:nvPr/>
        </p:nvPicPr>
        <p:blipFill>
          <a:blip r:embed="rId1"/>
          <a:stretch/>
        </p:blipFill>
        <p:spPr>
          <a:xfrm>
            <a:off x="5421240" y="3290760"/>
            <a:ext cx="2679840" cy="2043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3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86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I (1272-130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ammer of the Sco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alled first Parlia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298 defeated the Scots at the Battle of Falki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illiam Wallace, Robert Bru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3" name="Zástupný symbol pro obsah 3" descr=""/>
          <p:cNvPicPr/>
          <p:nvPr/>
        </p:nvPicPr>
        <p:blipFill>
          <a:blip r:embed="rId1"/>
          <a:stretch/>
        </p:blipFill>
        <p:spPr>
          <a:xfrm>
            <a:off x="5724360" y="2781360"/>
            <a:ext cx="2160720" cy="3024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4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10228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II (1307-132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e married Isabela, the daughter of King Philip IV of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ffected for Gavestone, a Gascon knig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14 Robert Bruce crushed English ar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Zástupný symbol pro obsah 2" descr=""/>
          <p:cNvPicPr/>
          <p:nvPr/>
        </p:nvPicPr>
        <p:blipFill>
          <a:blip r:embed="rId1"/>
          <a:stretch/>
        </p:blipFill>
        <p:spPr>
          <a:xfrm>
            <a:off x="6012000" y="2852640"/>
            <a:ext cx="2411280" cy="2919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4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10228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III (1327-137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40 he proclaimed himself King of France which started Hundred Years´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46 – the Battle of Crécy (Calais      English colon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48 – 1349 Black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9" name="Zástupný symbol pro obsah 2" descr=""/>
          <p:cNvPicPr/>
          <p:nvPr/>
        </p:nvPicPr>
        <p:blipFill>
          <a:blip r:embed="rId1"/>
          <a:stretch/>
        </p:blipFill>
        <p:spPr>
          <a:xfrm>
            <a:off x="6084720" y="2924280"/>
            <a:ext cx="2232360" cy="2927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40" name="Šipka doprava 4"/>
          <p:cNvSpPr/>
          <p:nvPr/>
        </p:nvSpPr>
        <p:spPr>
          <a:xfrm>
            <a:off x="2411280" y="5133960"/>
            <a:ext cx="505080" cy="243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4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ichard II (1377-1399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 youngest son of Edward the Black Prince and Joan of K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382 – Ann of Bohem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Fights against the Lanca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mprisoned, died in 1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Zástupný symbol pro obsah 3" descr=""/>
          <p:cNvPicPr/>
          <p:nvPr/>
        </p:nvPicPr>
        <p:blipFill>
          <a:blip r:embed="rId1"/>
          <a:stretch/>
        </p:blipFill>
        <p:spPr>
          <a:xfrm>
            <a:off x="6443640" y="3068640"/>
            <a:ext cx="2016000" cy="2668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4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IV (1399-141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Debatable claim to the thr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05 – uprising in W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Fearful of assasination, ill and troubled but rather success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Zástupný symbol pro obsah 3" descr=""/>
          <p:cNvPicPr/>
          <p:nvPr/>
        </p:nvPicPr>
        <p:blipFill>
          <a:blip r:embed="rId1"/>
          <a:stretch/>
        </p:blipFill>
        <p:spPr>
          <a:xfrm>
            <a:off x="6300720" y="2637000"/>
            <a:ext cx="2032200" cy="2663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V (1413-142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nteligent, musical, able to read and write in Engl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e led two great expeditions to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20 – the Treaty of Troyes recognised him as King of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Zástupný symbol pro obsah 2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087640" cy="29131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VI (1422-1461 and 1470-147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Founded Eton College and King´s College in Cambrid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Lost his father´s conquests in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ars of Ro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2" name="Zástupný symbol pro obsah 3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200320" cy="2808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ARS OF RO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538956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ouse of Y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ouse of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anca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455 – 1485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485 - The Battle of Bosw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5" name="Zástupný symbol pro obsah 2" descr=""/>
          <p:cNvPicPr/>
          <p:nvPr/>
        </p:nvPicPr>
        <p:blipFill>
          <a:blip r:embed="rId1"/>
          <a:stretch/>
        </p:blipFill>
        <p:spPr>
          <a:xfrm>
            <a:off x="2916360" y="4653000"/>
            <a:ext cx="30765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ritish histo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data z historie Británie. Prezentace slouží jako podpůrný materiál při výkladu vyučujícíh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ngland, history, king, queen, bat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49360" y="115920"/>
            <a:ext cx="529776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IV (1461-1470 and 1471-148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upported by Richard Neville, the Earl of Warwi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70 – flee to Burgun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71 – The Battle of Tewkesbury (Bloody Meadow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Zástupný symbol pro obsah 3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200320" cy="2808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V (148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ever crowned, is remembered as one of the two „Princes in the Tower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ichard III (1483-148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485 – The Battle of Boswo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Zástupný symbol pro obsah 2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2840040" cy="1873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5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VII (1485-1509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Henry Tud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o adventures in foreign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24 years of pe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4" name="Zástupný symbol pro obsah 3" descr=""/>
          <p:cNvPicPr/>
          <p:nvPr/>
        </p:nvPicPr>
        <p:blipFill>
          <a:blip r:embed="rId1"/>
          <a:stretch/>
        </p:blipFill>
        <p:spPr>
          <a:xfrm>
            <a:off x="5773680" y="2781360"/>
            <a:ext cx="2327400" cy="3011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nry VIII (1509-154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ix w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is break with Rome paved the way for England to become a Protesta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ir Thomas Mo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7" name="Zástupný symbol pro obsah 2" descr=""/>
          <p:cNvPicPr/>
          <p:nvPr/>
        </p:nvPicPr>
        <p:blipFill>
          <a:blip r:embed="rId1"/>
          <a:stretch/>
        </p:blipFill>
        <p:spPr>
          <a:xfrm>
            <a:off x="5985000" y="2781360"/>
            <a:ext cx="2333520" cy="2951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IX WIVES OF HENRY VI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246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therine of Arag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nne Boley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Jane Seymo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nne of Cle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therine How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therine Par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Zástupný symbol pro obsah 2" descr=""/>
          <p:cNvPicPr/>
          <p:nvPr/>
        </p:nvPicPr>
        <p:blipFill>
          <a:blip r:embed="rId1"/>
          <a:stretch/>
        </p:blipFill>
        <p:spPr>
          <a:xfrm>
            <a:off x="5464080" y="2708280"/>
            <a:ext cx="2421000" cy="3105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VI (1547-155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ecame King at the age of 10, died of tuberculousis in 155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ady Jane Grey (155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ine-days´queen, th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ehea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3" name="Zástupný symbol pro obsah 3" descr=""/>
          <p:cNvPicPr/>
          <p:nvPr/>
        </p:nvPicPr>
        <p:blipFill>
          <a:blip r:embed="rId1"/>
          <a:stretch/>
        </p:blipFill>
        <p:spPr>
          <a:xfrm>
            <a:off x="6227640" y="2924280"/>
            <a:ext cx="2163960" cy="2952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Mary I (1553-1558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he most severe Catholic ruler called „Bloody Mary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he believed her task was to restore England to Catholic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6" name="Zástupný symbol pro obsah 2" descr=""/>
          <p:cNvPicPr/>
          <p:nvPr/>
        </p:nvPicPr>
        <p:blipFill>
          <a:blip r:embed="rId1"/>
          <a:stretch/>
        </p:blipFill>
        <p:spPr>
          <a:xfrm>
            <a:off x="5940360" y="2708280"/>
            <a:ext cx="2274840" cy="30099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lizabeth I (1558-1603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Virgin Queen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Overseas explo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587 Mary Stuart behea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rancis Drake, Robert Cecil, the Arm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9" name="Zástupný symbol pro obsah 3" descr=""/>
          <p:cNvPicPr/>
          <p:nvPr/>
        </p:nvPicPr>
        <p:blipFill>
          <a:blip r:embed="rId1"/>
          <a:stretch/>
        </p:blipFill>
        <p:spPr>
          <a:xfrm>
            <a:off x="5761080" y="2938320"/>
            <a:ext cx="2195640" cy="3187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ames I (1603-162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on of Henry Stuart and Mary, Queen of Sco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e became King of England and Scot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05 Guy Fawk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2" name="Zástupný symbol pro obsah 2" descr=""/>
          <p:cNvPicPr/>
          <p:nvPr/>
        </p:nvPicPr>
        <p:blipFill>
          <a:blip r:embed="rId1"/>
          <a:stretch/>
        </p:blipFill>
        <p:spPr>
          <a:xfrm>
            <a:off x="5651640" y="2708280"/>
            <a:ext cx="2401920" cy="3178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arles I (1625-1649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ights with the parlia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Expensive wars with France and Sp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ivil war in Eng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49 beheade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5" name="Zástupný symbol pro obsah 2" descr=""/>
          <p:cNvPicPr/>
          <p:nvPr/>
        </p:nvPicPr>
        <p:blipFill>
          <a:blip r:embed="rId1"/>
          <a:stretch/>
        </p:blipFill>
        <p:spPr>
          <a:xfrm>
            <a:off x="5600880" y="2924280"/>
            <a:ext cx="2355840" cy="2930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BRITISH HIST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MPORTANT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Oliver Crom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49 – Execution of Charles 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53 – Cromwell becam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Lord Prot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60 – Monarchy was resto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8" name="Zástupný symbol pro obsah 3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176560" cy="3325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harles II (1660-168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ounded Greenwich Observatory and Royal Socie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65 – Great Plague (100,000 people di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666 – Great Fire of Lond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1" name="Zástupný symbol pro obsah 3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176560" cy="3325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ames II (1685-1688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During Civil War, in 1648 he escaped to Holland dressed as a gir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Neither English people nor the Parliament liked hi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he throne offered to William of Ora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4" name="Zástupný symbol pro obsah 2" descr=""/>
          <p:cNvPicPr/>
          <p:nvPr/>
        </p:nvPicPr>
        <p:blipFill>
          <a:blip r:embed="rId1"/>
          <a:stretch/>
        </p:blipFill>
        <p:spPr>
          <a:xfrm>
            <a:off x="5678640" y="3038400"/>
            <a:ext cx="2349360" cy="2881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7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William III (1689-1702) </a:t>
            </a:r>
            <a:r>
              <a:rPr b="0" i="1" lang="cs-CZ" sz="2400" spc="-1" strike="noStrike">
                <a:solidFill>
                  <a:srgbClr val="002060"/>
                </a:solidFill>
                <a:latin typeface="Arial"/>
              </a:rPr>
              <a:t>(jointly Mary II (1689-1694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on of William II, Prince of Orange and Mary, daughter of Charles 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Dutch ru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Glorious Revol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7" name="Zástupný symbol pro obsah 3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2351160" cy="2935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Anne (1702-171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duly inherited throne at the age of 3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rried Prince George of Denma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ad 17 children, all died in infancy or early childh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0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3068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I (1714-172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rotestant of German orig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annover dynas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ut his trust in Walpole´s Whig Par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3" name="Zástupný symbol pro obsah 3" descr=""/>
          <p:cNvPicPr/>
          <p:nvPr/>
        </p:nvPicPr>
        <p:blipFill>
          <a:blip r:embed="rId1"/>
          <a:stretch/>
        </p:blipFill>
        <p:spPr>
          <a:xfrm>
            <a:off x="5724360" y="2781360"/>
            <a:ext cx="2310120" cy="3057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II (1727-176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Called self-important, fussy, hardworking, skirt-cha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743 – the Battle of Dettin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745 - Jacobite rebell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6" name="Zástupný symbol pro obsah 2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2344680" cy="2890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8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III (1760-182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776 – Declaration of Independence (US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789 – French revol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805 – The Battle of Trafalg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815 – The Battle of Waterlo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9" name="Zástupný symbol pro obsah 3" descr=""/>
          <p:cNvPicPr/>
          <p:nvPr/>
        </p:nvPicPr>
        <p:blipFill>
          <a:blip r:embed="rId1"/>
          <a:stretch/>
        </p:blipFill>
        <p:spPr>
          <a:xfrm>
            <a:off x="5533920" y="2852640"/>
            <a:ext cx="2422800" cy="2986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IV (1821-18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Liked fashionable clothes and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de Brighton and Bath places to see and be se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William IV (1830-183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illy Billy“, the sailor 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2" name="Zástupný symbol pro obsah 2" descr=""/>
          <p:cNvPicPr/>
          <p:nvPr/>
        </p:nvPicPr>
        <p:blipFill>
          <a:blip r:embed="rId1"/>
          <a:stretch/>
        </p:blipFill>
        <p:spPr>
          <a:xfrm>
            <a:off x="5796000" y="2924280"/>
            <a:ext cx="2430360" cy="2917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19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ictoria (1837-190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Victorian 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ig political and economical role of Bri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ustralia, Egypt, South Africa, Cyprus, Hongko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Prince Albe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5" name="Zástupný symbol pro obsah 3" descr=""/>
          <p:cNvPicPr/>
          <p:nvPr/>
        </p:nvPicPr>
        <p:blipFill>
          <a:blip r:embed="rId1"/>
          <a:stretch/>
        </p:blipFill>
        <p:spPr>
          <a:xfrm>
            <a:off x="5724360" y="2708280"/>
            <a:ext cx="2354400" cy="3327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SETTL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3,000 BC settlers from Eur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y introduced farming, pottery and stone too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Stonehe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veb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3" descr=""/>
          <p:cNvPicPr/>
          <p:nvPr/>
        </p:nvPicPr>
        <p:blipFill>
          <a:blip r:embed="rId1"/>
          <a:stretch/>
        </p:blipFill>
        <p:spPr>
          <a:xfrm>
            <a:off x="5199120" y="3141720"/>
            <a:ext cx="3076560" cy="2303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VII (1901-191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ad to wait almost 60 years to become 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irst old-age pensions and National Insurance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got the title „Peacemaker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8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2637000"/>
            <a:ext cx="2138400" cy="30207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V (1910-193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is reign was overshadowed by World War 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911 - first British emperor to visit In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1912 - Titan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1" name="Zástupný symbol pro obsah 3" descr=""/>
          <p:cNvPicPr/>
          <p:nvPr/>
        </p:nvPicPr>
        <p:blipFill>
          <a:blip r:embed="rId1"/>
          <a:stretch/>
        </p:blipFill>
        <p:spPr>
          <a:xfrm>
            <a:off x="5724360" y="2924280"/>
            <a:ext cx="2286000" cy="2744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ward VIII (193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the only British sovereign to resign the throne of his own will (he decided for twice-divorced Mrs Wallis Simpso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he was made Duke of Windsor and lived abro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4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2637000"/>
            <a:ext cx="2149560" cy="35035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8135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George VI (1936-195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George V´s second son Albert („Bertie“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World War 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Stayed in London during Blit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a trusted ally for Churchi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7" name="Zástupný symbol pro obsah 3" descr=""/>
          <p:cNvPicPr/>
          <p:nvPr/>
        </p:nvPicPr>
        <p:blipFill>
          <a:blip r:embed="rId1"/>
          <a:stretch/>
        </p:blipFill>
        <p:spPr>
          <a:xfrm>
            <a:off x="5370480" y="3328920"/>
            <a:ext cx="2913120" cy="2044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cs-CZ" sz="36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 CENTU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4546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lizabeth II (1952-   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born in 192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in the World War I she joined the Auxiliary Transport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married Philip in 194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060"/>
                </a:solidFill>
                <a:latin typeface="Arial"/>
              </a:rPr>
              <a:t>first son Prince Char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0" name="Zástupný symbol pro obsah 2" descr=""/>
          <p:cNvPicPr/>
          <p:nvPr/>
        </p:nvPicPr>
        <p:blipFill>
          <a:blip r:embed="rId1"/>
          <a:stretch/>
        </p:blipFill>
        <p:spPr>
          <a:xfrm>
            <a:off x="5724360" y="2724120"/>
            <a:ext cx="2511720" cy="3081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Williams B., Williams B. 2004. Kings and Queens, Pitkin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ěijny_Angl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IRST SETTL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0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century BC the Ce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One of their tribes was called Brit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55 BC – 5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century AD the Rom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Britann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2" descr=""/>
          <p:cNvPicPr/>
          <p:nvPr/>
        </p:nvPicPr>
        <p:blipFill>
          <a:blip r:embed="rId1"/>
          <a:stretch/>
        </p:blipFill>
        <p:spPr>
          <a:xfrm>
            <a:off x="5508720" y="2705040"/>
            <a:ext cx="2448000" cy="3268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NGLES AND SAX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5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century AD – the Angles and Sax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y came from Germany, Denmark and the Netherla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ngle - 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Zástupný symbol pro obsah 3" descr=""/>
          <p:cNvPicPr/>
          <p:nvPr/>
        </p:nvPicPr>
        <p:blipFill>
          <a:blip r:embed="rId1"/>
          <a:stretch/>
        </p:blipFill>
        <p:spPr>
          <a:xfrm>
            <a:off x="5413320" y="2637000"/>
            <a:ext cx="2405160" cy="3095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NORM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9</a:t>
            </a:r>
            <a:r>
              <a:rPr b="0" lang="cs-CZ" sz="2800" spc="-1" strike="noStrike" baseline="30000">
                <a:solidFill>
                  <a:srgbClr val="00264d"/>
                </a:solidFill>
                <a:latin typeface="Arial"/>
              </a:rPr>
              <a:t>th</a:t>
            </a: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 century AD – the Vik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The Normans invaded from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1066 The battle of Hast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illiam the Conquer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Zástupný symbol pro obsah 2" descr=""/>
          <p:cNvPicPr/>
          <p:nvPr/>
        </p:nvPicPr>
        <p:blipFill>
          <a:blip r:embed="rId1"/>
          <a:stretch/>
        </p:blipFill>
        <p:spPr>
          <a:xfrm>
            <a:off x="5364000" y="2685960"/>
            <a:ext cx="2664000" cy="3197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ILLIAM THE CONQUER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Only four visits to Engl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Domesday 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ndholdings were listed, described and assessed for tax and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Zástupný symbol pro obsah 2" descr=""/>
          <p:cNvPicPr/>
          <p:nvPr/>
        </p:nvPicPr>
        <p:blipFill>
          <a:blip r:embed="rId1"/>
          <a:stretch/>
        </p:blipFill>
        <p:spPr>
          <a:xfrm>
            <a:off x="5364000" y="2685960"/>
            <a:ext cx="2664000" cy="31971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EDIEVAL ENG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31028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ivil w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nternational confli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Political plots between nobles and k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Richard I (the Lion heart) - Crusa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Zástupný symbol pro obsah 2" descr=""/>
          <p:cNvPicPr/>
          <p:nvPr/>
        </p:nvPicPr>
        <p:blipFill>
          <a:blip r:embed="rId1"/>
          <a:stretch/>
        </p:blipFill>
        <p:spPr>
          <a:xfrm>
            <a:off x="4941720" y="2924280"/>
            <a:ext cx="3210120" cy="2449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8:03Z</dcterms:modified>
  <cp:revision>79</cp:revision>
  <dc:subject/>
  <dc:title>EUROPEAN UNION</dc:title>
</cp:coreProperties>
</file>