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E2DD-D29E-4AF0-99D1-E860E3C006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4CF4-CC53-41F0-A06F-96F2C1B828A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76A3-2F31-4A8B-8342-362936E02661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C96-8308-40D0-8BF7-D63D73D005A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9D68-FAAC-4DA4-B663-1943E0C9A69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FD27-C255-4351-BA3F-AA237B78A6FB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D33E-915C-47E7-A180-4CBFDCA3E444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441D-0ACF-49B7-8643-FECF0AF2C289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DB7-CF9E-403E-A036-14F558ED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33A-82FA-4402-92D3-8BA8A162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158-5D11-4745-ABBC-7160E90A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5D6-531E-4126-A091-C6F0DAEA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A0E2-82BD-4C3E-8320-EB5CCCD4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48B2-564E-4112-B271-3BF59A8B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B352-21CE-4C2D-A535-3D01D3EF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9569-2A14-425A-95EB-1F1BE368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3956-1CB8-4C44-968D-A219DCAD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F7B7-E576-4377-846D-70BFE02C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4082-02DC-4CC7-AE26-41293514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462-F9EC-4EFD-9E67-0226F7FE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AEDF-8255-4F8F-B461-7CE2CA6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CD21-02E1-46FB-8827-5784914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C775-A966-4090-B0F8-F5B10389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7B9F-8E03-4750-9669-F33994F1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FE1A-3119-46EE-889B-D93B8540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9384-3258-45BB-BDB5-AF68C298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8034-1133-4C8F-9451-5124B65B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6117-4910-4160-899F-C9153761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ED8E2-CD9F-4FDA-88C1-FDE29446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62457-B55F-47DC-85E0-3DB95F6E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B09-B499-4B23-AE0A-8B4D3CC5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C6AB-1898-48D0-8C87-14ACEE68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66B8-404B-48FF-A871-9C9C0798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0438-3C8A-438F-8F60-8B38E42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7072-47A3-4C36-AA2C-DF8A6D3C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ECFD-735F-4E09-A7B6-50518DC5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A9FE0-8A64-4DDC-B7CC-EC3E135F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A79F-B286-49A1-A4F5-BF3C0A8B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A54F-B869-45F6-8452-37BDCD09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E985-BFF3-4E2E-986A-87610968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FC5C-7845-4D36-B19A-837FD67E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71D-BFD7-4159-8B46-AC9B46D5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D07F4-ED14-442E-A45B-501DF062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3B25-23A3-41A9-8B77-35252CA9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0344-8C44-4768-917D-FC6555F1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F593-EFD1-4B36-997C-96DD988E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918B7-47C8-4FE7-B620-4732DD22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DA14-AFFD-4425-B513-73570B4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57CF-3B81-47C2-92AB-C7625E88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969E0-8671-41B7-9DB8-8161CACE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AAA3-A95B-47A2-8B7F-E6479D07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E48-CB11-4D46-99A0-9B8FF35D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A42-3097-4CA0-9583-09C0307D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870-CAE1-476F-AAD6-34F5EE37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1A7-00C9-4E00-9D3E-ADB689C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E8D-F0C3-4D83-A9C9-4C13AEC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9C7D-D3C9-4199-96F6-472CBF306BE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A0B4-A7D7-42B8-9901-AB6894A00BD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6E79-DA9F-43B0-9DE6-8961365762C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F54-CDCB-4307-BF07-6307CB03883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T.PATRICK´S CATHED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3" name="Zástupný symbol pro obsah 2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760640" cy="3168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RISTCHURCH CATHED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5" name="Zástupný symbol pro obsah 2" descr=""/>
          <p:cNvPicPr/>
          <p:nvPr/>
        </p:nvPicPr>
        <p:blipFill>
          <a:blip r:embed="rId1"/>
          <a:stretch/>
        </p:blipFill>
        <p:spPr>
          <a:xfrm>
            <a:off x="2411280" y="2698920"/>
            <a:ext cx="4681800" cy="3141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INITY COLLE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7" name="Zástupný symbol pro obsah 2" descr=""/>
          <p:cNvPicPr/>
          <p:nvPr/>
        </p:nvPicPr>
        <p:blipFill>
          <a:blip r:embed="rId1"/>
          <a:stretch/>
        </p:blipFill>
        <p:spPr>
          <a:xfrm>
            <a:off x="2298600" y="2637000"/>
            <a:ext cx="4762440" cy="3168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TATUE OF MOLLY MAL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9" name="Zástupný symbol pro obsah 2" descr=""/>
          <p:cNvPicPr/>
          <p:nvPr/>
        </p:nvPicPr>
        <p:blipFill>
          <a:blip r:embed="rId1"/>
          <a:stretch/>
        </p:blipFill>
        <p:spPr>
          <a:xfrm>
            <a:off x="2843280" y="2517840"/>
            <a:ext cx="3701880" cy="34322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UIN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Zástupný symbol pro obsah 2" descr=""/>
          <p:cNvPicPr/>
          <p:nvPr/>
        </p:nvPicPr>
        <p:blipFill>
          <a:blip r:embed="rId1"/>
          <a:stretch/>
        </p:blipFill>
        <p:spPr>
          <a:xfrm>
            <a:off x="1403280" y="2495520"/>
            <a:ext cx="3998880" cy="29955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  <p:pic>
        <p:nvPicPr>
          <p:cNvPr id="232" name="Obrázek 3" descr=""/>
          <p:cNvPicPr/>
          <p:nvPr/>
        </p:nvPicPr>
        <p:blipFill>
          <a:blip r:embed="rId2"/>
          <a:stretch/>
        </p:blipFill>
        <p:spPr>
          <a:xfrm>
            <a:off x="5772240" y="2924280"/>
            <a:ext cx="2851200" cy="2136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MPLE B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2576520"/>
            <a:ext cx="4608720" cy="345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TOW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C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ALW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TERF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MER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7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9" name="Zástupný symbol pro obsah 2" descr=""/>
          <p:cNvPicPr/>
          <p:nvPr/>
        </p:nvPicPr>
        <p:blipFill>
          <a:blip r:embed="rId1"/>
          <a:stretch/>
        </p:blipFill>
        <p:spPr>
          <a:xfrm>
            <a:off x="2732040" y="2781360"/>
            <a:ext cx="3895920" cy="2879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ALW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1" name="Zástupný symbol pro obsah 3" descr=""/>
          <p:cNvPicPr/>
          <p:nvPr/>
        </p:nvPicPr>
        <p:blipFill>
          <a:blip r:embed="rId1"/>
          <a:stretch/>
        </p:blipFill>
        <p:spPr>
          <a:xfrm>
            <a:off x="2565360" y="2637000"/>
            <a:ext cx="4326120" cy="3240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ATERFO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Zástupný symbol pro obsah 2" descr=""/>
          <p:cNvPicPr/>
          <p:nvPr/>
        </p:nvPicPr>
        <p:blipFill>
          <a:blip r:embed="rId1"/>
          <a:stretch/>
        </p:blipFill>
        <p:spPr>
          <a:xfrm>
            <a:off x="1603440" y="2852640"/>
            <a:ext cx="5921280" cy="26352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Irsku, nejzajímavější místa a města země. Prezentace slouží jako podpůrný materiál při výkladu učiva o reáliích anglicky mluvících zemí.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reland, geography, population, cities, cultu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MERI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5" name="Zástupný symbol pro obsah 3" descr=""/>
          <p:cNvPicPr/>
          <p:nvPr/>
        </p:nvPicPr>
        <p:blipFill>
          <a:blip r:embed="rId1"/>
          <a:stretch/>
        </p:blipFill>
        <p:spPr>
          <a:xfrm>
            <a:off x="2487600" y="2781360"/>
            <a:ext cx="4384800" cy="28796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CKLOW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Zástupný symbol pro obsah 2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213440" cy="31575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ICKLOW MOUNT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Zástupný symbol pro obsah 3" descr=""/>
          <p:cNvPicPr/>
          <p:nvPr/>
        </p:nvPicPr>
        <p:blipFill>
          <a:blip r:embed="rId1"/>
          <a:stretch/>
        </p:blipFill>
        <p:spPr>
          <a:xfrm>
            <a:off x="1978200" y="2708280"/>
            <a:ext cx="5473440" cy="30654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LENDALOUG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Zástupný symbol pro obsah 2" descr=""/>
          <p:cNvPicPr/>
          <p:nvPr/>
        </p:nvPicPr>
        <p:blipFill>
          <a:blip r:embed="rId1"/>
          <a:stretch/>
        </p:blipFill>
        <p:spPr>
          <a:xfrm>
            <a:off x="2565360" y="2637000"/>
            <a:ext cx="4238640" cy="317484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NEMA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Zástupný symbol pro obsah 2" descr=""/>
          <p:cNvPicPr/>
          <p:nvPr/>
        </p:nvPicPr>
        <p:blipFill>
          <a:blip r:embed="rId1"/>
          <a:stretch/>
        </p:blipFill>
        <p:spPr>
          <a:xfrm>
            <a:off x="2627280" y="2682720"/>
            <a:ext cx="4264200" cy="3194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NEMA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Zástupný symbol pro obsah 3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229280" cy="3168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HER CLIFF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7" name="Zástupný symbol pro obsah 2" descr=""/>
          <p:cNvPicPr/>
          <p:nvPr/>
        </p:nvPicPr>
        <p:blipFill>
          <a:blip r:embed="rId1"/>
          <a:stretch/>
        </p:blipFill>
        <p:spPr>
          <a:xfrm>
            <a:off x="2662200" y="2708280"/>
            <a:ext cx="4037040" cy="3024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RAN ISLA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9" name="Zástupný symbol pro obsah 3" descr=""/>
          <p:cNvPicPr/>
          <p:nvPr/>
        </p:nvPicPr>
        <p:blipFill>
          <a:blip r:embed="rId1"/>
          <a:stretch/>
        </p:blipFill>
        <p:spPr>
          <a:xfrm>
            <a:off x="2556000" y="2629080"/>
            <a:ext cx="4143240" cy="3105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b050"/>
                </a:solidFill>
                <a:latin typeface="Arial"/>
              </a:rPr>
              <a:t>IRISH SYMBOLS</a:t>
            </a:r>
            <a:br>
              <a:rPr sz="3600"/>
            </a:b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MROCK - LEPRECHAU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Zástupný symbol pro obsah 4" descr=""/>
          <p:cNvPicPr/>
          <p:nvPr/>
        </p:nvPicPr>
        <p:blipFill>
          <a:blip r:embed="rId1"/>
          <a:stretch/>
        </p:blipFill>
        <p:spPr>
          <a:xfrm>
            <a:off x="1690560" y="3119400"/>
            <a:ext cx="2067120" cy="2209680"/>
          </a:xfrm>
          <a:prstGeom prst="rect">
            <a:avLst/>
          </a:prstGeom>
          <a:ln w="0">
            <a:noFill/>
          </a:ln>
        </p:spPr>
      </p:pic>
      <p:pic>
        <p:nvPicPr>
          <p:cNvPr id="262" name="Zástupný symbol pro obsah 5" descr=""/>
          <p:cNvPicPr/>
          <p:nvPr/>
        </p:nvPicPr>
        <p:blipFill>
          <a:blip r:embed="rId2"/>
          <a:stretch/>
        </p:blipFill>
        <p:spPr>
          <a:xfrm>
            <a:off x="5722920" y="2990880"/>
            <a:ext cx="1847880" cy="2467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RISH SYMBOLS – CELTIC CRO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Zástupný symbol pro obsah 4" descr=""/>
          <p:cNvPicPr/>
          <p:nvPr/>
        </p:nvPicPr>
        <p:blipFill>
          <a:blip r:embed="rId1"/>
          <a:stretch/>
        </p:blipFill>
        <p:spPr>
          <a:xfrm>
            <a:off x="2556000" y="2629080"/>
            <a:ext cx="4248000" cy="31827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IRE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Irsk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Dubl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IRISH NAME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É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70,273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UBL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4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Whole Irish island is the 2nd biggest Britis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Atlantic Ocean, Celtic Sea, Irish S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Nickname: Emerald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3" descr=""/>
          <p:cNvPicPr/>
          <p:nvPr/>
        </p:nvPicPr>
        <p:blipFill>
          <a:blip r:embed="rId1"/>
          <a:stretch/>
        </p:blipFill>
        <p:spPr>
          <a:xfrm>
            <a:off x="6269040" y="3429000"/>
            <a:ext cx="1947960" cy="98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IRE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Zástupný symbol pro obsah 2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952720" cy="3753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BL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Ire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rish name: Báile Átha Cli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0,5 mil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3" descr=""/>
          <p:cNvPicPr/>
          <p:nvPr/>
        </p:nvPicPr>
        <p:blipFill>
          <a:blip r:embed="rId1"/>
          <a:stretch/>
        </p:blipFill>
        <p:spPr>
          <a:xfrm>
            <a:off x="5006880" y="2997360"/>
            <a:ext cx="3173400" cy="2376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RAFTON STRE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9" name="Zástupný symbol pro obsah 2" descr=""/>
          <p:cNvPicPr/>
          <p:nvPr/>
        </p:nvPicPr>
        <p:blipFill>
          <a:blip r:embed="rId1"/>
          <a:stretch/>
        </p:blipFill>
        <p:spPr>
          <a:xfrm>
            <a:off x="2757600" y="2781360"/>
            <a:ext cx="4190760" cy="3138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UBLIN CAST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Zástupný symbol pro obsah 3" descr=""/>
          <p:cNvPicPr/>
          <p:nvPr/>
        </p:nvPicPr>
        <p:blipFill>
          <a:blip r:embed="rId1"/>
          <a:stretch/>
        </p:blipFill>
        <p:spPr>
          <a:xfrm>
            <a:off x="2757600" y="2781360"/>
            <a:ext cx="3975120" cy="2976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49Z</dcterms:modified>
  <cp:revision>39</cp:revision>
  <dc:subject/>
  <dc:title>EUROPEAN UNION</dc:title>
</cp:coreProperties>
</file>