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C3FC-3EE2-49F6-8C10-CE4C4427B5F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4E6B-A6A5-43F0-94A4-18B5FA1D1363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EF56-C644-48BE-9DFD-A1AF121CC1F6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8942-D2B7-42D2-8AAE-C3BF3486D797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66E0-C94F-45BC-9E04-D45AD234626F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84E6-9824-4E73-82B9-41A243A0B0CD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810B-8001-43DF-885F-3D7F074A2C28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9935-6731-40D0-99F5-A42BDA3C9438}" type="slidenum">
              <a:rPr b="0" lang="cs-CZ" sz="12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8431-92A8-4275-A4F2-249776F2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7644-3D55-44E4-9F85-6778D8C5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335-A9F6-4B99-AD0B-AAF330A2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4F8-CB46-4C83-A03B-DB607E84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F471-12C6-43B2-8799-531B6D1C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2956-5680-457D-9ECB-F058D003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D555-1770-4167-A895-3CAB988C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E36C-0791-4D1D-80D2-5659DF42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3F46-DA6E-49A8-A813-B520E429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087C-FEF6-4273-82F9-C6128F16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DDD3-0F19-4CBB-B6C6-331EE7B0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DF64-836A-4B5F-A292-FC9A8612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6B30-BA8A-45F3-8847-33861052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DF77-9D8F-4B53-9148-62F6C45A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202F-A17D-481C-8B48-58F9A9C4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70A4-13F3-42ED-80E7-506B3074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D76A-8219-4571-A2EE-FE401388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2B71C-E9EF-47DA-B535-4492217E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5D20E-A00C-4C1D-B399-7E647D0B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A60A5-D4D7-40C0-996B-439065DF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C865D-3161-4DA0-B1AC-DBB9ED5C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00E79-4880-4528-87C2-9D8873BA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F8F7-48F3-485A-BBC1-1CA01597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04215-8932-4B0C-9B56-385889C6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87F4A-36F4-4AC7-A340-4D12D9C9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F652A-D3B5-423D-864D-ACD2459A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8C53A-70C1-47F0-AD1B-3DB18BE5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7FD28-F7E0-4974-88DD-E5404545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FB7E6-5E46-4B44-97CC-E3AAE24E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D9E83-54F7-40DA-BB78-FAD2FDF5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6D8E7-2568-473A-ADBB-433F67C0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C74DC-4807-4A64-93B0-2A47E292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1347B-9FFC-4888-BCE7-A2C6313F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D04-7650-4814-9A10-1F11BA03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796D7-AB8F-4180-9321-3FA2A881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33B21-3DF5-49FA-AFF5-FDDDA243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4AD3A-E8BC-4745-8D62-BACFD418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CBF37-3576-4CC9-A0A8-378131A2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E7BFC-A05C-40FF-A272-A97195E7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07D79-79B2-4620-B57A-F3B2D3FA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6B71C-C8BD-4AAA-BD99-5C5E3C58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890E9-A86A-4741-8918-9E704495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FF149-727D-4DBF-AA5C-2559AD48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A4EB-9F2C-4D0B-8D4A-4538DB08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EB7C-A9CE-40A3-B0EB-FDFF0B87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2873-3EC8-4BBE-B9FE-A857804A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84F-ADFA-468E-BBB6-348410D7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6DF-184A-49F9-81DD-97248FA4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9EA3-B367-45D1-90FA-DD86978BD96F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52AE-7381-4FF2-B315-D80186A37F7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1A3C-0EB9-487C-B4D8-B5A7B3DCDA8A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7CF4-078C-4150-B8A2-D388204924A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egistrační číslo projektu: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3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čtvrtý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3 / 20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OTORU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4" name="Zástupný symbol pro obsah 2" descr=""/>
          <p:cNvPicPr/>
          <p:nvPr/>
        </p:nvPicPr>
        <p:blipFill>
          <a:blip r:embed="rId1"/>
          <a:stretch/>
        </p:blipFill>
        <p:spPr>
          <a:xfrm>
            <a:off x="1805040" y="3068640"/>
            <a:ext cx="5923080" cy="2376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AKE TAUP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6" name="Zástupný symbol pro obsah 3" descr=""/>
          <p:cNvPicPr/>
          <p:nvPr/>
        </p:nvPicPr>
        <p:blipFill>
          <a:blip r:embed="rId1"/>
          <a:stretch/>
        </p:blipFill>
        <p:spPr>
          <a:xfrm>
            <a:off x="2627280" y="2682720"/>
            <a:ext cx="4608720" cy="34531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UAPEHU VOLCAN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8" name="Zástupný symbol pro obsah 3" descr=""/>
          <p:cNvPicPr/>
          <p:nvPr/>
        </p:nvPicPr>
        <p:blipFill>
          <a:blip r:embed="rId1"/>
          <a:stretch/>
        </p:blipFill>
        <p:spPr>
          <a:xfrm>
            <a:off x="2484360" y="2765520"/>
            <a:ext cx="4608720" cy="30556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UNT COO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0" name="Zástupný symbol pro obsah 3" descr=""/>
          <p:cNvPicPr/>
          <p:nvPr/>
        </p:nvPicPr>
        <p:blipFill>
          <a:blip r:embed="rId1"/>
          <a:stretch/>
        </p:blipFill>
        <p:spPr>
          <a:xfrm>
            <a:off x="2616120" y="2852640"/>
            <a:ext cx="4403880" cy="29196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ONGARIRO NATIONAL PA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2" name="Zástupný symbol pro obsah 2" descr=""/>
          <p:cNvPicPr/>
          <p:nvPr/>
        </p:nvPicPr>
        <p:blipFill>
          <a:blip r:embed="rId1"/>
          <a:stretch/>
        </p:blipFill>
        <p:spPr>
          <a:xfrm>
            <a:off x="2182680" y="2997360"/>
            <a:ext cx="52689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NIQUE ANIMALS - KIW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4" name="Zástupný symbol pro obsah 3" descr=""/>
          <p:cNvPicPr/>
          <p:nvPr/>
        </p:nvPicPr>
        <p:blipFill>
          <a:blip r:embed="rId1"/>
          <a:stretch/>
        </p:blipFill>
        <p:spPr>
          <a:xfrm>
            <a:off x="2516040" y="2781360"/>
            <a:ext cx="4143600" cy="27576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ORI CUL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6" name="Zástupný symbol pro obsah 2" descr=""/>
          <p:cNvPicPr/>
          <p:nvPr/>
        </p:nvPicPr>
        <p:blipFill>
          <a:blip r:embed="rId1"/>
          <a:stretch/>
        </p:blipFill>
        <p:spPr>
          <a:xfrm>
            <a:off x="2408400" y="2708280"/>
            <a:ext cx="4755960" cy="31654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ORI CUL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8" name="Zástupný symbol pro obsah 3" descr=""/>
          <p:cNvPicPr/>
          <p:nvPr/>
        </p:nvPicPr>
        <p:blipFill>
          <a:blip r:embed="rId1"/>
          <a:stretch/>
        </p:blipFill>
        <p:spPr>
          <a:xfrm>
            <a:off x="2368440" y="2781360"/>
            <a:ext cx="4737240" cy="29512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  <a:ea typeface="Arial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Nový_Zél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Welling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cs.wikipedia.org/wiki/Auckl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  <a:ea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álie anglicky mluvících zemí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onverzace z anglického jazy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ew Zealan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informace o Novém Zélandu, nejzajímavější místa a města země. Prezentace slouží jako podpůrný materiál při výkladu učiva o reáliích anglicky mluvících zemí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ew Zealand, geography, population, cities, culture, Maor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2354400" y="115920"/>
            <a:ext cx="529740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Arial"/>
              </a:rPr>
              <a:t>NEW ZEA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SIGHTSEE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462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A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268,680 km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PULATION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4,5 m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: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WELLING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264d"/>
                </a:solidFill>
                <a:latin typeface="Arial"/>
              </a:rPr>
              <a:t>MAORI NAME: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OTEARO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Zástupný symbol pro obsah 2" descr=""/>
          <p:cNvPicPr/>
          <p:nvPr/>
        </p:nvPicPr>
        <p:blipFill>
          <a:blip r:embed="rId1"/>
          <a:stretch/>
        </p:blipFill>
        <p:spPr>
          <a:xfrm>
            <a:off x="5867280" y="2852640"/>
            <a:ext cx="2756160" cy="137808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F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462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PACIFIC OCE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ORTH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OUTH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Zástupný symbol pro obsah 2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2756160" cy="13777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P OF NEW ZEA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4" name="Zástupný symbol pro obsah 3" descr=""/>
          <p:cNvPicPr/>
          <p:nvPr/>
        </p:nvPicPr>
        <p:blipFill>
          <a:blip r:embed="rId1"/>
          <a:stretch/>
        </p:blipFill>
        <p:spPr>
          <a:xfrm>
            <a:off x="3203640" y="2492280"/>
            <a:ext cx="2952720" cy="372132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ELLING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apital of New Zea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ori name: Te Whanganui-á-Ta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tuated on the North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Zástupný symbol pro obsah 2" descr=""/>
          <p:cNvPicPr/>
          <p:nvPr/>
        </p:nvPicPr>
        <p:blipFill>
          <a:blip r:embed="rId1"/>
          <a:stretch/>
        </p:blipFill>
        <p:spPr>
          <a:xfrm>
            <a:off x="4815000" y="2852640"/>
            <a:ext cx="3460680" cy="259236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UCK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biggest town in New Zea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tuated on the North Is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unded in 1840 by the Brit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0" name="Zástupný symbol pro obsah 3" descr=""/>
          <p:cNvPicPr/>
          <p:nvPr/>
        </p:nvPicPr>
        <p:blipFill>
          <a:blip r:embed="rId1"/>
          <a:stretch/>
        </p:blipFill>
        <p:spPr>
          <a:xfrm>
            <a:off x="4519440" y="3141720"/>
            <a:ext cx="3957840" cy="20160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HRISTCHUR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2" name="Zástupný symbol pro obsah 3" descr=""/>
          <p:cNvPicPr/>
          <p:nvPr/>
        </p:nvPicPr>
        <p:blipFill>
          <a:blip r:embed="rId1"/>
          <a:stretch/>
        </p:blipFill>
        <p:spPr>
          <a:xfrm>
            <a:off x="1332000" y="3068640"/>
            <a:ext cx="6624720" cy="2152800"/>
          </a:xfrm>
          <a:prstGeom prst="rect">
            <a:avLst/>
          </a:prstGeom>
          <a:ln w="9360">
            <a:solidFill>
              <a:srgbClr val="001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20:36:03Z</dcterms:created>
  <dc:creator>Mgr.Martin Frolík</dc:creator>
  <dc:description/>
  <dc:language>en-US</dc:language>
  <cp:lastModifiedBy>Igor</cp:lastModifiedBy>
  <dcterms:modified xsi:type="dcterms:W3CDTF">2014-09-13T14:17:32Z</dcterms:modified>
  <cp:revision>34</cp:revision>
  <dc:subject/>
  <dc:title>EUROPEAN UNION</dc:title>
</cp:coreProperties>
</file>