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BC45-A289-48A5-8E57-A8FB791216C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1939-E3D5-411E-B49E-649338E71B8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3BC1-C5A0-499D-BEA9-BABEA892CE2E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F4AF-1124-4BDC-9A20-88CE54B2FE47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4A4E-B3D7-4A02-98FB-E867FEBF95FF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DFE6-F5D9-4FFC-9555-56DEAF7282A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03F4-D3B6-4E3B-B96E-FCAC9D667BA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9F2B-D096-45BE-BA2F-1D7B7CBB5F9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4A33-98D1-4C1E-95E6-BFFBFA20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DEB-6D28-4760-AA46-EE1CE882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AAB-374E-4CBC-8B26-51DA0AE6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0AD-A05F-4F7F-B72F-C09989A6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44FE-A4F1-464A-9BF3-CDE834AE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6C30-7275-4BBC-8496-85F8C873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2990-03E6-4FDC-BA58-E465B5EE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43C1-289D-4532-A816-F485EDB5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48CB-955F-435D-9BA3-B5344AAE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05D1-638E-47AA-A72E-50E7F5D6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35BB-BEB5-486E-82F2-E5880BC6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CAFB-8C82-4AF6-8FF6-E86A80AE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80E5-F0B6-40AF-9EC1-C83DF0F8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17CE-5665-435A-B7CE-02A695A2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5BF0-C659-4896-9719-6EB1F5A5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6555-2C07-40EB-B9AB-AD31F194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1A09-D337-4E8A-9C72-02FAA1A8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77AB4-1471-4C73-B208-B18E3CDE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BB75A-D68B-4621-B425-8E59EDBA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94522-326F-4841-B6C1-D0C124FF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F690B-3DF7-4A3E-83DE-6E77E914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D5EE8-B0CA-43FB-BF33-6CDEA6B4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66F2-FB1C-48B7-B490-3328D4AF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89515-3A05-4692-A707-A779D70E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C02CE-F149-463D-8A3D-EFE0E445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8A97B-4EBA-429A-9A8A-15A6C1F0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7E2D4-A1D9-4504-9F02-14DADBD5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7B1DF-F2C5-4829-8BDF-3B1BFA1C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F372A-3B0E-4923-B802-5B8A072E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3E33A-E8A3-4B86-B053-E02E9D86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2C1EE-8946-4A9A-843A-B5EF767D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59040-47B0-4A2C-A5F4-024DEC58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C608E-0D1B-4BF6-946C-963151D1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861-B614-41F3-92BC-D1A55BE1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7CF2C-D907-42F3-80B9-9041D57D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9F1D8-4708-4412-A63B-3BF7C824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02D9D-A7F2-45FA-99B9-82B1AA01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E81AF-729E-4B04-AEC4-C99B57AA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0DE82-C852-4C56-A492-A75FFC8D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5E6F5-416D-4B15-A7F7-4B99FC70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9365B-E882-413E-939C-A2588A80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4A366-EB75-4669-909E-480203DB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C6738-133F-443C-BFD0-C8A47C09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1BF-476B-4BEC-8478-0AED8BF7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8AF-EC16-4F3F-B7EC-52A0F9FE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EC7-17B6-473B-84CB-74451493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E89-4CAC-425A-818E-25D74DDD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CA1B-D584-47B4-9B59-1F71BDA7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2E7B-3B9D-41B0-893F-6567EE8CA713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F306-A336-4E08-B6F8-6D5844CC538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94BE-FC32-4C1A-B07B-E84FDD50103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6FB4-DEA4-4D55-9C8F-E4A15A4B825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9080" y="61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ORO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town in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on the banks of Ontario L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N T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Zástupný symbol pro obsah 2" descr=""/>
          <p:cNvPicPr/>
          <p:nvPr/>
        </p:nvPicPr>
        <p:blipFill>
          <a:blip r:embed="rId1"/>
          <a:stretch/>
        </p:blipFill>
        <p:spPr>
          <a:xfrm>
            <a:off x="4692600" y="2924280"/>
            <a:ext cx="3787920" cy="2520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NTRE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lar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town of the province of Quebe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 million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XPO 196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9" name="Zástupný symbol pro obsah 2" descr=""/>
          <p:cNvPicPr/>
          <p:nvPr/>
        </p:nvPicPr>
        <p:blipFill>
          <a:blip r:embed="rId1"/>
          <a:stretch/>
        </p:blipFill>
        <p:spPr>
          <a:xfrm>
            <a:off x="4802040" y="2997360"/>
            <a:ext cx="3462480" cy="2303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QUEBE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the province of Quebe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nce 1985 on the UNESCO l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0,5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Zástupný symbol pro obsah 2" descr=""/>
          <p:cNvPicPr/>
          <p:nvPr/>
        </p:nvPicPr>
        <p:blipFill>
          <a:blip r:embed="rId1"/>
          <a:stretch/>
        </p:blipFill>
        <p:spPr>
          <a:xfrm>
            <a:off x="4716360" y="2940120"/>
            <a:ext cx="3764160" cy="25048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VANCOU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British Columb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3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town of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600,000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Fraser Ri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Pacific Oce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5" name="Zástupný symbol pro obsah 4" descr=""/>
          <p:cNvPicPr/>
          <p:nvPr/>
        </p:nvPicPr>
        <p:blipFill>
          <a:blip r:embed="rId1"/>
          <a:stretch/>
        </p:blipFill>
        <p:spPr>
          <a:xfrm>
            <a:off x="5006880" y="2997360"/>
            <a:ext cx="3365640" cy="2519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ALG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town in the province of Albert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la-ghearraidh (the town on a meadow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,2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Zástupný symbol pro obsah 3" descr=""/>
          <p:cNvPicPr/>
          <p:nvPr/>
        </p:nvPicPr>
        <p:blipFill>
          <a:blip r:embed="rId1"/>
          <a:stretch/>
        </p:blipFill>
        <p:spPr>
          <a:xfrm>
            <a:off x="4815000" y="2852640"/>
            <a:ext cx="3365280" cy="2521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DMON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the province of Albert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il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Zástupný symbol pro obsah 2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268440" cy="2449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VICTOR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capital of British Columbi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ituated on the Vancouver Isla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town of garde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4" name="Zástupný symbol pro obsah 2" descr=""/>
          <p:cNvPicPr/>
          <p:nvPr/>
        </p:nvPicPr>
        <p:blipFill>
          <a:blip r:embed="rId1"/>
          <a:stretch/>
        </p:blipFill>
        <p:spPr>
          <a:xfrm>
            <a:off x="4932360" y="3068640"/>
            <a:ext cx="3384720" cy="22813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INNIPE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Manito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fortress in 1738 by the Fren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Forks (the Red and Assiniboine riv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7" name="Zástupný symbol pro obsah 3" descr=""/>
          <p:cNvPicPr/>
          <p:nvPr/>
        </p:nvPicPr>
        <p:blipFill>
          <a:blip r:embed="rId1"/>
          <a:stretch/>
        </p:blipFill>
        <p:spPr>
          <a:xfrm>
            <a:off x="4788000" y="2987640"/>
            <a:ext cx="3584520" cy="2386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OCKY MOUNT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9" name="Zástupný symbol pro obsah 2" descr=""/>
          <p:cNvPicPr/>
          <p:nvPr/>
        </p:nvPicPr>
        <p:blipFill>
          <a:blip r:embed="rId1"/>
          <a:stretch/>
        </p:blipFill>
        <p:spPr>
          <a:xfrm>
            <a:off x="2557440" y="2637000"/>
            <a:ext cx="4462560" cy="3330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JASPER NATIONAL PA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1" name="Zástupný symbol pro obsah 2" descr=""/>
          <p:cNvPicPr/>
          <p:nvPr/>
        </p:nvPicPr>
        <p:blipFill>
          <a:blip r:embed="rId1"/>
          <a:stretch/>
        </p:blipFill>
        <p:spPr>
          <a:xfrm>
            <a:off x="2411280" y="2698920"/>
            <a:ext cx="5043600" cy="33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nad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Kanadě, nejzajímavější místa a města země. Prezentace slouží jako podpůrný materiál při výkladu učiva o reáliích anglicky mluvících zemí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nada, geography, population, citi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REAT BEAR LAK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3" name="Zástupný symbol pro obsah 2" descr=""/>
          <p:cNvPicPr/>
          <p:nvPr/>
        </p:nvPicPr>
        <p:blipFill>
          <a:blip r:embed="rId1"/>
          <a:stretch/>
        </p:blipFill>
        <p:spPr>
          <a:xfrm>
            <a:off x="2195640" y="2568600"/>
            <a:ext cx="5297400" cy="35244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UKON TERRI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5" name="Zástupný symbol pro obsah 2" descr=""/>
          <p:cNvPicPr/>
          <p:nvPr/>
        </p:nvPicPr>
        <p:blipFill>
          <a:blip r:embed="rId1"/>
          <a:stretch/>
        </p:blipFill>
        <p:spPr>
          <a:xfrm>
            <a:off x="2298600" y="2637000"/>
            <a:ext cx="5226120" cy="34765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ANADIAN ANIMALS - GRIZZ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7" name="Zástupný symbol pro obsah 2" descr=""/>
          <p:cNvPicPr/>
          <p:nvPr/>
        </p:nvPicPr>
        <p:blipFill>
          <a:blip r:embed="rId1"/>
          <a:stretch/>
        </p:blipFill>
        <p:spPr>
          <a:xfrm>
            <a:off x="2411280" y="2736720"/>
            <a:ext cx="5018400" cy="3284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258920" y="1557360"/>
            <a:ext cx="77007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Kana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Ottaw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Toro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Montre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Quebe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Vancouv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Calg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Edmon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Victoria_(Britská_Kolumbi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Winnipe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CANA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9 984 670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35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TTA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3" descr=""/>
          <p:cNvPicPr/>
          <p:nvPr/>
        </p:nvPicPr>
        <p:blipFill>
          <a:blip r:embed="rId1"/>
          <a:stretch/>
        </p:blipFill>
        <p:spPr>
          <a:xfrm>
            <a:off x="5796000" y="3284640"/>
            <a:ext cx="2755800" cy="1377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VINCES AND TERRITO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ONT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QUEBE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BRITISH COLUMB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LBER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NITO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3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179440" cy="1089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VINCES AND TERRITO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ASKATCHEW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SCOT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BRUNSWI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FOUNDLAND AND LABRA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PRINCE EDWARD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3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179440" cy="1089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VINCES AND TERRITO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ORTHWEST TERRI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YUK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UNAV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3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2179440" cy="1089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CANA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0" name="Zástupný symbol pro obsah 2" descr=""/>
          <p:cNvPicPr/>
          <p:nvPr/>
        </p:nvPicPr>
        <p:blipFill>
          <a:blip r:embed="rId1"/>
          <a:stretch/>
        </p:blipFill>
        <p:spPr>
          <a:xfrm>
            <a:off x="2878200" y="2550960"/>
            <a:ext cx="3638520" cy="3181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TAW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4th biggest town in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in Ont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3" name="Zástupný symbol pro obsah 3" descr=""/>
          <p:cNvPicPr/>
          <p:nvPr/>
        </p:nvPicPr>
        <p:blipFill>
          <a:blip r:embed="rId1"/>
          <a:stretch/>
        </p:blipFill>
        <p:spPr>
          <a:xfrm>
            <a:off x="4815000" y="2852640"/>
            <a:ext cx="3286080" cy="2460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7:19Z</dcterms:modified>
  <cp:revision>31</cp:revision>
  <dc:subject/>
  <dc:title>EUROPEAN UNION</dc:title>
</cp:coreProperties>
</file>