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69B4-AD45-40D5-B7A0-852C66657E6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ECAE-911C-4D7A-B4B0-BF35030D042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A77-9EE1-4674-9045-A192FA8EF15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1EF4-D0F0-444B-BDC5-37ABA92E00C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F04-DCEC-49F0-B8C2-A77BEC45BBC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9E68-CC06-4F9E-8DEA-B11E5E9320B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F43-F96A-4375-B918-64EDE0FB5E5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7DD-A9FA-4E16-ABC2-4433D8696D0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3CA-083E-4F26-A0F8-52898022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591-B19A-4616-BEDA-5538E3FE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A62-5627-459B-B010-A1CF543A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CA6-B24D-46A7-99BE-89ECD8FC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FD19-B787-4F1B-8572-937D16B1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D37-18CA-4189-BD35-B225A0C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32D-AE18-417B-9148-32D71967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F2B-C67E-42E1-9C3B-DA92E55F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561D-1B3A-4520-A9BC-ED1BB5E0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E73-8817-4559-AD8B-279A3724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53E-9827-44C8-AA2C-2629AEEF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EEA-1F2E-41FD-A5AC-B15AE31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31E5-237D-411F-804E-9E17727E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EA9-E23E-4CD2-A53F-99400159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3022-E824-4516-8D77-D7D6CF5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E0D4-B9DE-4607-9A74-9396EB38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E80-5F34-431A-B98A-DDE0AE64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77D6-0781-4DD9-8479-F3BD0A95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C2870-B82B-4F05-9BB4-C82676F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5022-F69B-4678-896F-C28BC38B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020A-A3E2-4AFD-88C2-0A2F2A3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F6EC-270D-46CF-A1F7-100437F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BA2-80BA-47E9-AB6C-8335FA5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BBDD-E2D3-4E5F-BA29-C967358A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10AC-14E2-4230-A1DD-C3C0A380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91499-543B-4228-BB55-8FD98B0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9D9C-A00F-4051-B09C-857EB5D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958F-3A58-4AF8-9E5B-5C46C820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D875B-7627-4CF3-9063-0FD4BCF8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BCA4-ACD9-44AA-8109-9FC51430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118AE-BBD7-41BF-A451-E746C47B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5A08D-D3B6-47E3-A058-D1A074E4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C4484-4725-4200-8035-9885A224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628-6D71-498B-93CD-45A2EDE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6B20-8951-41C6-97D5-EDE169A1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AE1A-04D6-4F0A-872E-CD603018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639F-C473-44B4-BF58-01C2F8A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E9C3-5AE4-45A4-AC42-D3D92604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DF1EE-B997-4805-B581-EA88DB92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C106-06B8-417A-B3D5-91925863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18CE-43C0-4F75-9E36-47DDE3B8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157D-6EAE-4BD5-A527-D8C4B236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D171-560B-4601-910E-1F92EFC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589-F012-404A-BCD1-DEFA767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6F3-DD70-4E22-ADE5-E508CE52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F60-3459-4F06-8620-0841A4E5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A80-7AF2-4B54-9994-DFC4CFE8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A63-57BA-491A-A420-4810966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8D24-3BCC-49C5-9E37-B8147D07496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85C5-5C3E-42A6-AA11-A9135C127E0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442E-21BF-464F-A635-32D5F3E8F84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460F-547B-485D-8B92-ADFAAC07D04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T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5" descr=""/>
          <p:cNvPicPr/>
          <p:nvPr/>
        </p:nvPicPr>
        <p:blipFill>
          <a:blip r:embed="rId1"/>
          <a:stretch/>
        </p:blipFill>
        <p:spPr>
          <a:xfrm>
            <a:off x="4438800" y="3141720"/>
            <a:ext cx="410832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ELA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th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,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5003640" y="2994120"/>
            <a:ext cx="30765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RW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69 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lmerst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ern Territ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3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2997360" cy="2244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YERS RO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luru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 the Outbac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600 mil. years ol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,6 km lo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,4 km w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348 m hig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Zástupný symbol pro obsah 3" descr=""/>
          <p:cNvPicPr/>
          <p:nvPr/>
        </p:nvPicPr>
        <p:blipFill>
          <a:blip r:embed="rId1"/>
          <a:stretch/>
        </p:blipFill>
        <p:spPr>
          <a:xfrm>
            <a:off x="4888080" y="3068640"/>
            <a:ext cx="35067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and an Australian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40 km from the southern co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8,40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art (the capit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4718160" y="2924280"/>
            <a:ext cx="36320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EAT BARRIER REE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oral reef in the wor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,000 km l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 is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h eco-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 types of corals, 4,000 fish spe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ANGARO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22600"/>
            <a:ext cx="5040360" cy="334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PLATYP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4" descr=""/>
          <p:cNvPicPr/>
          <p:nvPr/>
        </p:nvPicPr>
        <p:blipFill>
          <a:blip r:embed="rId1"/>
          <a:stretch/>
        </p:blipFill>
        <p:spPr>
          <a:xfrm>
            <a:off x="2252520" y="2708280"/>
            <a:ext cx="5127840" cy="319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ASMANIAN DEV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2190600" y="2565360"/>
            <a:ext cx="5118120" cy="3405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DIN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971960" cy="3309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Austrálii, nejzajímavější místa a jedinečné druhy fauny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ustralia, outback, geography, unique animal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WOMB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4" descr=""/>
          <p:cNvPicPr/>
          <p:nvPr/>
        </p:nvPicPr>
        <p:blipFill>
          <a:blip r:embed="rId1"/>
          <a:stretch/>
        </p:blipFill>
        <p:spPr>
          <a:xfrm>
            <a:off x="2340000" y="2468520"/>
            <a:ext cx="5040360" cy="377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O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2268360" y="2616120"/>
            <a:ext cx="5008680" cy="3333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7007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stral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ydn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Melbour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sb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dela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rwin_(Austr%C3%A1l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yers_Ro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Velký_bariérový_ú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Tasmán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 747 40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NBER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2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AUSTRAL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5" descr=""/>
          <p:cNvPicPr/>
          <p:nvPr/>
        </p:nvPicPr>
        <p:blipFill>
          <a:blip r:embed="rId1"/>
          <a:stretch/>
        </p:blipFill>
        <p:spPr>
          <a:xfrm>
            <a:off x="2422440" y="2362320"/>
            <a:ext cx="452448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argest city of Austral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South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4708440" y="2852640"/>
            <a:ext cx="3662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YDN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ra H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rbou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ydney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4759200" y="3141720"/>
            <a:ext cx="3629160" cy="2082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LBOUR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state of Vic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 milli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2" descr=""/>
          <p:cNvPicPr/>
          <p:nvPr/>
        </p:nvPicPr>
        <p:blipFill>
          <a:blip r:embed="rId1"/>
          <a:stretch/>
        </p:blipFill>
        <p:spPr>
          <a:xfrm>
            <a:off x="4802040" y="2997360"/>
            <a:ext cx="346248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SBA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lar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Queens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ial, financial and transport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3" descr=""/>
          <p:cNvPicPr/>
          <p:nvPr/>
        </p:nvPicPr>
        <p:blipFill>
          <a:blip r:embed="rId1"/>
          <a:stretch/>
        </p:blipFill>
        <p:spPr>
          <a:xfrm>
            <a:off x="4827600" y="2924280"/>
            <a:ext cx="322416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00Z</dcterms:modified>
  <cp:revision>26</cp:revision>
  <dc:subject/>
  <dc:title>EUROPEAN UNION</dc:title>
</cp:coreProperties>
</file>