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A391-0F1C-43CE-B7AB-1E24C585D41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FDFA-488B-437D-A9EF-A0CDA0D3E6E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44FA-63D7-4911-8B05-EE5DB9CC5AD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57DA-06A3-4772-B658-67695977BE2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0CA9-310E-47F5-917F-C4E90E8D900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6B9A-EAE6-4AE6-B4B0-4859F0186AE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4A6B-B802-479F-BD5B-63759DE3BF3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1D4C-6DCE-4913-82CE-3C6E566E8E2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5F6-89E8-4DD3-B06E-E485C27B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FED-2BDD-4337-8080-495929A2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16B-38EF-41D2-A2B0-45F915FF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13C-6916-48AD-B08B-5A0CDBC5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49E0-5DF7-44AC-BDAB-53116850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1111-F3E7-4421-B832-A52C5F1A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D89C-0B91-4BAB-A0CE-1DCF517B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9F60-800F-4F68-A1CE-8B8067C4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42B9-0FAA-470D-9954-3E963628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CAB8-15D2-4F7A-9CA9-640ACCC6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C9C6-3BEF-4B54-8928-C583841F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CD6-C05E-4600-8F8A-15D8F8C0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3494-69FE-4A7F-B9DE-C454DC57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9BD6-E052-44FB-B528-CF902BE8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C8D5-1D68-4349-A946-449925AB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35D7-5692-4E78-B496-813FE95F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4B21-9904-4214-9CDE-D45674E0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67358-63B9-446D-8618-88742171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4AAB0-FD57-44BC-9DFC-6B2517BE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7F523-0F07-43E8-9176-3CC840CD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B0350-756B-4A60-8ED5-DA67C69C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8EDBD-9077-4E98-AFBF-2236C7FE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F4B-240B-473C-B516-E40356AD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93E6F-75C7-49C8-81F7-CBCF3996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FBBC8-E888-482F-B378-93F1D7D7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C173F-196B-4A66-8706-E5C9E221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2429-1302-4F7F-A20A-5E2A41E5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CF0D2-AE9C-4F85-A446-46AAB742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A56F-16D8-4BA1-8089-94FBD8D5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CFB0B-D02F-4FED-B6E4-2158A09C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A311E-93F6-49CB-8B7A-25BF58FC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C3D35-D0C2-440E-A7EE-DE56FDAC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BF643-40CE-4BEF-AD93-7003740D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D56-3625-4AD3-8C56-96EB10B5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A2548-A61A-4E42-A745-F4C1DAAE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590B1-AB35-47E0-A372-32BCFB8F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E4A4F-89B3-4524-A69D-0D719138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86ECB-2C39-4A33-8280-6B7F7904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4F88C-5F3F-4537-BB2A-D17AA3BC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E91A4-00BD-4531-BDEA-6869A425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ED3CE-A7FA-4152-A001-D6DD82DB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A517D-09A3-4054-978A-CACAD06F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B5AA4-962E-42A5-93A8-38AD953F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0D3ED-7958-4BA8-A567-2618AC3A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ED4-8481-4D1C-890A-7E295707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E7A7D-C309-4542-828F-2D3DB8AA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7384D-ADA5-4B01-B582-40B06A3C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E86C0-CBB1-4A7C-8C0E-0C454D81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D8647-08AE-495E-A7EA-CFC6977C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8B9CB-EEC2-4A28-8C53-667B9255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AB6BD-2A24-4A02-BAFB-B2045677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4AB3E-E222-47C1-A1E4-16B482BB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01ACE-EC30-4931-AAD9-4ACC184E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67070-A3D3-4C9D-AC96-CAE88E89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5A895-C4C6-4E41-928F-F0A12746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BA5-4973-4D29-AB0F-1CCD820B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38632-4D5D-4738-808D-EFA33C33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D6BB8-3504-4E0B-A21E-14AA308E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78ABC-1A36-41CD-9B8B-2574909D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11202-9869-4F31-A51A-0BA1F030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005A4-7A3D-467A-874D-F5E96F73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D2A1C-079B-4949-AC13-430A6374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4C020-4C3B-4E3F-9AEC-100AE570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AAC0F-6D6D-442C-9D1E-97F8B753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C289C-6FDC-496E-99E1-21BF6672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135E7-612D-408C-B383-F201A52A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CA2-D095-40DD-A6E5-98655CD8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56A78-D892-4318-AC40-629B02DF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5FDBD-B076-40DD-A585-002A3553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0F37C-DC43-4286-8728-F0C693EE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48CD3-1D68-46D1-9C08-20CCB1EB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CE362-AF8C-4652-BB18-DF4E7381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2E038-B67E-4822-A9CA-CE9B3F71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89851-B1F5-449E-ADDE-FC8862E0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A828F-D722-40FE-8D6F-9EE33E22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A1C6C-5A4F-4A83-999B-C4A872B0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6964C-0278-4979-A0AA-34095D58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109-3E99-410E-82BF-1D325E33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EB138-265F-4764-A675-812D0B07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31A42-6A41-4B23-A26D-342BA40D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0D8B8-7B77-428D-ABEF-1FF80088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E17E3-2A8F-4642-8F5F-487D23B0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F559D-4500-404D-881A-4C1DB782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58423-FAE0-4787-80FB-77F782AE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DFA7B-CBF1-4A4D-82D4-80DB3FBB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BD80D-3DDE-4D9A-9557-A27A820E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456AA-DDFD-4672-9B7B-75260182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DA3FD-EBCD-4E87-90DD-9BEC2F89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9BB9-F328-4C7D-A695-9A407789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20110-1D9A-4599-AFFC-3B5F113C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6E5B0-FA69-400F-B5C1-EF4DD0A1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497CB-1D13-4CBB-8401-D09E95AB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296C0-F243-40B6-9E95-0FD01A05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2F67E-A446-4482-B31E-ED725A2D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90B97-8209-4277-8EFC-A2E59DD2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2DD0C-A16A-4C2D-9880-092011BE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298C-290F-4740-AF17-A679A51498C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4ACC-8BFA-43C0-8051-680689F6278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370B-0406-400B-925B-CA67245093B3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2B6D-F7F5-4590-8144-5FFB9B60D77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CE41-40AA-4224-8839-068A9276996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0C69-4B87-433C-8550-39F4939AED8D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1F0B-96F8-4D8C-A547-C9BC56B13511}" type="slidenum">
              <a:rPr b="0" lang="cs-C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21CF-473B-4CF2-8FD1-37CB775E9705}" type="slidenum">
              <a:rPr b="0" lang="cs-C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LINCOLN MEMOR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6" name="Zástupný symbol pro obsah 2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LINCOLN MEMOR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8" name="Zástupný symbol pro obsah 2" descr=""/>
          <p:cNvPicPr/>
          <p:nvPr/>
        </p:nvPicPr>
        <p:blipFill>
          <a:blip r:embed="rId1"/>
          <a:stretch/>
        </p:blipFill>
        <p:spPr>
          <a:xfrm>
            <a:off x="1994040" y="2421000"/>
            <a:ext cx="5025960" cy="333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THE CAPITO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0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JEFFERSON MEMOR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2" name="Zástupný symbol pro obsah 3" descr=""/>
          <p:cNvPicPr/>
          <p:nvPr/>
        </p:nvPicPr>
        <p:blipFill>
          <a:blip r:embed="rId1"/>
          <a:stretch/>
        </p:blipFill>
        <p:spPr>
          <a:xfrm>
            <a:off x="2257560" y="2276640"/>
            <a:ext cx="4906800" cy="39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ARLINGTON CEMET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24" name="Zástupný symbol pro obsah 2" descr=""/>
          <p:cNvPicPr/>
          <p:nvPr/>
        </p:nvPicPr>
        <p:blipFill>
          <a:blip r:embed="rId1"/>
          <a:stretch/>
        </p:blipFill>
        <p:spPr>
          <a:xfrm>
            <a:off x="1944720" y="2205000"/>
            <a:ext cx="5291280" cy="38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ashington,_D.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Fotografie z Washington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M.Frolí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258920" y="1700280"/>
          <a:ext cx="7416720" cy="4967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shingt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Washingtonu, nejzajímavější místa a památky. Prezentace slouží jako podpůrný materiál při výkladu učiva o americ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shington, sightseeing, D.C., capit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Arial"/>
              </a:rPr>
              <a:t>WASHINGTON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INF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4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600,000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.C. = District of Colu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 the Potomac ri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04" name="Zástupný symbol pro obsah 2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376360" cy="1251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THE CENTRE OF THE C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6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THE CENTRE OF THE C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08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WHITE HOU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0" name="Zástupný symbol pro obsah 5" descr=""/>
          <p:cNvPicPr/>
          <p:nvPr/>
        </p:nvPicPr>
        <p:blipFill>
          <a:blip r:embed="rId1"/>
          <a:stretch/>
        </p:blipFill>
        <p:spPr>
          <a:xfrm>
            <a:off x="1871640" y="2133720"/>
            <a:ext cx="5437080" cy="401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WHITE HOUSE - TREAS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2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4617b"/>
                </a:solidFill>
                <a:latin typeface="Calibri"/>
              </a:rPr>
              <a:t>WASHINGTON MONU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4" name="Zástupný symbol pro obsah 2" descr=""/>
          <p:cNvPicPr/>
          <p:nvPr/>
        </p:nvPicPr>
        <p:blipFill>
          <a:blip r:embed="rId1"/>
          <a:stretch/>
        </p:blipFill>
        <p:spPr>
          <a:xfrm>
            <a:off x="1278000" y="1935000"/>
            <a:ext cx="6588000" cy="43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6:47Z</dcterms:modified>
  <cp:revision>43</cp:revision>
  <dc:subject/>
  <dc:title>EUROPEAN UNION</dc:title>
</cp:coreProperties>
</file>