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94C-A1C0-41D2-906A-3FD7DA2114D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7A83-BFFA-4487-B297-27F5A23B5BC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83F-47EF-4A00-9893-A316F0FACE0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37A8-C01F-46C4-A64A-B6F80560D4D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D643-B776-46BB-9A4C-1CFAB15F5EF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F927-57AC-4C37-BF65-1E1E18A4161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F9E3-CC22-4F83-B413-E77B92A5C0D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D86B-5624-44B6-905D-1D238B859CF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2F3-94A1-4591-8ABE-E6913FBF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1FE-EB9B-49FD-AAE1-33176E52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FBF-8850-4DD7-9AB7-1CA3F5EE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7CF-F7A7-4611-838A-27C3EE44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2C94-B9F1-4602-8773-2D743695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91F9-2811-43DA-BB95-4EA972C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8A37-D885-4571-9011-354E137A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61B8-F6A6-4B41-8745-4D28FF23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D865-C310-4AFD-B6F1-A5165F57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E099-0B22-4075-A0D9-C1AF06D2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A4B0-30D7-45E0-A5D8-1089B3F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56A-CD31-4B0C-A16E-CAB905C5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5635-3C9A-4FC6-92A3-B601CCC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650C-714C-4967-92BD-3DBCE7D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5C42-D444-4BB9-B566-B3534067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3AC2-D047-4554-9073-C4036B85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02BF-428D-4B09-AF9B-438AE688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40B1-6E47-47EC-92AE-E0DA22E1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6675D-1394-4B99-A37F-35749CE3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DA9F-CAC9-4A21-8D7D-6EAB095F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0918-921E-4430-83F4-C3D54A6C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D989-20DE-4071-BD59-2DDF6808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0E69-C062-48B0-AEC5-8F6E3E1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B0203-A3E3-4841-AF6B-3DA2CE9A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B53D-C6D1-4625-8B70-64C13A1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405D-522E-4A48-9680-78D41209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949B-5E8C-47FD-934A-55E4CB3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905D-240C-4D26-B74D-F1837261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5D5A-4877-40AB-A90A-4A49FAEE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63A98-4511-4A9D-B539-AA3EE8B1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5BB6-FF21-462B-9E76-16EF4D55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4049-55CE-4E9F-8DDC-1FB6133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CFA9-BE8E-4EF8-B4CF-9861CA0E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F94-C125-4BFF-A0C5-C70EC800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16D6-BF2A-4A69-8CED-FB0FD8BD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C3DFD-5E67-41E3-9440-7BB6CF08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A9A5-1A4A-421B-A4FF-45B63D47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6132-7105-44F0-B8E4-B8922CBC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4E64-40A3-4794-8C57-AF99E6B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A39F3-46EB-4DAF-8E46-FBAB174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C4921-1A68-4523-A57D-3AAF7504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2A94-1408-4956-B41A-F962C37E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FB53-C156-4554-87F4-49BD3983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1A3-F066-4C9B-A467-C14699A0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4DD-2DD2-4C3C-AE39-AC283290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565-B13E-4682-ADCC-79F75F9E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B1B-0100-4371-B5F0-30AA89C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076-E908-4CBA-9625-FCF164E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50B-55E1-4792-923A-9835A98F23A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BA7-F452-41BE-B536-AB77A5D8E5A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1844-3D22-4387-96D1-7DB2EF37CE1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88A8-91E6-449C-9F90-E7E4915846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4792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CHI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NES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ISSIPP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ONT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BR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HAMP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JERS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MEX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R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KLAHO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RE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RHODE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CAROL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UTH DAKO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NNESS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ERMO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ISCONS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YOM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EST VIRGI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4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00,000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Potomac Ri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.C. – district of Columb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city in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 mil. inhabitants 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centre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0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S ANGE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8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with aglom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4476600" y="2781360"/>
            <a:ext cx="389592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IC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0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is Tower (formerly Sears Tow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268440" cy="2449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FRANCISC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en Gate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catr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mo Squ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4902120" y="2997360"/>
            <a:ext cx="3478320" cy="244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N DIE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 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in 154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the USA-Mexico border (Tijua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lboa P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116160" cy="2334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The U.S.A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USA, nejzajímavější místa a města země. Prezentace slouží jako podpůrný materiál při výkladu učiva o amer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geography, population, cities, sightsee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S VEG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e of gamb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ight life, high crimin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tr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5121360" y="2637000"/>
            <a:ext cx="304308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ssachuset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5th biggest c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unded in 163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ston Tea Party (1773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4761000" y="2809800"/>
            <a:ext cx="3770280" cy="2828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HILADELPH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90-1800 the capital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ce H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berty b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TTS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nnsylva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ed to be known as the „steel capital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William Pit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363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AM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ami Be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iday res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137040"/>
            <a:ext cx="3409920" cy="2163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6 mil.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yndon B.Johnson Spa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3" descr=""/>
          <p:cNvPicPr/>
          <p:nvPr/>
        </p:nvPicPr>
        <p:blipFill>
          <a:blip r:embed="rId1"/>
          <a:stretch/>
        </p:blipFill>
        <p:spPr>
          <a:xfrm>
            <a:off x="4692600" y="2924280"/>
            <a:ext cx="346392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ALL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x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il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4791240" y="2852640"/>
            <a:ext cx="3311280" cy="2448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ORL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1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raddle of jaz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2005 hit by hurric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3" descr=""/>
          <p:cNvPicPr/>
          <p:nvPr/>
        </p:nvPicPr>
        <p:blipFill>
          <a:blip r:embed="rId1"/>
          <a:stretch/>
        </p:blipFill>
        <p:spPr>
          <a:xfrm>
            <a:off x="4719600" y="278136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N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ile high city (approx. 1600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Rocky Mount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Queen city of pl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063600" cy="229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LT LAKE 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ta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Europeans there lived Shoshone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mon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2 Olympic G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3263760"/>
            <a:ext cx="3384720" cy="1895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THE UNITED STATES OF AMER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LOU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ssou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763 by the 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d after the French king Louis 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teway 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3382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CHOR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ask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tled 5,000 years ago by Eskim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964 enormous earthqu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2" descr=""/>
          <p:cNvPicPr/>
          <p:nvPr/>
        </p:nvPicPr>
        <p:blipFill>
          <a:blip r:embed="rId1"/>
          <a:stretch/>
        </p:blipFill>
        <p:spPr>
          <a:xfrm>
            <a:off x="4816440" y="3213000"/>
            <a:ext cx="377676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NOLU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878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ahu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in 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4910040" y="3068640"/>
            <a:ext cx="3462480" cy="2305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CKY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3" name="Zástupný symbol pro obsah 2" descr=""/>
          <p:cNvPicPr/>
          <p:nvPr/>
        </p:nvPicPr>
        <p:blipFill>
          <a:blip r:embed="rId1"/>
          <a:stretch/>
        </p:blipFill>
        <p:spPr>
          <a:xfrm>
            <a:off x="2557440" y="2637000"/>
            <a:ext cx="4462560" cy="3330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ELLOWST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5" name="Zástupný symbol pro obsah 2" descr=""/>
          <p:cNvPicPr/>
          <p:nvPr/>
        </p:nvPicPr>
        <p:blipFill>
          <a:blip r:embed="rId1"/>
          <a:stretch/>
        </p:blipFill>
        <p:spPr>
          <a:xfrm>
            <a:off x="2257560" y="2565360"/>
            <a:ext cx="4906800" cy="3354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VERGL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1835280" y="2533680"/>
            <a:ext cx="42894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98" name="Obrázek 4" descr=""/>
          <p:cNvPicPr/>
          <p:nvPr/>
        </p:nvPicPr>
        <p:blipFill>
          <a:blip r:embed="rId2"/>
          <a:stretch/>
        </p:blipFill>
        <p:spPr>
          <a:xfrm>
            <a:off x="5796000" y="4581360"/>
            <a:ext cx="2657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SEMI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Zástupný symbol pro obsah 3" descr=""/>
          <p:cNvPicPr/>
          <p:nvPr/>
        </p:nvPicPr>
        <p:blipFill>
          <a:blip r:embed="rId1"/>
          <a:stretch/>
        </p:blipFill>
        <p:spPr>
          <a:xfrm>
            <a:off x="2398680" y="2708280"/>
            <a:ext cx="4452840" cy="2952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ND CANY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2" name="Zástupný symbol pro obsah 3" descr=""/>
          <p:cNvPicPr/>
          <p:nvPr/>
        </p:nvPicPr>
        <p:blipFill>
          <a:blip r:embed="rId1"/>
          <a:stretch/>
        </p:blipFill>
        <p:spPr>
          <a:xfrm>
            <a:off x="1743120" y="2781360"/>
            <a:ext cx="58705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RUSHM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4" name="Zástupný symbol pro obsah 2" descr=""/>
          <p:cNvPicPr/>
          <p:nvPr/>
        </p:nvPicPr>
        <p:blipFill>
          <a:blip r:embed="rId1"/>
          <a:stretch/>
        </p:blipFill>
        <p:spPr>
          <a:xfrm>
            <a:off x="2505240" y="2708280"/>
            <a:ext cx="43495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258920" y="1557360"/>
            <a:ext cx="77007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shington,_D.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_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s_Ange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hicag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Francis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an_Diego_(Kaliforni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all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env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74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9 631 214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30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35908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1" name="Zástupný symbol pro obsah 3" descr=""/>
          <p:cNvPicPr/>
          <p:nvPr/>
        </p:nvPicPr>
        <p:blipFill>
          <a:blip r:embed="rId1"/>
          <a:stretch/>
        </p:blipFill>
        <p:spPr>
          <a:xfrm>
            <a:off x="2360520" y="2781360"/>
            <a:ext cx="4659480" cy="28940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THE 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3" name="Zástupný symbol pro obsah 2" descr=""/>
          <p:cNvPicPr/>
          <p:nvPr/>
        </p:nvPicPr>
        <p:blipFill>
          <a:blip r:embed="rId1"/>
          <a:stretch/>
        </p:blipFill>
        <p:spPr>
          <a:xfrm>
            <a:off x="2556000" y="2697120"/>
            <a:ext cx="4319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B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LAS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IZO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R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ONNECTIC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ELA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LORI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WA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DAH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LLINO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D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50 states of the USA</a:t>
            </a:r>
            <a:br>
              <a:rPr sz="4400"/>
            </a:b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IND THEM ON THE MAP!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O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AN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KENTUC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UISIA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Y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SSACHUSET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438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6:05Z</dcterms:modified>
  <cp:revision>42</cp:revision>
  <dc:subject/>
  <dc:title>EUROPEAN UNION</dc:title>
</cp:coreProperties>
</file>