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B5C6-A915-40B5-A2A5-411EDDF5BF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BF32-4C1F-434F-A55E-6DDC9619FE5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EBC-BC69-45E8-944E-0F1B86FC954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C4BF-49B5-41BC-A7EE-93811BCCA66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D466-46FF-40D3-A438-615BF4D6397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570C-6FF7-4C88-87D6-4E0DDC4014E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0D67-836A-43A0-8A02-E36AABDA9D9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F9C3-AD2E-4E08-A3F5-811FD53F714E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7EC-771A-45A6-A6CA-7A456799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38C-2210-4803-958E-D90C1649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2B6-D315-4236-9D48-75116CF0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7C6-5C77-420B-B064-2FAEF3C6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D31E-588F-40DF-B8DF-3A7E88D3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4289-488B-4C27-85C2-ED09FC88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1C1B-7567-4B81-929B-84C2DD85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3F9C-56CC-4724-BF37-69FE5BE3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0FF3-FEA3-495C-B0FE-A0B8ADD2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2B05-48F8-4CAE-9C6B-0E30C59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4A67-BFFC-4285-A143-55FB093F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5341-CFEC-4C10-8CEE-0A272923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506F-CCBC-42D8-BC8D-135CF49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DBD1-109A-4BB5-8DD7-F914B837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B65E-0E10-4AD9-AD7B-B9BB6297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5EC2-3219-4A13-AB31-81E7DD86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DB1B-2016-4B3B-BEFC-12728EDA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75CDD-C24C-47E2-9517-4BF664D3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C216F-5564-4196-831C-FCD6365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B0A84-D027-4B23-9801-4FE5517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80F7-4A16-4806-A4E2-65871CD3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CA87-C178-4B87-8788-A944F7E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475-4298-4FF1-8DAA-A241B8D8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6B81-75A5-430A-B78A-7B850D31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52C9A-1618-4FF8-8910-17E7168C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C6DAE-FDB7-4A65-8503-A7F61F4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E25D5-FE24-4DCF-AE40-8B002420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31E0-6EF3-494A-BD94-4B409C45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1D6E-DF5C-4211-BE39-12F6705F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A966F-8EEB-4F76-BB7F-B8902906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CCFD5-05A6-4F01-91CA-30EE38EA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228F-9787-4871-8322-7DBA3B78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7E81-2E1C-47E2-A676-B72FBF4D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BA6-8118-4705-954B-2EFB48A8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5894-BA98-4B88-9F93-F6E655A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BDA4-18CF-4350-919C-8F43CE38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F264-0598-4166-89B0-CA7FCC4A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627A3-329A-4F33-920C-E085BE3F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D33B-7336-4652-8431-AD9DE5E5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405A-C9A0-4EDA-AE9F-C57E548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52F4-D549-4D13-BA4E-704F49AE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D7C3-C610-449A-AEF3-AFA75E3A0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856D3-B2CE-473F-9F31-8BAEA83B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8B8-AA13-4CB1-A62B-73B6AFA0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F40-2DA9-4F2D-9740-CB912BD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01A-A238-4AB2-8468-F186A6DF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5B7-F135-4771-AAB8-F98E80ED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E03-B99E-451C-BC3F-CCC42311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743F-8E91-4479-9103-9195C580C2F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5ECD-F9B2-4D55-B27B-C288206AC77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E049-B9B0-4AD1-A165-CA50EE3D54D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DDF7-F155-416E-9C88-3031E1FC2BD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8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lot of old neolit gra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written reports from the Roma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410 AD German trib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ward I  (13th centur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536 united with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852640"/>
            <a:ext cx="308268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9" name="TextovéPole 3"/>
          <p:cNvSpPr/>
          <p:nvPr/>
        </p:nvSpPr>
        <p:spPr>
          <a:xfrm>
            <a:off x="5796000" y="5183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yn Celli Dd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NOWDO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tional park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17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nowdon (1085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6,000 people (63% speak Welsh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13704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Cardi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wans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ew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es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angor_(W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nowdon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Walesu, nejdůležitější místa a přírodní zajímavosti. Prezentace slouží jako podpůrný materiál při výkladu učiva o bri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Wales, area, population, capit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Arial"/>
              </a:rPr>
              <a:t>WALES</a:t>
            </a:r>
            <a:br>
              <a:rPr sz="4400"/>
            </a:br>
            <a:br>
              <a:rPr sz="1000"/>
            </a:b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(Tywysogaeth Cymru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0 779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ARD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rcRect l="1316" t="1281" r="1316" b="1281"/>
          <a:stretch/>
        </p:blipFill>
        <p:spPr>
          <a:xfrm>
            <a:off x="5651640" y="3141720"/>
            <a:ext cx="2881080" cy="172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ARDI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2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tel Caerdyd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John´s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3124080" cy="233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ANSE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2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Abert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weyn´s 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Gower peninsu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ystermout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997360"/>
            <a:ext cx="2787480" cy="2087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3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biggest town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Casnewydd-ar-Wys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,736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ortant 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sland in the nor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lsh name: Ynys Mô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gefni, Holyh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lanfairpwllgwyngyllgogerychwyrndrobwllllantysiliogogogoch </a:t>
            </a: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835360" cy="21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G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Gwynedd county in the North of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,998 inhabita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1/3 speaks Wel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hedral        ci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gor Univers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787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sp>
        <p:nvSpPr>
          <p:cNvPr id="225" name="Šipka doprava 4"/>
          <p:cNvSpPr/>
          <p:nvPr/>
        </p:nvSpPr>
        <p:spPr>
          <a:xfrm>
            <a:off x="2984400" y="501336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41Z</dcterms:modified>
  <cp:revision>29</cp:revision>
  <dc:subject/>
  <dc:title>EUROPEAN UNION</dc:title>
</cp:coreProperties>
</file>