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2A7C9-E3C7-409B-86F2-9F282F031ECB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C5B36-03CE-4212-887B-50FF57DDF666}" type="slidenum">
              <a:rPr b="0" lang="cs-CZ" sz="1200" spc="-1" strike="noStrike">
                <a:solidFill>
                  <a:srgbClr val="003366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C052D-98FE-4A94-B2E9-93D6A7F00ECB}" type="slidenum">
              <a:rPr b="0" lang="cs-CZ" sz="1200" spc="-1" strike="noStrike">
                <a:solidFill>
                  <a:srgbClr val="003366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799F3-C147-49C9-B9A6-5863EB710BE5}" type="slidenum">
              <a:rPr b="0" lang="cs-CZ" sz="1200" spc="-1" strike="noStrike">
                <a:solidFill>
                  <a:srgbClr val="003366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23E41-79C2-451F-B971-F87D62C340CD}" type="slidenum">
              <a:rPr b="0" lang="cs-CZ" sz="1200" spc="-1" strike="noStrike">
                <a:solidFill>
                  <a:srgbClr val="003366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93606-E3FF-4B46-8D7B-EEC93157687D}" type="slidenum">
              <a:rPr b="0" lang="cs-CZ" sz="1200" spc="-1" strike="noStrike">
                <a:solidFill>
                  <a:srgbClr val="003366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B9A6B-4361-4ADD-AA17-5AC68E7663EF}" type="slidenum">
              <a:rPr b="0" lang="cs-CZ" sz="1200" spc="-1" strike="noStrike">
                <a:solidFill>
                  <a:srgbClr val="003366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99C52-022F-4A26-AB44-78EE357ED211}" type="slidenum">
              <a:rPr b="0" lang="cs-CZ" sz="1200" spc="-1" strike="noStrike">
                <a:solidFill>
                  <a:srgbClr val="003366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99A85-9D49-4FF3-8A12-BD8481927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D1560-CF54-4FC6-B8C6-74A3DE1F5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F349A-79E0-427A-A7CE-4FCE25FA1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377FD-76EE-49E3-8F21-55B95F3E4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5A24C-D590-4624-80E6-90D5121F1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98796-A7FE-4EF1-A269-2C1AF3060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83707-077D-4117-A4BC-B802C7195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C9D2B-D21E-4F2A-A7D2-58B22F575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52638-CE78-42DF-9F55-BC410AE63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0B3C6-A865-4F35-915C-197FB50C8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D07EA-E2E6-48B6-8019-7390CA878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16B4C-C5AA-46CA-B39A-935B1F654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D263B-DCAD-4C9A-8F3B-864D35E09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A28B3-D951-47B7-A99D-0E7F8BBC8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7B878-B7AF-45F0-98B6-2FE72798B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12B46-8043-4E51-B097-36DBE1E7D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7C4CD-141A-4ED0-8B0E-61DF464D5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BA43C4-8A15-477A-AC7D-98FFA3EB6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D9209C-6278-4A18-B20F-213CDE6D4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5588B1-0F64-40BE-B3B7-30294F7C0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CD50A7-A57F-43E4-B131-B5F5C33B7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7139A6-FC7A-49B6-955C-643E76FC7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C3799-8002-4685-BBA1-E77DBB63B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135151-4B29-4D61-A144-1BBE11289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F1F626-1210-4BF3-A3CE-A1E212F2A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2FB766-79BA-40E6-B087-EE0C1058A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491296-DA40-4D80-85D2-6FE61205A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14F26A-5EF6-49C7-B3A7-1228CAAB4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D8F148-C021-47B4-83F9-9A112C1CE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C9E260-A024-4262-910F-612E24EB4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FEB004-22C4-4852-AA49-97C2F085A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DBBBE0-DD25-45CC-AB6F-3340B5185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79ADE2-6B8E-40BF-ADD8-7A80FDEB4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F2F76-8DCC-41B7-96ED-60704BDC3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D08E27-6EE3-4D10-89C9-D585F54AF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6FF2BB-48EA-438F-8F83-E6A76A638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567863-76F9-4561-B0A3-620D7ACD1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1A974F-F286-4D68-8821-FCBB33C6C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AD87AB-0640-4D35-A78E-39F99D105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D1F5E7-4681-40B2-AE51-30D052AA0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F4E79E-4143-45C5-A79A-24CE9A228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5DC888-9A2D-4BCE-A597-1276F37D7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DCFCA2-E6BA-4E3E-A3F9-F5BB6EF4F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EF705-C4AA-4F7F-B922-A5E13C960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03C76-44F1-4E43-8FB0-8848C468A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45E47-B5B7-4380-A25C-B35F65816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C87BE-F368-41BA-8EC9-F6BC60766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D5C81-FB44-4EFD-9FB1-DB65434B4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7394F-71D7-4BCF-B81E-4A674BD74EEA}" type="slidenum"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50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51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2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69385-18CB-4F86-902E-97ACA7D171C6}" type="slidenum"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96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7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98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99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0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792ED-C62A-46E9-9302-F70D6C0942ED}" type="slidenum"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143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144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145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6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7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48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149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0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045F8-D6DA-4F80-8441-2DF2E9C7CECA}" type="slidenum"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2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Registrační číslo projektu: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Z.1.07/1.5.00/34.0208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332000" y="4172040"/>
          <a:ext cx="7415280" cy="36504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639720"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22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1" name=""/>
          <p:cNvGraphicFramePr/>
          <p:nvPr/>
        </p:nvGraphicFramePr>
        <p:xfrm>
          <a:off x="1332000" y="4751280"/>
          <a:ext cx="7416720" cy="109692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Mgr. Martin Frolík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.E/ 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čtvrtý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 ročník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01 / 2014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02" name="Picture 3" descr=""/>
          <p:cNvPicPr/>
          <p:nvPr/>
        </p:nvPicPr>
        <p:blipFill>
          <a:blip r:embed="rId1"/>
          <a:stretch/>
        </p:blipFill>
        <p:spPr>
          <a:xfrm>
            <a:off x="2354400" y="115920"/>
            <a:ext cx="5297400" cy="1295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HIGHLAND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Lakes (lochs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Valleys (glens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Ben Nevis (1344 m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Stunning natur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Rarely settle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27" name="Zástupný symbol pro obsah 3" descr=""/>
          <p:cNvPicPr/>
          <p:nvPr/>
        </p:nvPicPr>
        <p:blipFill>
          <a:blip r:embed="rId1"/>
          <a:stretch/>
        </p:blipFill>
        <p:spPr>
          <a:xfrm>
            <a:off x="4794120" y="2997360"/>
            <a:ext cx="3584880" cy="237636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LOCH LOMON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4021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Loch Laomain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North-west of Glasgow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71 km</a:t>
            </a:r>
            <a:r>
              <a:rPr b="0" lang="cs-CZ" sz="2800" spc="-1" strike="noStrike" baseline="30000">
                <a:solidFill>
                  <a:srgbClr val="003366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192 m deep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Ben Lomond mountai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he most beautiful lak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30" name="Zástupný symbol pro obsah 2" descr=""/>
          <p:cNvPicPr/>
          <p:nvPr/>
        </p:nvPicPr>
        <p:blipFill>
          <a:blip r:embed="rId1"/>
          <a:stretch/>
        </p:blipFill>
        <p:spPr>
          <a:xfrm>
            <a:off x="5022720" y="3213000"/>
            <a:ext cx="3467160" cy="216072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LOCH NES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4021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Loch Ni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Highland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56 km</a:t>
            </a:r>
            <a:r>
              <a:rPr b="0" lang="cs-CZ" sz="2800" spc="-1" strike="noStrike" baseline="30000">
                <a:solidFill>
                  <a:srgbClr val="003366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230 m deep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A mysterious lak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Loch Ness Monst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33" name="Zástupný symbol pro obsah 3" descr=""/>
          <p:cNvPicPr/>
          <p:nvPr/>
        </p:nvPicPr>
        <p:blipFill>
          <a:blip r:embed="rId1"/>
          <a:stretch/>
        </p:blipFill>
        <p:spPr>
          <a:xfrm>
            <a:off x="5122800" y="3008160"/>
            <a:ext cx="3152880" cy="236088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  <p:pic>
        <p:nvPicPr>
          <p:cNvPr id="234" name="Obrázek 4" descr=""/>
          <p:cNvPicPr/>
          <p:nvPr/>
        </p:nvPicPr>
        <p:blipFill>
          <a:blip r:embed="rId2"/>
          <a:stretch/>
        </p:blipFill>
        <p:spPr>
          <a:xfrm>
            <a:off x="2597040" y="3008160"/>
            <a:ext cx="2175120" cy="144792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2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 u="sng">
                <a:solidFill>
                  <a:srgbClr val="330033"/>
                </a:solidFill>
                <a:uFillTx/>
                <a:latin typeface="Times New Roman"/>
                <a:ea typeface="Arial"/>
              </a:rPr>
              <a:t>Použitá literatura: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6" name="Rectangle 3"/>
          <p:cNvSpPr/>
          <p:nvPr/>
        </p:nvSpPr>
        <p:spPr>
          <a:xfrm>
            <a:off x="1258920" y="1557360"/>
            <a:ext cx="770076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  <a:ea typeface="Arial"/>
              </a:rPr>
              <a:t>http://cs.wikipedia.org/wiki/Skotsk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  <a:ea typeface="Arial"/>
              </a:rPr>
              <a:t>http://cs.wikipedia.org/wiki/Aberdeen_(Skotsko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  <a:ea typeface="Arial"/>
              </a:rPr>
              <a:t>http://cs.wikipedia.org/wiki/Dunde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  <a:ea typeface="Arial"/>
              </a:rPr>
              <a:t>http://cs.wikipedia.org/wiki/Loch_Lomond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  <a:ea typeface="Arial"/>
              </a:rPr>
              <a:t>http://cs.wikipedia.org/wiki/Loch_Nes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3366"/>
                </a:solidFill>
                <a:uFillTx/>
                <a:latin typeface="Arial"/>
                <a:ea typeface="Arial"/>
              </a:rPr>
              <a:t>Obrázky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  <a:ea typeface="Arial"/>
              </a:rPr>
              <a:t>http://search.creativecommons.org/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3" name=""/>
          <p:cNvGraphicFramePr/>
          <p:nvPr/>
        </p:nvGraphicFramePr>
        <p:xfrm>
          <a:off x="1258920" y="1700280"/>
          <a:ext cx="7416720" cy="4525920"/>
        </p:xfrm>
        <a:graphic>
          <a:graphicData uri="http://schemas.openxmlformats.org/drawingml/2006/table">
            <a:tbl>
              <a:tblPr/>
              <a:tblGrid>
                <a:gridCol w="3184560"/>
                <a:gridCol w="4232160"/>
              </a:tblGrid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Cizí jazyky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Reálie anglicky mluvících zemí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Konverzace z anglického jazyka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Název u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ebního materiálu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cotland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rezentace ukazuje základní fakta o Skotsku, nejdůležitější místa a památky. Prezentace slouží jako podpůrný materiál při výkladu učiva o skotských reáliích.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1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cotland, area, population, capital, sightseeing, city, town, lak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04" name="Picture 3" descr=""/>
          <p:cNvPicPr/>
          <p:nvPr/>
        </p:nvPicPr>
        <p:blipFill>
          <a:blip r:embed="rId1"/>
          <a:stretch/>
        </p:blipFill>
        <p:spPr>
          <a:xfrm>
            <a:off x="2354400" y="115920"/>
            <a:ext cx="5297400" cy="1295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3366"/>
                </a:solidFill>
                <a:latin typeface="Arial"/>
              </a:rPr>
              <a:t>SCOTLAN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533520" indent="-5335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6666"/>
                </a:solidFill>
                <a:latin typeface="Arial"/>
              </a:rPr>
              <a:t>BASIC FAC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6666"/>
                </a:solidFill>
                <a:latin typeface="Arial"/>
              </a:rPr>
              <a:t>SIGHTSEE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BASIC FACT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52466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AREA:  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78 772 km²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POPULATION: 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5 mil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HE CAPITAL: 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EDINBURGH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09" name="Zástupný symbol pro obsah 4" descr=""/>
          <p:cNvPicPr/>
          <p:nvPr/>
        </p:nvPicPr>
        <p:blipFill>
          <a:blip r:embed="rId1"/>
          <a:stretch/>
        </p:blipFill>
        <p:spPr>
          <a:xfrm>
            <a:off x="6084720" y="3284640"/>
            <a:ext cx="2094120" cy="125712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EDINBURGH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he capital of Scotlan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Edinburgh Castl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Holyrood Pala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Scott Monume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12" name="Zástupný symbol pro obsah 2" descr=""/>
          <p:cNvPicPr/>
          <p:nvPr/>
        </p:nvPicPr>
        <p:blipFill>
          <a:blip r:embed="rId1"/>
          <a:stretch/>
        </p:blipFill>
        <p:spPr>
          <a:xfrm>
            <a:off x="4721400" y="3068640"/>
            <a:ext cx="3450960" cy="207180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GLASGOW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he biggest Scottish cit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Firth of Clyde and Firth of Forth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Lighthouse Tow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15" name="Zástupný symbol pro obsah 2" descr=""/>
          <p:cNvPicPr/>
          <p:nvPr/>
        </p:nvPicPr>
        <p:blipFill>
          <a:blip r:embed="rId1"/>
          <a:stretch/>
        </p:blipFill>
        <p:spPr>
          <a:xfrm>
            <a:off x="5219640" y="2924280"/>
            <a:ext cx="3141720" cy="235260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ABERDEE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hird biggest Scottish tow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220,420 inhabitan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In 1319 Old and New Aberdeen were united by R.Bru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18" name="Zástupný symbol pro obsah 2" descr=""/>
          <p:cNvPicPr/>
          <p:nvPr/>
        </p:nvPicPr>
        <p:blipFill>
          <a:blip r:embed="rId1"/>
          <a:stretch/>
        </p:blipFill>
        <p:spPr>
          <a:xfrm>
            <a:off x="5103720" y="3068640"/>
            <a:ext cx="3140280" cy="235260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DUNDE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Dùn Dèagh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3500 years old (Alec-tum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Scottish Dance Theatr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Wishart Gat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21" name="Zástupný symbol pro obsah 3" descr=""/>
          <p:cNvPicPr/>
          <p:nvPr/>
        </p:nvPicPr>
        <p:blipFill>
          <a:blip r:embed="rId1"/>
          <a:stretch/>
        </p:blipFill>
        <p:spPr>
          <a:xfrm>
            <a:off x="5006880" y="2997360"/>
            <a:ext cx="3021120" cy="226188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INVERNES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he capital of Highlan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Old Gaelig Church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Near Loch Nes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24" name="Zástupný symbol pro obsah 3" descr=""/>
          <p:cNvPicPr/>
          <p:nvPr/>
        </p:nvPicPr>
        <p:blipFill>
          <a:blip r:embed="rId1"/>
          <a:stretch/>
        </p:blipFill>
        <p:spPr>
          <a:xfrm>
            <a:off x="4932360" y="2917800"/>
            <a:ext cx="2936880" cy="223992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1T20:36:03Z</dcterms:created>
  <dc:creator>Mgr.Martin Frolík</dc:creator>
  <dc:description/>
  <dc:language>en-US</dc:language>
  <cp:lastModifiedBy>Igor</cp:lastModifiedBy>
  <dcterms:modified xsi:type="dcterms:W3CDTF">2014-09-13T14:14:29Z</dcterms:modified>
  <cp:revision>24</cp:revision>
  <dc:subject/>
  <dc:title>EUROPEAN UNION</dc:title>
</cp:coreProperties>
</file>