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AA9B-BAEB-4954-BF17-922462E3733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14BA-4A33-4C24-8145-8C94AF2671FC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E2DE-13C8-477C-8D71-926583C84B13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5275-6B38-45AB-AE34-D7FD47BF77BA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A573-CB5D-458F-B59F-8C6D7BCBEE31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8C49-E9D1-4173-ADEA-3072AF3F7B94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0018-8E86-4740-AAA2-AF8BA93686EA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D84C-09B9-4EC8-AD4A-5BF1A61A0F5D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2E79-6D68-43C4-AD96-B75AA4939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0297-A77B-46AC-A4CE-4D191E7D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98A5-D215-4077-9C6F-8B31B4F5F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3980-84C0-424B-B82C-C1E0A7A41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6BC1-0D0C-405C-9174-3939C2110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0A81-E27D-414A-BC50-4A4965CE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1A52-54C5-4FF8-B676-9383A761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EDA4-E93A-45B8-9108-B7DBAB72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EE27F-8B96-4EB4-9362-B3370B44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5CC2-85CD-4044-BC01-F4FB7748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4EA3-02C4-4FC5-914B-32B963C0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6BE5-0666-43CE-919C-2388FC5E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3095-8E72-4C2B-95AD-E4AD574D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FECE-5830-4F00-81E6-7DA4FBFB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49FAF-5D9E-4636-A55C-C4F0166C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9F7B6-4FCF-43C7-801A-51AB0BF2F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0217-DE27-4AB9-AF9E-A7AFEDF8A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BC024-D99B-463A-B524-2AB9D1151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EBBBB-45B0-45D6-98E5-D6FBB465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0DD91-2AF2-46DE-AFA1-B10C2F8E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309DA-1CB7-45D5-859F-84A4696E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A4E71-0253-4631-A831-47F31708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15B4-FEF0-45C9-9046-5E23ED16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98BCB-8FF2-42FD-BBB3-31803866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719B6-827B-45C0-A3E9-39BA0582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F0063-D97F-46F0-9493-16571ECE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C2351-6500-4E88-AF72-FCF140D0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57FD7-4C72-431C-A16E-FDD0015A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E7B5A-A1D0-4D62-8A5E-7CCCFEE91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AE7B4-D12A-420F-8888-40DCEF860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6CF4B-C4C0-40D9-94D7-3B8374C64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35D18-DFD9-4794-838A-2D2F8B46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59CB3-18A8-4250-AB0C-47F2E60A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721F-4943-4FAA-8A77-078B362D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181A9-AF21-4686-AB26-FD729066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3334E-3855-47D6-82E5-F1A137F0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90E3B-FB54-44DA-A37B-71E807C8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155C0-7E5D-4926-B0E1-4224EA9D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C681F-8640-42B8-8801-32F7599E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C9172-E358-4C74-8114-0C3FA01D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B8EF6-5172-4BEB-A0EF-70019C88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70ADC-0964-4069-9AE3-6050E92A0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52959-D818-4AB4-B891-4872971E4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D266-F4EF-4A8C-8BDD-09F0CDBE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FEB8-9611-4D9E-883C-91570910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E9E6-CB5D-4DEB-AEAC-6F07A46E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B35A-7D09-4324-BE69-4BAAED1C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B20D-48BD-4BA3-9D41-006B5407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6AB0-55BD-4F16-A74D-115FAE0713F1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68B6-EC9E-4779-A67A-6F9E158BD65C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A72C-29A5-43BF-AC13-196EF09AC289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5D92-D03A-43A6-BEEB-04A01B1FD1F4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2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čtvrtý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1 / 201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235116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YOR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rkshi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rk minster (gothic cathedra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lifford´s Tow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Sham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0" name="Zástupný symbol pro obsah 2" descr=""/>
          <p:cNvPicPr/>
          <p:nvPr/>
        </p:nvPicPr>
        <p:blipFill>
          <a:blip r:embed="rId1"/>
          <a:stretch/>
        </p:blipFill>
        <p:spPr>
          <a:xfrm>
            <a:off x="4932360" y="2997360"/>
            <a:ext cx="3556080" cy="26636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NEWCASTLE UPON TY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021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orth-east Eng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ounded by the Roman emperor Hadri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adrian wa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3" name="Zástupný symbol pro obsah 3" descr=""/>
          <p:cNvPicPr/>
          <p:nvPr/>
        </p:nvPicPr>
        <p:blipFill>
          <a:blip r:embed="rId1"/>
          <a:stretch/>
        </p:blipFill>
        <p:spPr>
          <a:xfrm>
            <a:off x="4911840" y="2924280"/>
            <a:ext cx="3555720" cy="26654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  <p:pic>
        <p:nvPicPr>
          <p:cNvPr id="234" name="Picture 2" descr="http://upload.wikimedia.org/wikipedia/commons/thumb/b/b7/Hadrian%27s_wall_at_Greenhead_Lough.jpg/220px-Hadrian%27s_wall_at_Greenhead_Lough.jpg"/>
          <p:cNvPicPr/>
          <p:nvPr/>
        </p:nvPicPr>
        <p:blipFill>
          <a:blip r:embed="rId2"/>
          <a:stretch/>
        </p:blipFill>
        <p:spPr>
          <a:xfrm>
            <a:off x="2050920" y="4508640"/>
            <a:ext cx="2095560" cy="15714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RIGHT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outhern coast of Eng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righton Pi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avill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t.Nicholas´ Chur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7" name="Zástupný symbol pro obsah 2" descr=""/>
          <p:cNvPicPr/>
          <p:nvPr/>
        </p:nvPicPr>
        <p:blipFill>
          <a:blip r:embed="rId1"/>
          <a:stretch/>
        </p:blipFill>
        <p:spPr>
          <a:xfrm>
            <a:off x="5364000" y="4292640"/>
            <a:ext cx="2552760" cy="17906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  <p:pic>
        <p:nvPicPr>
          <p:cNvPr id="238" name="Obrázek 4" descr=""/>
          <p:cNvPicPr/>
          <p:nvPr/>
        </p:nvPicPr>
        <p:blipFill>
          <a:blip r:embed="rId2"/>
          <a:stretch/>
        </p:blipFill>
        <p:spPr>
          <a:xfrm>
            <a:off x="5364000" y="2276640"/>
            <a:ext cx="2538720" cy="19015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TRATFORD UPON AV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arwickshi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ear Birmingha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hakespeare´s birthpl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oly Trinity Chur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oyal Shakespeare theat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1" name="Zástupný symbol pro obsah 3" descr=""/>
          <p:cNvPicPr/>
          <p:nvPr/>
        </p:nvPicPr>
        <p:blipFill>
          <a:blip r:embed="rId1"/>
          <a:stretch/>
        </p:blipFill>
        <p:spPr>
          <a:xfrm>
            <a:off x="4911840" y="2924280"/>
            <a:ext cx="3555720" cy="26654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  <a:ea typeface="Arial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Angli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Yor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Bright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eálie anglicky mluvících zemí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onverzace z anglického jazyk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nglan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základní fakta o Anglii, nejdůležitější města a památky. Prezentace slouží jako podpůrný materiál při výkladu učiva o anglických reáliích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ngland, area, population, capital, sightseeing, c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2354400" y="684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ENGL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SIGHTSEE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24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REA: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130 395 km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PULATION: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53 mi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: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LOND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9" name="Zástupný symbol pro obsah 4" descr=""/>
          <p:cNvPicPr/>
          <p:nvPr/>
        </p:nvPicPr>
        <p:blipFill>
          <a:blip r:embed="rId1"/>
          <a:stretch/>
        </p:blipFill>
        <p:spPr>
          <a:xfrm>
            <a:off x="5940360" y="3500280"/>
            <a:ext cx="2095560" cy="12574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LOND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 of Eng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uckingham Pal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estminster Abbe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wer Brid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iver Tham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2" name="Zástupný symbol pro obsah 4" descr=""/>
          <p:cNvPicPr/>
          <p:nvPr/>
        </p:nvPicPr>
        <p:blipFill>
          <a:blip r:embed="rId1"/>
          <a:stretch/>
        </p:blipFill>
        <p:spPr>
          <a:xfrm>
            <a:off x="4761000" y="2968560"/>
            <a:ext cx="3998880" cy="26640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IRMINGHA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est Midlan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ver 1 million inhabit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ull R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elfridg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5" name="Zástupný symbol pro obsah 6" descr=""/>
          <p:cNvPicPr/>
          <p:nvPr/>
        </p:nvPicPr>
        <p:blipFill>
          <a:blip r:embed="rId1"/>
          <a:stretch/>
        </p:blipFill>
        <p:spPr>
          <a:xfrm>
            <a:off x="4761000" y="2968560"/>
            <a:ext cx="3998880" cy="26640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LIVERPOO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ity of Beat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lbert Doc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iverpool cathedr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8" name="Zástupný symbol pro obsah 2" descr=""/>
          <p:cNvPicPr/>
          <p:nvPr/>
        </p:nvPicPr>
        <p:blipFill>
          <a:blip r:embed="rId1"/>
          <a:stretch/>
        </p:blipFill>
        <p:spPr>
          <a:xfrm>
            <a:off x="4859280" y="3716280"/>
            <a:ext cx="3043440" cy="22813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  <p:pic>
        <p:nvPicPr>
          <p:cNvPr id="219" name="Obrázek 3" descr=""/>
          <p:cNvPicPr/>
          <p:nvPr/>
        </p:nvPicPr>
        <p:blipFill>
          <a:blip r:embed="rId2"/>
          <a:stretch/>
        </p:blipFill>
        <p:spPr>
          <a:xfrm>
            <a:off x="6156360" y="2386080"/>
            <a:ext cx="1584360" cy="1576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http://upload.wikimedia.org/wikipedia/commons/thumb/9/91/Liverpool_Anglican_Cathedral_North_elevation.jpg/220px-Liverpool_Anglican_Cathedral_North_elevation.jpg"/>
          <p:cNvPicPr/>
          <p:nvPr/>
        </p:nvPicPr>
        <p:blipFill>
          <a:blip r:embed="rId3"/>
          <a:stretch/>
        </p:blipFill>
        <p:spPr>
          <a:xfrm>
            <a:off x="1619280" y="4149720"/>
            <a:ext cx="2949480" cy="20368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OV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hite cliff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34 km from Fr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Kent coun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3" name="Zástupný symbol pro obsah 2" descr=""/>
          <p:cNvPicPr/>
          <p:nvPr/>
        </p:nvPicPr>
        <p:blipFill>
          <a:blip r:embed="rId1"/>
          <a:stretch/>
        </p:blipFill>
        <p:spPr>
          <a:xfrm>
            <a:off x="4911840" y="2924280"/>
            <a:ext cx="3555720" cy="26654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ANCHES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orth-west Eng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500,000 inhabit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ootba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6" name="Zástupný symbol pro obsah 3" descr=""/>
          <p:cNvPicPr/>
          <p:nvPr/>
        </p:nvPicPr>
        <p:blipFill>
          <a:blip r:embed="rId1"/>
          <a:stretch/>
        </p:blipFill>
        <p:spPr>
          <a:xfrm>
            <a:off x="4932360" y="2997360"/>
            <a:ext cx="3649680" cy="26636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  <p:pic>
        <p:nvPicPr>
          <p:cNvPr id="227" name="Picture 6" descr=" "/>
          <p:cNvPicPr/>
          <p:nvPr/>
        </p:nvPicPr>
        <p:blipFill>
          <a:blip r:embed="rId2"/>
          <a:stretch/>
        </p:blipFill>
        <p:spPr>
          <a:xfrm>
            <a:off x="2484360" y="4724280"/>
            <a:ext cx="119088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36:03Z</dcterms:created>
  <dc:creator>Mgr.Martin Frolík</dc:creator>
  <dc:description/>
  <dc:language>en-US</dc:language>
  <cp:lastModifiedBy>Igor</cp:lastModifiedBy>
  <dcterms:modified xsi:type="dcterms:W3CDTF">2014-07-16T14:35:28Z</dcterms:modified>
  <cp:revision>20</cp:revision>
  <dc:subject/>
  <dc:title>EUROPEAN UNION</dc:title>
</cp:coreProperties>
</file>