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81897-A26E-44EC-9B36-FE9654B398D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16625-59B9-4D86-96D9-D562FDD1661D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33D85-700E-4C5A-95E2-E135453F42FE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982F1-D5B9-433C-AE5B-FDBC1BF61603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D8083-0DD4-4B31-8092-AFF08155F643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4ED33-5BB1-448C-96BC-ED23EDA53216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7940E-3438-43D7-ACAE-4D5D6A0C91CC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9DA3D-9EB4-4C6B-A388-831796ED4DBC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8E647-8332-4155-B2F5-BA07C985E3A6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A210-57E1-429D-AD6D-EF5B4247B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F2F4-12BA-4171-960D-1C51EA1D3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DC3D10-C91C-4E5C-ABE7-755831930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521739-ECA5-436D-BA5B-342FD5BC0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B36C20-B1E6-47E7-AFAE-CF1385C70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D3FD98-3E25-4E1C-AAC2-2F56A495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02928A-0932-4A91-8274-39E43E90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A6215D-8EBC-44D5-B23F-7917485F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98EF2D-2597-4B91-813D-59AC8AE3D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E29796-1E67-4673-ACCA-1D9110566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F6BCD4-E2CB-4C5F-B6CA-AF5DCABAF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0FCB46-4A35-4B7F-A11D-492E4331F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2C50-5871-4204-B290-A780C99BC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A2F2EC-1D75-4514-A6B6-9D5D4A257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3E8C8F-F255-4BFA-A433-01CBEB329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8F2B56-5EA3-4F11-8346-26A795044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D16929-4BBF-4E36-9DDF-82132D502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BE7DA6-41DD-4F36-9102-F9DF03B95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6AC6C2-3713-4C4A-9552-3C5D7195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4CB060-2C77-467A-A97C-C6F90A13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6DBF32-BEF8-4066-95C4-7125DEAC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AF9677-E420-4192-ABFC-7FE67A360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00952D-A793-4FDE-9099-CB63E6D91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0A6F-D62D-4BC1-BE01-ABF4B8FDA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D87765-280A-4799-8D03-AADD6A86B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B91DD1-8323-48EE-A99B-CB655966A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A0EA15-2AB5-4EA3-9B05-5F3C93E3C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AF3789-8594-4C9D-8DC7-D16D39290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135AAF-6925-4095-AD0F-FDB9694A3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49DF14-6A82-49F5-B699-C10CE1814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25B717-1875-43E3-A7DB-D065DDEAE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A9AC63-ED3C-4414-A3B9-A4F12429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6A980F-58AD-44CF-8841-64F8B9BA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DB4D6C-1EA2-4C05-83D1-EE9E918F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E9FD2-04DA-488A-BD27-9397E5A2E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0F7349-CCD2-4096-98DC-EFD4BED5A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6DA554-6E0D-47B9-8540-36901B0A1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99F93B-6EF2-48FC-80D5-2ED555D80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C9421C-31C0-49CD-8369-953FFACA0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91616A-D764-4EB9-8A1F-58BB3764A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55ECCA-1852-4055-B8DA-847490BC1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67B650-AD67-4E5B-8BC6-2A2E6B9C5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36AB03-BC32-482B-B581-5108DF76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3BE745-10BD-4B3E-BD35-1716DA22A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A7663B-D8FF-4E09-9FE7-534BA45B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F4254-A99C-49F4-B0C3-57AEFB93F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409F5C-FB7C-4E1E-A999-8E867645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E42254-8BFF-46FB-814F-A0169366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ACD5E7-9F70-48C2-9E60-372680514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44BCFD-B124-441C-9B21-CEA6E282C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FEF875-3CD1-455E-924D-AEB56F31F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895FE9-E284-4897-8EF1-DAB212F84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5ABACD-0FD8-43CF-A24F-E523436E8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719279-A44D-4690-975E-C52BE3D3F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A4B1CC-4F63-4DD8-8467-57DDE9D68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B4A402-593B-4711-9B89-94A3A1EFC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75215-3947-466E-97C7-76B7C7820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56B0C5-9CC2-4895-9140-10D1C0C60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8B103A-6CD9-4C58-B045-F738CF4F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BF0156-BCF0-42A5-97CE-76C6612A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85D1D5-4150-41BE-BCEB-059AD105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0A69D9-1FA4-4713-8CD6-C06A44979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461F0C-A7E7-4F17-9AAB-F54059113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4B2AD7-3227-4C38-BFF9-E0509EF96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8172E2-8A83-42B5-B815-E3DDFCFE9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E6E530-DE27-465F-9497-2176BEA45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BB5067-08A6-46F4-968A-9CF063C7E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0CBDA-CE16-46BE-976D-E4E72C4F1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D5C805-2C3D-4EA8-9C82-8DEA7A612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711B15-9A8C-4817-8068-164BA8857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90639A-58C3-4437-8845-AE8BFF191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3330E2-EAD6-4FE5-81E5-9B7354C8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0A4E5A-A1A3-4B53-823C-FDA23CB1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339882-D7C3-4236-92FE-E6776B01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3D338D-527C-4E6B-8FBF-6A0C8DD0B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DDF3E5-DC38-4100-B16B-49232B08C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3EA868-FB86-4EEB-AA2B-22A657410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17CE38-A10D-4E16-80DF-D6546FDF1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584CB-AE57-4695-A08F-E6E5CA934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F34A5B-8A3B-4DC3-A133-6AA32CE3E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5F0232-92F5-4CF9-BEAB-44D0E79C0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A0FB53-F1FA-4AB3-A2EB-2D3262BC6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AA9EFB-0F58-45AF-9C98-64BA416F3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272680-8F0D-4584-A920-8423A5BF9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CF050E-7D07-4926-A191-538837F0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41707B-CB36-4156-A3DA-773E664B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FF4635-0808-4F3E-B49D-C98E5694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79598D-238C-4AB5-A756-85C789A14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CEADD2-C2B7-4C76-9674-2E65AC609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BFE86-B5F1-496E-B1AE-74C3E756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A3DFE8-85AB-4FAE-88E6-A0605A9A5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04D6C3-FADA-492E-AE81-CE3F4050B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44F6AF-F473-49A0-AEDE-B262F157C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3B0981-F895-4CDE-A2E3-F38941A63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A1EC00-C58B-4F2A-B4B9-C7623B9EF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0EE204-6DAA-4C85-9364-39FE3DB0A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45F07F-8039-4D9B-A414-2AB4B70B2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7B5295-884F-4E31-BE2C-14641048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450607-F9B3-4DDA-8B7C-AD147FBE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0D3F4B-7753-4774-875F-2C6FF7A4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D846B-4411-4A98-A9FE-6F5DA6652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DDCF9D-1585-4770-B8C2-AE0820600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47586C-85E1-46E2-8CA1-62A524A53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4D8ACD-9CA0-4341-BC06-A1B90F976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21A0-9765-4859-9528-0480B3758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35FA2-5509-49B1-B6C8-041DBFEA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3D79E-21FD-4AF4-B252-AA362AB6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C52DF-32C9-4AF2-BDA2-170C5BF24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5F0FA-9CCD-4DAF-B075-5BB80BE29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47212-88B9-4FD9-AE06-844168E9B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E65CA-3954-4A9F-A7F2-ACBDF2653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05F9A-0157-4A31-81A2-F907E5EE9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5BA58-AE85-4922-A303-BCAEF717D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5E3C6-270E-4C7B-9D80-FEA2EDD72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CB48F-4793-4CB3-9FFE-8FFD52682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1380-E0B5-4D1E-B5A0-C8F94ACE8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C6D40-36C3-42F9-B6A0-49468B9F9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06FF7-B686-4F23-A3A4-511586AA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37495-499C-4178-BFF3-59F5D3D4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1A0D2-131C-44D4-A13F-4E249234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28610-B19F-4D49-9EF6-09BE0E26C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597CC-9F1C-4AFD-B28B-5ED9CFACB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BB81C-0C18-41CA-810E-CA6C7F9B6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5B9BB-AF27-46E8-AE13-54626664C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07D2D-9936-45C3-BEF5-A2CDEF1E2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3F55B-FECA-425E-8B4D-D901BD987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F326-8AC6-439E-9D3D-FEE682A0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2A7D9-CAEF-4530-9855-30285DB80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CD14D-D1DB-4DAF-909D-7FFDD852F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521F7-DBCB-42D3-89E9-B186C5619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D56BE-0BA4-4017-AFAB-5F3BD751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950F5-DC2D-49A3-AF02-622DC601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C28B2-D0A3-4DDC-ACC0-8546B747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EB953-3E33-4692-A557-33F6357FF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D6AD0-4F96-4F37-B7D1-E8A118AB4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38411-A340-43C2-8EF9-80B19B14B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CDE8A-C7F5-456F-96D3-F1A3CD087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AD49-0746-4FAC-A70D-7F77D3B04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0F467-E81D-47FD-9C05-DB26D4F9A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DF441-E0A7-4B63-B9BA-9EA63DAC2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7A8AF-756E-4575-ABB6-8DFF2921E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C37A4-008D-44BD-AA9E-C7480DDBA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7284F-39E8-43E6-B4D5-45D5594F9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DC179-814A-4B6F-8231-3CD2C774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0045C-B54D-458F-B762-D2DFF8B2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084D4-891E-468C-B40E-8593901F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F4453-484A-449E-A4B0-2AB6C4ADD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63B1C-CEE9-47F6-B436-D322A3E0B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5884-2984-43C5-BC54-7E3444E96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A5C7E-2A27-456D-ACA8-9929BEF97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ACBC5-C08A-4B6E-B13B-510F0B090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219BB8-0B05-430C-AC56-90938C144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D3980-65A6-4DAA-B59B-ED4955B3B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59186-DD9D-458A-8B94-2E72D6EC2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34F09-B455-4351-B176-EB8A68BD8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0A671B-D35A-4AA8-89F1-39D43B2C0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09E22-4A78-42AA-B7FF-22679F50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382371-AD84-481B-92F0-1EE1DEEE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690D4-1AD7-4538-94B3-E60DA80F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7A8A-63E1-4B52-B94F-CE2B335E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32440-24A7-4085-B4CA-213AC7CAA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046C2-C464-4220-9AC5-5F5B96CBB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FBAE9-EC1A-42D8-82CA-45E6CB00B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B1E22-E498-4348-82DB-E964EED4A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D2539D-81BB-4116-81D7-56BFCC520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03BF9-FA7C-41D5-BA03-AA90C13FC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FF2C99-8912-485B-B4D8-BA08C5092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05EB8-8F5B-4081-B583-FEAA0FCD6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419A90-96AE-4A01-AE3E-298FFA58C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6ADC2-43C5-40A2-87A6-9C940A55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2ECD-F1F7-43D7-B06B-AD0E3F27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FB8005-A689-456F-9CD1-4FE1292B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42C6FD-F1CC-4E03-A78D-6AD34BC5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A7FA5-8085-40E5-A7F4-BCBA19EA9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E968E-2BBF-471D-9CAB-6784202E9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E9E978-D408-4277-BAF8-63812370F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DCCE0A-2646-4572-909B-628E35EC8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7CB3F-8903-4A70-9FEA-B893DEEBE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50CFB8-E652-4AA5-98C8-635DF0C31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9504A7-242F-4EC8-B7F0-921E9DFAA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EDFC25-2125-4219-B93D-A73056754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6136-B0D3-452A-A121-5EEF40B7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6ECBDC-37F4-45DA-B301-D6021FFC9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8E1540-9EE4-421A-BD12-3E2A554F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6F70C5-9D2F-4B1B-95F9-252418B6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C2CE53-BBA9-4A16-9D61-30B5FC33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A60C7A-DE28-49C2-B4A4-3B39F535F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39DBFE-AF1D-4359-89FC-A800F6CAD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1AF5E6-38B3-4AEF-B721-41B5663EB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F9F125-ACEE-4103-8F14-114CBC57C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9C467D-DEF1-4F55-A2D9-90AD0F89A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FC8AC9-85E9-44E9-84A1-C2FA4D054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E434D-D42B-4489-BCEB-DE4251F92D07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431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335DF-C474-4E4F-8472-034220BB289B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5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77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8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80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481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78ED4-4174-4933-A436-65F451813C09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F9BA0-4566-4256-8C6B-D1907F6A780B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566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916CC-E945-4C36-9A7E-4A34B54B2DBD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11508-005E-4E77-9838-21F5EBB68F08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65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5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F6077-33C3-44EB-AE01-694CC8A7281B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4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698CC-92DE-47B8-BA46-3508FBB18C1C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DCC4-C2B2-4F04-A368-BCC24E4C20DA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208FE-0DAD-4C0E-8DC1-11C3C8E75868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0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FDF92-C09D-487A-9502-DDE3211D9FE2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9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9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9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9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ADFB1-2B38-4AEF-BA6E-6256E1EC00C9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243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1E210-2E82-40EF-81AB-1C22E42527B7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87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89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90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2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93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9E49B-DCC4-4BBC-B646-1ABAF89217D1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337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92442-74E0-4C43-980A-B63EDF12EC3B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38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72528-CB3E-44BB-BBE3-36FB2A313089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0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3.A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/ třetí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1 / 201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1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ugges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10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Under theses conditions we are forced to place the goods at your disposal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e decided to refer the matter to the court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losing phra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/>
          </p:nvPr>
        </p:nvSpPr>
        <p:spPr>
          <a:xfrm>
            <a:off x="539640" y="2361960"/>
            <a:ext cx="83534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e are sure you will give this matter your prompt attention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e would appreciate your explanation by return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losing phra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/>
          </p:nvPr>
        </p:nvSpPr>
        <p:spPr>
          <a:xfrm>
            <a:off x="539640" y="2361960"/>
            <a:ext cx="83534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e are sure you will give this matter your prompt attention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e would appreciate your explanation by return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losing phra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/>
          </p:nvPr>
        </p:nvSpPr>
        <p:spPr>
          <a:xfrm>
            <a:off x="684000" y="2361960"/>
            <a:ext cx="82803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If we are satisfied with the shipment, we can promise you further orders in the near future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e trust you will execute this order within the stipulated time according to our instructions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losing phra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/>
          </p:nvPr>
        </p:nvSpPr>
        <p:spPr>
          <a:xfrm>
            <a:off x="684000" y="2361960"/>
            <a:ext cx="82803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e hope that further orders will be dispatched strictly in accordance with our wishes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e hope that the delayed shipment has reached you by now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Replies to complai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/>
          </p:nvPr>
        </p:nvSpPr>
        <p:spPr>
          <a:xfrm>
            <a:off x="684360" y="2361960"/>
            <a:ext cx="82087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your customer sent you a letter of complaint, your answer should include the following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expression of regret that the customer is not satisfied with your goods or serv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short explanation of the cicumstances which caused the trou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suggestion of a fair settlement of the complai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Replies to complai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/>
          </p:nvPr>
        </p:nvSpPr>
        <p:spPr>
          <a:xfrm>
            <a:off x="684360" y="2361960"/>
            <a:ext cx="82087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when the claim is justified the letter is closed by an apology and an assurance that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cautions have been taken to eliminate similar errors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83" name="Obrázek 1" descr=""/>
          <p:cNvPicPr/>
          <p:nvPr/>
        </p:nvPicPr>
        <p:blipFill>
          <a:blip r:embed="rId1"/>
          <a:stretch/>
        </p:blipFill>
        <p:spPr>
          <a:xfrm>
            <a:off x="5867280" y="4005360"/>
            <a:ext cx="1876680" cy="24382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5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Bočánková, M., Hedvábná, I., Kalina, M. 2004. Anglická obchodní korespondence. Ekopress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yčková, J., Neumannová, O. 1998. English for bankers. RADIX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enderson, D., Streitwieser, V. 2006. Business English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Jones, L., Alexander, R. 2003. New International Business English. Cambridge University P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ackenzie, I. 1995. Financial English. Language Teaching Pub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ěšťan, J. 2002. Anglický obchodní dopis se vzorovými dopisy. Nakladatelství JM Pís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7" name="Rectangle 3"/>
          <p:cNvSpPr/>
          <p:nvPr/>
        </p:nvSpPr>
        <p:spPr>
          <a:xfrm>
            <a:off x="1258920" y="1557360"/>
            <a:ext cx="77007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adice, F. 1992. English for banking. Macmillan 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kuch, E. 2005. Fit for Business English - Fráz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illey, R. 2005. Fit for Business English – Korespondenc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eger A. 2008. Inside the European Union. Leda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Abbs, B., Freebairn, I., Barker, Ch., 2003. New Snapshot Pre-Intermediate, Pearson Education Limi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ttp://search.creativecommons.org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2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dopis - reklam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, co obsahuje obchodní dopis s reklamací a představuje základní slovní zásobu pro psaní obchodních dopisů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omplaint, reasons, suggestions, regret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3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BUSINESS ENGLIS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643280" y="3357360"/>
            <a:ext cx="4013280" cy="122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COMPLAI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56" name="Obrázek 1" descr=""/>
          <p:cNvPicPr/>
          <p:nvPr/>
        </p:nvPicPr>
        <p:blipFill>
          <a:blip r:embed="rId1"/>
          <a:stretch/>
        </p:blipFill>
        <p:spPr>
          <a:xfrm>
            <a:off x="611280" y="3573360"/>
            <a:ext cx="224784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hat is a complaint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10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 complaint is an expression of dissatisfaction, especially by a customer or consumer</a:t>
            </a: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If you are not satisfied with the goods you were delivered, you usually write a letter of complaint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arts of a letter of complai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10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A letter of complaint should include the following parts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opening phras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reasons for complain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your suggestion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closing phras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Opening phra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/>
          </p:nvPr>
        </p:nvSpPr>
        <p:spPr>
          <a:xfrm>
            <a:off x="755640" y="2361960"/>
            <a:ext cx="81374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We thank you for your consignment but are sorry to say that is has not given us much satisfaction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We regret to inform you that case No.40 of your last consignment arrived in a badly damaged condition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Reasons for complai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e are put to great inconvenience by this delay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e regret to say that the goods ordered on November 12 have not been delivered yet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e quality of the delivered goods is far from being satisfactory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Reasons for complai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/>
          </p:nvPr>
        </p:nvSpPr>
        <p:spPr>
          <a:xfrm>
            <a:off x="684000" y="2361960"/>
            <a:ext cx="80643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e have to complain of the poor way in which the consignment has been packe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On opening the cases we have found part of the goods badly damage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It is quite clear that the damage was caused by unsuitable packing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uggestion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In view of these facts we claim from your indemnity to the amount of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e can accept the goods only on condition that an adequate reduction in price is grante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e expect to make up for the damage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8:42:48Z</dcterms:created>
  <dc:creator>Mgr.Martin Frolík</dc:creator>
  <dc:description/>
  <dc:language>en-US</dc:language>
  <cp:lastModifiedBy>Igor</cp:lastModifiedBy>
  <dcterms:modified xsi:type="dcterms:W3CDTF">2014-09-13T14:12:40Z</dcterms:modified>
  <cp:revision>33</cp:revision>
  <dc:subject/>
  <dc:title>BUSINESS ENGLISH</dc:title>
</cp:coreProperties>
</file>